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1.gif" ContentType="image/gif"/>
  <Override PartName="/ppt/media/image10.gif" ContentType="image/gif"/>
  <Override PartName="/ppt/media/image9.gif" ContentType="image/gif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26.gif" ContentType="image/gif"/>
  <Override PartName="/ppt/media/image23.jpeg" ContentType="image/jpeg"/>
  <Override PartName="/ppt/media/image21.gif" ContentType="image/gif"/>
  <Override PartName="/ppt/media/image19.jpeg" ContentType="image/jpeg"/>
  <Override PartName="/ppt/media/image18.gif" ContentType="image/gif"/>
  <Override PartName="/ppt/media/image15.gif" ContentType="image/gif"/>
  <Override PartName="/ppt/media/image5.png" ContentType="image/png"/>
  <Override PartName="/ppt/media/image25.gif" ContentType="image/gif"/>
  <Override PartName="/ppt/media/image17.png" ContentType="image/png"/>
  <Override PartName="/ppt/media/image14.gif" ContentType="image/gif"/>
  <Override PartName="/ppt/media/image22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24.gif" ContentType="image/gif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CEE5-7ED8-41F2-9208-AB2CDD77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82C1-E65A-409F-BE09-FA6C5927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2B6-594C-417B-BAD4-82EBED96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E42C-2E10-4BCD-9E48-C40A40D4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F3D0-2F27-4D12-9812-6894372D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4E2-F9BE-4574-B18C-3D8E9E6D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26B-3DF5-4C72-AF90-5293AA7D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4F3A-6F87-46A7-BE9B-106C3F03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A4D4-CFD8-4B25-9C76-289E15E2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F82-948B-45C2-BE7F-8419A307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44C2-2046-4BE1-8141-FE082096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27E7-5870-4BCC-8B96-418D0C29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7.xml"/><Relationship Id="rId14" Type="http://schemas.openxmlformats.org/officeDocument/2006/relationships/slideLayout" Target="../slideLayouts/slideLayout38.xml"/><Relationship Id="rId15" Type="http://schemas.openxmlformats.org/officeDocument/2006/relationships/slideLayout" Target="../slideLayouts/slideLayout39.xml"/><Relationship Id="rId16" Type="http://schemas.openxmlformats.org/officeDocument/2006/relationships/slideLayout" Target="../slideLayouts/slideLayout40.xml"/><Relationship Id="rId17" Type="http://schemas.openxmlformats.org/officeDocument/2006/relationships/slideLayout" Target="../slideLayouts/slideLayout41.xml"/><Relationship Id="rId18" Type="http://schemas.openxmlformats.org/officeDocument/2006/relationships/slideLayout" Target="../slideLayouts/slideLayout42.xml"/><Relationship Id="rId19" Type="http://schemas.openxmlformats.org/officeDocument/2006/relationships/slideLayout" Target="../slideLayouts/slideLayout43.xml"/><Relationship Id="rId20" Type="http://schemas.openxmlformats.org/officeDocument/2006/relationships/slideLayout" Target="../slideLayouts/slideLayout44.xml"/><Relationship Id="rId21" Type="http://schemas.openxmlformats.org/officeDocument/2006/relationships/slideLayout" Target="../slideLayouts/slideLayout45.xml"/><Relationship Id="rId22" Type="http://schemas.openxmlformats.org/officeDocument/2006/relationships/slideLayout" Target="../slideLayouts/slideLayout46.xml"/><Relationship Id="rId23" Type="http://schemas.openxmlformats.org/officeDocument/2006/relationships/slideLayout" Target="../slideLayouts/slideLayout47.xml"/><Relationship Id="rId2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FF5B-9E95-47DC-8801-A789951E58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Овал 8"/>
          <p:cNvGrpSpPr/>
          <p:nvPr/>
        </p:nvGrpSpPr>
        <p:grpSpPr>
          <a:xfrm>
            <a:off x="7778880" y="5486400"/>
            <a:ext cx="560160" cy="560520"/>
            <a:chOff x="7778880" y="5486400"/>
            <a:chExt cx="560160" cy="560520"/>
          </a:xfrm>
        </p:grpSpPr>
        <p:pic>
          <p:nvPicPr>
            <p:cNvPr id="7" name="Овал 8" descr="">
              <a:hlinkClick r:id="" action="ppaction://hlinkshowjump?jump=nextslide"/>
            </p:cNvPr>
            <p:cNvPicPr/>
            <p:nvPr/>
          </p:nvPicPr>
          <p:blipFill>
            <a:blip r:embed="rId10"/>
            <a:stretch/>
          </p:blipFill>
          <p:spPr>
            <a:xfrm>
              <a:off x="7778880" y="5486400"/>
              <a:ext cx="5601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10" name="Овал 7" descr="">
              <a:hlinkClick r:id="" action="ppaction://hlinkshowjump?jump=firstslide"/>
            </p:cNvPr>
            <p:cNvPicPr/>
            <p:nvPr/>
          </p:nvPicPr>
          <p:blipFill>
            <a:blip r:embed="rId11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Овал 19"/>
          <p:cNvGrpSpPr/>
          <p:nvPr/>
        </p:nvGrpSpPr>
        <p:grpSpPr>
          <a:xfrm>
            <a:off x="1023840" y="5559480"/>
            <a:ext cx="549360" cy="560160"/>
            <a:chOff x="1023840" y="5559480"/>
            <a:chExt cx="549360" cy="560160"/>
          </a:xfrm>
        </p:grpSpPr>
        <p:pic>
          <p:nvPicPr>
            <p:cNvPr id="13" name="Овал 19" descr="">
              <a:hlinkClick r:id="" action="ppaction://hlinkshowjump?jump=lastslide"/>
            </p:cNvPr>
            <p:cNvPicPr/>
            <p:nvPr/>
          </p:nvPicPr>
          <p:blipFill>
            <a:blip r:embed="rId12"/>
            <a:stretch/>
          </p:blipFill>
          <p:spPr>
            <a:xfrm>
              <a:off x="1023840" y="5559480"/>
              <a:ext cx="5493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Овал 8"/>
          <p:cNvGrpSpPr/>
          <p:nvPr/>
        </p:nvGrpSpPr>
        <p:grpSpPr>
          <a:xfrm>
            <a:off x="7778880" y="5486400"/>
            <a:ext cx="560160" cy="560520"/>
            <a:chOff x="7778880" y="5486400"/>
            <a:chExt cx="560160" cy="560520"/>
          </a:xfrm>
        </p:grpSpPr>
        <p:pic>
          <p:nvPicPr>
            <p:cNvPr id="53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78880" y="5486400"/>
              <a:ext cx="5601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56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Овал 19"/>
          <p:cNvGrpSpPr/>
          <p:nvPr/>
        </p:nvGrpSpPr>
        <p:grpSpPr>
          <a:xfrm>
            <a:off x="1023840" y="5559480"/>
            <a:ext cx="549360" cy="560160"/>
            <a:chOff x="1023840" y="5559480"/>
            <a:chExt cx="549360" cy="560160"/>
          </a:xfrm>
        </p:grpSpPr>
        <p:pic>
          <p:nvPicPr>
            <p:cNvPr id="59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493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3276720" y="1052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ff"/>
                </a:solidFill>
                <a:latin typeface="Arbat-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bat-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1" name="Овал 8"/>
          <p:cNvGrpSpPr/>
          <p:nvPr/>
        </p:nvGrpSpPr>
        <p:grpSpPr>
          <a:xfrm>
            <a:off x="7778880" y="5486400"/>
            <a:ext cx="560160" cy="560520"/>
            <a:chOff x="7778880" y="5486400"/>
            <a:chExt cx="560160" cy="560520"/>
          </a:xfrm>
        </p:grpSpPr>
        <p:pic>
          <p:nvPicPr>
            <p:cNvPr id="102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78880" y="5486400"/>
              <a:ext cx="5601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105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Овал 19"/>
          <p:cNvGrpSpPr/>
          <p:nvPr/>
        </p:nvGrpSpPr>
        <p:grpSpPr>
          <a:xfrm>
            <a:off x="1023840" y="5559480"/>
            <a:ext cx="549360" cy="560160"/>
            <a:chOff x="1023840" y="5559480"/>
            <a:chExt cx="549360" cy="560160"/>
          </a:xfrm>
        </p:grpSpPr>
        <p:pic>
          <p:nvPicPr>
            <p:cNvPr id="108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493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Овал 8"/>
          <p:cNvGrpSpPr/>
          <p:nvPr/>
        </p:nvGrpSpPr>
        <p:grpSpPr>
          <a:xfrm>
            <a:off x="7778880" y="5486400"/>
            <a:ext cx="560160" cy="560520"/>
            <a:chOff x="7778880" y="5486400"/>
            <a:chExt cx="560160" cy="560520"/>
          </a:xfrm>
        </p:grpSpPr>
        <p:pic>
          <p:nvPicPr>
            <p:cNvPr id="150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78880" y="5486400"/>
              <a:ext cx="5601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153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9"/>
          <p:cNvGrpSpPr/>
          <p:nvPr/>
        </p:nvGrpSpPr>
        <p:grpSpPr>
          <a:xfrm>
            <a:off x="1023840" y="5559480"/>
            <a:ext cx="549360" cy="560160"/>
            <a:chOff x="1023840" y="5559480"/>
            <a:chExt cx="549360" cy="560160"/>
          </a:xfrm>
        </p:grpSpPr>
        <p:pic>
          <p:nvPicPr>
            <p:cNvPr id="156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493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3"/>
    <p:sldLayoutId id="2147483689" r:id="rId14"/>
    <p:sldLayoutId id="2147483690" r:id="rId15"/>
    <p:sldLayoutId id="2147483691" r:id="rId16"/>
    <p:sldLayoutId id="2147483692" r:id="rId17"/>
    <p:sldLayoutId id="2147483693" r:id="rId18"/>
    <p:sldLayoutId id="2147483694" r:id="rId19"/>
    <p:sldLayoutId id="2147483695" r:id="rId20"/>
    <p:sldLayoutId id="2147483696" r:id="rId21"/>
    <p:sldLayoutId id="2147483697" r:id="rId22"/>
    <p:sldLayoutId id="2147483698" r:id="rId23"/>
    <p:sldLayoutId id="2147483699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5"/>
          <p:cNvSpPr/>
          <p:nvPr/>
        </p:nvSpPr>
        <p:spPr>
          <a:xfrm>
            <a:off x="1143000" y="1643040"/>
            <a:ext cx="707220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Comic Sans MS"/>
                <a:ea typeface="Courier New"/>
              </a:rPr>
              <a:t>Прави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omic Sans MS"/>
                <a:ea typeface="Courier New"/>
              </a:rPr>
              <a:t>техники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omic Sans MS"/>
                <a:ea typeface="Courier New"/>
              </a:rPr>
              <a:t>в компьютерном класс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omic Sans MS"/>
                <a:ea typeface="Courier New"/>
              </a:rPr>
              <a:t>и организация рабочего м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C:\Documents and Settings\admin\Мои документы\Мои рисунки\Для SMART\Ан-ии\raznoe004.gif"/>
          <p:cNvPicPr/>
          <p:nvPr/>
        </p:nvPicPr>
        <p:blipFill>
          <a:blip r:embed="rId1"/>
          <a:stretch/>
        </p:blipFill>
        <p:spPr>
          <a:xfrm rot="20596800">
            <a:off x="1928880" y="1588680"/>
            <a:ext cx="121428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1071720" y="857160"/>
            <a:ext cx="70005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Компьютеры работают от электрической сети, напряжение которой опасно для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Будьте осторожн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Не трогайте провода, которые подведены к компьютер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5"/>
          <p:cNvPicPr/>
          <p:nvPr/>
        </p:nvPicPr>
        <p:blipFill>
          <a:blip r:embed="rId1"/>
          <a:stretch/>
        </p:blipFill>
        <p:spPr>
          <a:xfrm>
            <a:off x="3571920" y="4071960"/>
            <a:ext cx="18288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785880" y="857160"/>
            <a:ext cx="557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Аккуратно нужно относиться к устройствам, подключаем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к компьютеру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27" descr="4"/>
          <p:cNvPicPr/>
          <p:nvPr/>
        </p:nvPicPr>
        <p:blipFill>
          <a:blip r:embed="rId1"/>
          <a:stretch/>
        </p:blipFill>
        <p:spPr>
          <a:xfrm>
            <a:off x="6429240" y="3714840"/>
            <a:ext cx="1625760" cy="16668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1500120" y="4143240"/>
            <a:ext cx="492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Не трогайте экран монитора даже чистыми пальцами – на нем всё равно остаются сл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C:\Documents and Settings\admin\Мои документы\Мои рисунки\Для SMART\216.gif"/>
          <p:cNvPicPr/>
          <p:nvPr/>
        </p:nvPicPr>
        <p:blipFill>
          <a:blip r:embed="rId2"/>
          <a:stretch/>
        </p:blipFill>
        <p:spPr>
          <a:xfrm>
            <a:off x="6000840" y="1428840"/>
            <a:ext cx="1623960" cy="714240"/>
          </a:xfrm>
          <a:prstGeom prst="rect">
            <a:avLst/>
          </a:prstGeom>
          <a:ln w="0">
            <a:noFill/>
          </a:ln>
        </p:spPr>
      </p:pic>
      <p:grpSp>
        <p:nvGrpSpPr>
          <p:cNvPr id="232" name="Группа 11"/>
          <p:cNvGrpSpPr/>
          <p:nvPr/>
        </p:nvGrpSpPr>
        <p:grpSpPr>
          <a:xfrm>
            <a:off x="1285920" y="2428920"/>
            <a:ext cx="5643360" cy="1373760"/>
            <a:chOff x="1285920" y="2428920"/>
            <a:chExt cx="5643360" cy="1373760"/>
          </a:xfrm>
        </p:grpSpPr>
        <p:sp>
          <p:nvSpPr>
            <p:cNvPr id="233" name="Прямоугольник 5"/>
            <p:cNvSpPr/>
            <p:nvPr/>
          </p:nvSpPr>
          <p:spPr>
            <a:xfrm>
              <a:off x="1285920" y="2428920"/>
              <a:ext cx="5643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Century Schoolbook"/>
                </a:rPr>
                <a:t>Нажимая клавиши на клавиатуре, не прилагайт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Century Schoolbook"/>
                </a:rPr>
                <a:t>б     льших усилий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Picture 7" descr="C:\Documents and Settings\admin\Мои документы\Мои рисунки\Для SMART\Ан-ии\0-6.gif"/>
            <p:cNvPicPr/>
            <p:nvPr/>
          </p:nvPicPr>
          <p:blipFill>
            <a:blip r:embed="rId3"/>
            <a:stretch/>
          </p:blipFill>
          <p:spPr>
            <a:xfrm>
              <a:off x="2714400" y="3357000"/>
              <a:ext cx="38088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857160" y="785880"/>
            <a:ext cx="7500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Вы знаете, что существуют вирусы, которые заражают компьютеры. Вирусы также переносятся при помощи флешек и дисков. Поэтому категорически запрещается без разрешения учителя приносить свои носители и ими пользоваться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C:\Documents and Settings\admin\Мои документы\Мои рисунки\Для SMART\внешня память.jpg"/>
          <p:cNvPicPr/>
          <p:nvPr/>
        </p:nvPicPr>
        <p:blipFill>
          <a:blip r:embed="rId1"/>
          <a:stretch/>
        </p:blipFill>
        <p:spPr>
          <a:xfrm>
            <a:off x="2928960" y="3929040"/>
            <a:ext cx="291456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6" descr="18"/>
          <p:cNvPicPr/>
          <p:nvPr/>
        </p:nvPicPr>
        <p:blipFill>
          <a:blip r:embed="rId1"/>
          <a:stretch/>
        </p:blipFill>
        <p:spPr>
          <a:xfrm>
            <a:off x="3571920" y="500040"/>
            <a:ext cx="2071800" cy="178452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1"/>
          <p:cNvSpPr/>
          <p:nvPr/>
        </p:nvSpPr>
        <p:spPr>
          <a:xfrm>
            <a:off x="928800" y="2143080"/>
            <a:ext cx="70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Если Вы почувствовали запах гари или увидели очаг возгорания, немедленно сообщите об этом педагогу</a:t>
            </a:r>
            <a:r>
              <a:rPr b="0" lang="ru-RU" sz="2800" spc="-1" strike="noStrike">
                <a:solidFill>
                  <a:srgbClr val="ff3399"/>
                </a:solidFill>
                <a:latin typeface="Century Schoolbook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1000080" y="3929040"/>
            <a:ext cx="571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Не пытайтесь самостоятельно устранить неполадки в работе компьютера – немедленно сообщите о них учител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C:\Documents and Settings\admin\Мои документы\Мои рисунки\Для SMART\Ан-ии\ani-pengion_computerdig.gif"/>
          <p:cNvPicPr/>
          <p:nvPr/>
        </p:nvPicPr>
        <p:blipFill>
          <a:blip r:embed="rId2"/>
          <a:stretch/>
        </p:blipFill>
        <p:spPr>
          <a:xfrm>
            <a:off x="6572160" y="392904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1643040" y="1714680"/>
            <a:ext cx="6072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Century Schoolbook"/>
              </a:rPr>
              <a:t>Будьте внимательн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Century Schoolbook"/>
              </a:rPr>
              <a:t>дисциплинированы, осторожн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C:\Documents and Settings\admin\Мои документы\Мои рисунки\Для SMART\437352847.jpg"/>
          <p:cNvPicPr/>
          <p:nvPr/>
        </p:nvPicPr>
        <p:blipFill>
          <a:blip r:embed="rId1"/>
          <a:stretch/>
        </p:blipFill>
        <p:spPr>
          <a:xfrm>
            <a:off x="3500280" y="4000680"/>
            <a:ext cx="190512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928800" y="10717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Используемые ресур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Рисунок 2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1656000" cy="129564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3"/>
          <p:cNvSpPr/>
          <p:nvPr/>
        </p:nvSpPr>
        <p:spPr>
          <a:xfrm>
            <a:off x="2916360" y="263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http://www.absolute-kazakstan.kz/mebel/school/doska/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"/>
          <p:cNvSpPr/>
          <p:nvPr/>
        </p:nvSpPr>
        <p:spPr>
          <a:xfrm>
            <a:off x="1000080" y="371484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ece1"/>
                </a:solidFill>
                <a:latin typeface="Century Schoolbook"/>
              </a:rPr>
              <a:t>источник шабло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Century Schoolbook"/>
              </a:rPr>
              <a:t>сайт «http://pedsovet.su/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714240" y="114300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Здравствуйте, ребя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Вы переступили порог компьютерного класса. Этот кабинет надо беречь и относиться ко всему, что стоит в нем очень бережно.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Но самым главным является 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– </a:t>
            </a: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компьютер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C:\Documents and Settings\admin\Мои документы\Мои рисунки\Для SMART\Ан-ии\Анимационные картинки\hw09.gif"/>
          <p:cNvPicPr/>
          <p:nvPr/>
        </p:nvPicPr>
        <p:blipFill>
          <a:blip r:embed="rId1"/>
          <a:stretch/>
        </p:blipFill>
        <p:spPr>
          <a:xfrm>
            <a:off x="3429000" y="4214880"/>
            <a:ext cx="23367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642960" y="1714680"/>
            <a:ext cx="7715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Первое требование, которое нужно соблюдать в компьютерном классе – это </a:t>
            </a: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чистота</a:t>
            </a: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. Оглянитесь вокруг: как здесь светло, чисто и уют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1571760" y="4143240"/>
            <a:ext cx="628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Приходить в компьютерный класс надо только в сменной обув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Documents and Settings\admin\Мои документы\Мои рисунки\Для SMART\Ан-ии\Анимационные картинки\525450148.gif"/>
          <p:cNvPicPr/>
          <p:nvPr/>
        </p:nvPicPr>
        <p:blipFill>
          <a:blip r:embed="rId1"/>
          <a:stretch/>
        </p:blipFill>
        <p:spPr>
          <a:xfrm>
            <a:off x="3929040" y="5143680"/>
            <a:ext cx="1238400" cy="971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ruki"/>
          <p:cNvPicPr/>
          <p:nvPr/>
        </p:nvPicPr>
        <p:blipFill>
          <a:blip r:embed="rId2"/>
          <a:stretch/>
        </p:blipFill>
        <p:spPr>
          <a:xfrm>
            <a:off x="1214280" y="3143160"/>
            <a:ext cx="1143000" cy="903240"/>
          </a:xfrm>
          <a:prstGeom prst="rect">
            <a:avLst/>
          </a:prstGeom>
          <a:ln w="0">
            <a:noFill/>
          </a:ln>
        </p:spPr>
      </p:pic>
      <p:sp>
        <p:nvSpPr>
          <p:cNvPr id="204" name="Line 8"/>
          <p:cNvSpPr/>
          <p:nvPr/>
        </p:nvSpPr>
        <p:spPr>
          <a:xfrm>
            <a:off x="1500120" y="3143160"/>
            <a:ext cx="785880" cy="100008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Группа 14"/>
          <p:cNvGrpSpPr/>
          <p:nvPr/>
        </p:nvGrpSpPr>
        <p:grpSpPr>
          <a:xfrm>
            <a:off x="857160" y="642960"/>
            <a:ext cx="6715080" cy="500040"/>
            <a:chOff x="857160" y="642960"/>
            <a:chExt cx="6715080" cy="500040"/>
          </a:xfrm>
        </p:grpSpPr>
        <p:pic>
          <p:nvPicPr>
            <p:cNvPr id="206" name="Picture 4" descr="C:\Documents and Settings\admin\Мои документы\Мои рисунки\Для SMART\Ан-ии\blume4.gif"/>
            <p:cNvPicPr/>
            <p:nvPr/>
          </p:nvPicPr>
          <p:blipFill>
            <a:blip r:embed="rId3"/>
            <a:stretch/>
          </p:blipFill>
          <p:spPr>
            <a:xfrm>
              <a:off x="857160" y="642960"/>
              <a:ext cx="159336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4" descr="C:\Documents and Settings\admin\Мои документы\Мои рисунки\Для SMART\Ан-ии\blume4.gif"/>
            <p:cNvPicPr/>
            <p:nvPr/>
          </p:nvPicPr>
          <p:blipFill>
            <a:blip r:embed="rId4"/>
            <a:stretch/>
          </p:blipFill>
          <p:spPr>
            <a:xfrm>
              <a:off x="2564280" y="642960"/>
              <a:ext cx="159336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4" descr="C:\Documents and Settings\admin\Мои документы\Мои рисунки\Для SMART\Ан-ии\blume4.gif"/>
            <p:cNvPicPr/>
            <p:nvPr/>
          </p:nvPicPr>
          <p:blipFill>
            <a:blip r:embed="rId5"/>
            <a:stretch/>
          </p:blipFill>
          <p:spPr>
            <a:xfrm>
              <a:off x="4271760" y="642960"/>
              <a:ext cx="159336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4" descr="C:\Documents and Settings\admin\Мои документы\Мои рисунки\Для SMART\Ан-ии\blume4.gif"/>
            <p:cNvPicPr/>
            <p:nvPr/>
          </p:nvPicPr>
          <p:blipFill>
            <a:blip r:embed="rId6"/>
            <a:stretch/>
          </p:blipFill>
          <p:spPr>
            <a:xfrm>
              <a:off x="5978880" y="642960"/>
              <a:ext cx="1593360" cy="50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1" descr="v16ani"/>
          <p:cNvPicPr/>
          <p:nvPr/>
        </p:nvPicPr>
        <p:blipFill>
          <a:blip r:embed="rId1"/>
          <a:stretch/>
        </p:blipFill>
        <p:spPr>
          <a:xfrm>
            <a:off x="785880" y="18572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8"/>
          <p:cNvSpPr/>
          <p:nvPr/>
        </p:nvSpPr>
        <p:spPr>
          <a:xfrm>
            <a:off x="1643040" y="1643040"/>
            <a:ext cx="6072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Важнейшее требование в кабинете информатики –</a:t>
            </a: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дисциплин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Каждый раз, входя в кабинет информатики, создавайте деловую, дружественную обстановку для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1357200" y="2214720"/>
            <a:ext cx="64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Соблюдайте тишину в классе, так как громкие разговоры отвлекают ребят и учителя от раб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C:\Documents and Settings\admin\Мои документы\Мои рисунки\Для SMART\Ан-ии\061.gif"/>
          <p:cNvPicPr/>
          <p:nvPr/>
        </p:nvPicPr>
        <p:blipFill>
          <a:blip r:embed="rId1"/>
          <a:stretch/>
        </p:blipFill>
        <p:spPr>
          <a:xfrm>
            <a:off x="3857760" y="4071960"/>
            <a:ext cx="13572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2"/>
          <p:cNvSpPr/>
          <p:nvPr/>
        </p:nvSpPr>
        <p:spPr>
          <a:xfrm>
            <a:off x="1214280" y="3714840"/>
            <a:ext cx="614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Не включайте и не выключайте компьютер без разрешения учител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vakl"/>
          <p:cNvPicPr/>
          <p:nvPr/>
        </p:nvPicPr>
        <p:blipFill>
          <a:blip r:embed="rId1"/>
          <a:stretch/>
        </p:blipFill>
        <p:spPr>
          <a:xfrm>
            <a:off x="7143840" y="3786120"/>
            <a:ext cx="914400" cy="106380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5"/>
          <p:cNvSpPr/>
          <p:nvPr/>
        </p:nvSpPr>
        <p:spPr>
          <a:xfrm>
            <a:off x="1357200" y="1357200"/>
            <a:ext cx="585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Присаживаться за компьютер можно только с разрешения учител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1"/>
          <p:cNvSpPr/>
          <p:nvPr/>
        </p:nvSpPr>
        <p:spPr>
          <a:xfrm>
            <a:off x="1285920" y="1285920"/>
            <a:ext cx="67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Перед началом работы убедитесь в отсутствии видимых повреждений рабочего ме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2"/>
          <p:cNvSpPr/>
          <p:nvPr/>
        </p:nvSpPr>
        <p:spPr>
          <a:xfrm>
            <a:off x="1428840" y="4214880"/>
            <a:ext cx="592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Избегайте резких движений, не покидайте рабочее место без разрешения учител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3"/>
          <p:cNvSpPr/>
          <p:nvPr/>
        </p:nvSpPr>
        <p:spPr>
          <a:xfrm>
            <a:off x="1357200" y="3000240"/>
            <a:ext cx="65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Берегите компьютерные столы, не царапайте и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1214280" y="78588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Правила работы с компьютер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928800" y="1571760"/>
            <a:ext cx="757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Спина.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Сидите прямо не сутульте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Руки.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Плечи расслаблены, локти согнуты под прямым угл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Голова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 должна располагаться прямо с небольшим наклоном впере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Глаза.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Соблюдайте дистанцию. Расстояние от глаз до экрана монитора должно быть не менее 70 см (на расстоянии вытянутой рук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Ноги.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Колени согнуты под прямым углом, а стопы должны плоско стоять на по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785880" y="1071720"/>
            <a:ext cx="7215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За компьютером ничего не ешьте и не пейте. Не приносите с собой хлеб, орешки, конфеты, булочки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"/>
          <p:cNvSpPr/>
          <p:nvPr/>
        </p:nvSpPr>
        <p:spPr>
          <a:xfrm>
            <a:off x="1857240" y="3571920"/>
            <a:ext cx="5643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Жвачка категорически запрещена каждому, кто сидит рядом с компьюте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rcRect l="14509" t="32382" r="17752" b="19059"/>
          <a:stretch/>
        </p:blipFill>
        <p:spPr>
          <a:xfrm rot="409800">
            <a:off x="4044600" y="5000760"/>
            <a:ext cx="1260360" cy="811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Documents and Settings\admin\Мои документы\Мои рисунки\Для SMART\бутерброд.jpg"/>
          <p:cNvPicPr/>
          <p:nvPr/>
        </p:nvPicPr>
        <p:blipFill>
          <a:blip r:embed="rId2"/>
          <a:stretch/>
        </p:blipFill>
        <p:spPr>
          <a:xfrm>
            <a:off x="3929040" y="2428920"/>
            <a:ext cx="12146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08:05:38Z</dcterms:created>
  <dc:creator>Soul Reaver;Irenus</dc:creator>
  <dc:description/>
  <dc:language>en-US</dc:language>
  <cp:lastModifiedBy>Оля</cp:lastModifiedBy>
  <dcterms:modified xsi:type="dcterms:W3CDTF">2012-09-02T17:25:57Z</dcterms:modified>
  <cp:revision>47</cp:revision>
  <dc:subject/>
  <dc:title>Классная доска</dc:title>
</cp:coreProperties>
</file>