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CA3-FC20-4EDE-BAE0-CB889BDB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4B46-56A5-4352-94B8-DA6DF5C8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131-C716-4F1A-ABDB-C26C5FC5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75B7-9FF7-4748-A5B0-5FE52F83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AB08-0043-49C3-B042-62D0A171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BCE7-DDA9-4665-9FE2-54C0736E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A8BF-DDCD-4CAE-840B-C5B0BA3F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AA34-278E-417E-BCA6-ABDE6EFC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E185-CB8F-4140-B685-B5B805E7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EFCB-5415-4CC1-A082-79B17B3F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0972-1C2F-472F-BAAE-B190AE7B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EF0-F6FD-4A79-B206-483598CF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EAD8-CD86-4433-9E29-C1944F6F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882B-CD5A-4642-9445-B699B3A6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9A1B-0929-4D70-A366-862B22F4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D5FC-C47C-4F31-BCCB-75107D83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FB54-9FC6-4A7E-B3CF-FD368CF3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8BD-BBB8-420E-B65B-8186D116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A65-CC54-4C70-84AB-E7A8711D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2F2-6F9D-4A64-856D-40AFFD9A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655-4AA3-4C65-BD7D-8C7A83DA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507-7651-4262-BC85-09F7AEF0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015-330F-44A7-B4DF-DB91764D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B5A-A256-472F-B1DA-2F3F03E2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3463-CD87-4FD6-A086-876FA04382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D105-1092-4E20-9BCF-C604EE42F6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11280" y="260280"/>
            <a:ext cx="5904000" cy="22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р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ИНФОЗНАЙКА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411280" y="2914560"/>
            <a:ext cx="3600360" cy="3860640"/>
            <a:chOff x="2411280" y="2914560"/>
            <a:chExt cx="3600360" cy="386064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411280" y="2914560"/>
              <a:ext cx="3600360" cy="38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689720" y="6224760"/>
              <a:ext cx="735480" cy="472320"/>
            </a:xfrm>
            <a:prstGeom prst="rect">
              <a:avLst/>
            </a:prstGeom>
            <a:solidFill>
              <a:srgbClr val="6ec3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0066"/>
                </a:solidFill>
                <a:latin typeface="Arial"/>
              </a:rPr>
              <a:t>8. Этап подготовки документа на компьютере, при котором вы просматриваете его, исправляете ошибки, вносите изменения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483080" y="14400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483080" y="19288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483080" y="241776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483080" y="290664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483080" y="339408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483080" y="388296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483080" y="43704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483080" y="48592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483080" y="534816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483080" y="5837400"/>
            <a:ext cx="465120" cy="487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483080" y="632448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016520" y="1440000"/>
            <a:ext cx="46656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5514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0862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61936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1528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687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9482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41656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881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3468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1372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27884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016520" y="1928880"/>
            <a:ext cx="46656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5514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0862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6193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1528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6876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2207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5564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94820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01652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55140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9482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41656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88168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3468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1372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27884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74396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016520" y="2906640"/>
            <a:ext cx="46656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9482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1656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88168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3468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1372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27884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01652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94820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41656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8816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34824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1372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2802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74396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016520" y="3882960"/>
            <a:ext cx="46656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55140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862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1936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94820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41656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8816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016520" y="4370400"/>
            <a:ext cx="46656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55140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948200" y="4370400"/>
            <a:ext cx="4669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41656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88168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01652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5514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0862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61936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1528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8137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3468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8816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41656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9482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82105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74396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27884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016520" y="5348160"/>
            <a:ext cx="46656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9482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41656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88168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3468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1372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61936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15424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68912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2220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016520" y="5837400"/>
            <a:ext cx="46656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55140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08628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948200" y="6324480"/>
            <a:ext cx="4669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1512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8024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4536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01652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740720" y="144144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0066"/>
                </a:solidFill>
                <a:latin typeface="Arial"/>
              </a:rPr>
              <a:t>9. </a:t>
            </a: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Гибкий магнитный диск для хранения преимущественно текстовой информаци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483080" y="14400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483080" y="19288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483080" y="241776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483080" y="290664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483080" y="339408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483080" y="388296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483080" y="43704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483080" y="48592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483080" y="534816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483080" y="5837400"/>
            <a:ext cx="465120" cy="487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483080" y="632448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016520" y="1440000"/>
            <a:ext cx="46656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5514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0862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61936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1528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687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482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41656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81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3468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81372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727884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016520" y="1928880"/>
            <a:ext cx="46656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5514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862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6193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1528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876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2207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5564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94820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41656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01652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55140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9482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41656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88168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3468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81372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27884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74396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016520" y="2906640"/>
            <a:ext cx="46656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9482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41656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88168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3468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81372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27884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01652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94820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41656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8816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34824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81372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2802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74396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016520" y="3882960"/>
            <a:ext cx="46656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55140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0862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61936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94820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1656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8816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016520" y="4370400"/>
            <a:ext cx="46656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55140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948200" y="4370400"/>
            <a:ext cx="4669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41656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88168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01652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5514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0862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61936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1528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8137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3468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8816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1656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9482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82105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74396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27884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016520" y="5348160"/>
            <a:ext cx="46656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9482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41656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88168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3468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81372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61936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15424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68912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22220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016520" y="5837400"/>
            <a:ext cx="46656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55140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08628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948200" y="6324480"/>
            <a:ext cx="4669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41512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88024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34536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01652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740720" y="144144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0066"/>
                </a:solidFill>
                <a:latin typeface="Arial"/>
              </a:rPr>
              <a:t>10</a:t>
            </a:r>
            <a:r>
              <a:rPr b="1" i="1" lang="en-US" sz="2600" spc="-1" strike="noStrike">
                <a:solidFill>
                  <a:srgbClr val="330066"/>
                </a:solidFill>
                <a:latin typeface="Arial"/>
              </a:rPr>
              <a:t>. </a:t>
            </a: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Дополнительное устройство ввода для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483080" y="14400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483080" y="19288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483080" y="241776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483080" y="290664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483080" y="339408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483080" y="388296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483080" y="43704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483080" y="48592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483080" y="534816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483080" y="5837400"/>
            <a:ext cx="465120" cy="487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483080" y="632448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016520" y="1440000"/>
            <a:ext cx="46656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5514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0862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61936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1528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687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9482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41656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881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3468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81372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27884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016520" y="1928880"/>
            <a:ext cx="46656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5514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0862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6193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1528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876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2207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5564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94820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41656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01652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55140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9482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41656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88168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3468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81372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27884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74396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16520" y="2906640"/>
            <a:ext cx="46656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9482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41656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88168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3468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81372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27884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01652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94820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41656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8816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34824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81372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2802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74396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016520" y="3882960"/>
            <a:ext cx="46656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55140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0862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61936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94820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41656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8816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16520" y="4370400"/>
            <a:ext cx="46656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55140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948200" y="4370400"/>
            <a:ext cx="4669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41656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88168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01652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514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0862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61936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1528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8137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468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8816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41656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9482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2105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74396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727884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016520" y="5348160"/>
            <a:ext cx="46656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9482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1656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8168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3468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681372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61936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15424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68912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22220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016520" y="5837400"/>
            <a:ext cx="46656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55140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08628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948200" y="6324480"/>
            <a:ext cx="4669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41512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88024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34536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01652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740720" y="144144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0066"/>
                </a:solidFill>
                <a:latin typeface="Arial"/>
              </a:rPr>
              <a:t>11. Информация, представленная в форме, пригодной для обработки компьютером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483080" y="14400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483080" y="19288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483080" y="241776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483080" y="290664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483080" y="339408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483080" y="388296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483080" y="43704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483080" y="48592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483080" y="534816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83080" y="5837400"/>
            <a:ext cx="465120" cy="487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483080" y="632448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016520" y="1440000"/>
            <a:ext cx="46656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5514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0862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61936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1528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1687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9482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41656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881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3468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81372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27884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016520" y="1928880"/>
            <a:ext cx="46656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5514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0862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6193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1528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6876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2207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5564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94820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41656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01652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55140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9482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41656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88168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3468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81372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27884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74396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016520" y="2906640"/>
            <a:ext cx="46656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9482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41656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88168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3468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81372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27884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01652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94820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41656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8816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34824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1372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72802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74396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016520" y="3882960"/>
            <a:ext cx="46656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55140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0862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61936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94820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41656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8816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016520" y="4370400"/>
            <a:ext cx="46656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55140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948200" y="4370400"/>
            <a:ext cx="4669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41656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88168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01652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5514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0862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61936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1528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8137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3468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816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9482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82105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774396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727884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016520" y="5348160"/>
            <a:ext cx="46656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9482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41656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88168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3468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81372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61936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15424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68912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22220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016520" y="5837400"/>
            <a:ext cx="46656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55140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08628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948200" y="6324480"/>
            <a:ext cx="4669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41512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88024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34536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01652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740720" y="144144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4483080" y="14400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483080" y="19288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83080" y="241776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483080" y="290664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483080" y="339408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483080" y="388296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483080" y="43704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483080" y="48592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483080" y="534816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4483080" y="5837400"/>
            <a:ext cx="465120" cy="487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483080" y="632448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016520" y="1440000"/>
            <a:ext cx="46656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5514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0862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61936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1528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687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9482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41656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881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3468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81372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727884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016520" y="1928880"/>
            <a:ext cx="46656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5514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0862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6193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1528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6876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2207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75564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94820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41656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01652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55140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9482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41656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88168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3468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81372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27884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774396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016520" y="2906640"/>
            <a:ext cx="46656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9482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41656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88168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3468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681372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727884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01652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94820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41656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8816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34824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81372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2802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74396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016520" y="3882960"/>
            <a:ext cx="46656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55140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0862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61936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94820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41656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8816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016520" y="4370400"/>
            <a:ext cx="46656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55140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948200" y="4370400"/>
            <a:ext cx="4669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41656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88168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01652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5514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0862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61936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1528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8137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3468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8816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9482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2105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74396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7884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016520" y="5348160"/>
            <a:ext cx="46656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9482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41656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588168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3468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81372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61936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15424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68912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22220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016520" y="5837400"/>
            <a:ext cx="46656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55140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08628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948200" y="6324480"/>
            <a:ext cx="4669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41512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88024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34536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01652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7740720" y="144144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95280" y="4076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На рисунке пропущена одна надпись. Что должно быть написано?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сканер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блок бесперебойного питания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принтер;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137440" cy="29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Какой из следующих сказочных объектов  можно считать прообразом телевизора по существенному признаку «показывать удаленные во времени и в пространстве объекты»?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80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73800" cy="367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По указанным адресам впиши в клеточки буквы. Слово, которое у тебя получилось, означает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292720" y="1599840"/>
            <a:ext cx="385128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) блок бесперебойного пит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) устройство вывода на печать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) устройство ввода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) программа защиты информ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3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5113440" cy="2774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66"/>
                </a:solidFill>
                <a:latin typeface="Arial"/>
              </a:rPr>
              <a:t>Известно, что в компьютере вся информация зашифрована 1 и 0. Восстанови рисунок по заданному коду (1-закрашено, 0-не закрашено). Что у тебя получилось?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372360" y="3141720"/>
            <a:ext cx="195408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) &amp;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$,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) @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1"/>
          <a:stretch/>
        </p:blipFill>
        <p:spPr>
          <a:xfrm>
            <a:off x="1908000" y="3068640"/>
            <a:ext cx="3816360" cy="319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Какое из следующих высказываний ложное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– это графический редактор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– это операционная систем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3) В системе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можно рисовать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4) Бывают сетевы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гры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 rot="20207400">
            <a:off x="144360" y="2439720"/>
            <a:ext cx="8315280" cy="22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ff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згадайте кроссворд</a:t>
            </a:r>
            <a:endParaRPr b="1" lang="en-US" sz="1800" spc="1" strike="noStrike">
              <a:ln w="22320">
                <a:solidFill>
                  <a:srgbClr val="ff00ff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В настоящее время рекорд Гиннесса по скорости чтения составляет 60 000 знаков в минуту (примерно 60 страниц текста) (установлен россиянкой). Если учащийся младших классов читает примерно 120 знаков в минуту, сколько ему надо времени, чтобы прочитать 60 страниц текста?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3643200"/>
            <a:ext cx="8229600" cy="24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) больше 10 часов;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) больше 9 часов;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) больше 8 часов;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) меньше 7 ча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Какое слово зашифровано: </a:t>
            </a:r>
            <a:br>
              <a:rPr sz="3500"/>
            </a:b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1101 1011 0100 0110 1010 0000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А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0000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Е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0101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Н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1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Б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0001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И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0110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О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1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В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0010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К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0111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П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1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Г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0011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Л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1000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Р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11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Д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0100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М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1001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С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11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) РОДИНА;       2) КОРОВА;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) ПАТОКА;        4) ПОЛ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66"/>
                </a:solidFill>
                <a:latin typeface="Arial"/>
              </a:rPr>
              <a:t>Следуя за стрелками, расшифруй современные слова, записанные знаками глаголицы.</a:t>
            </a:r>
            <a:br>
              <a:rPr sz="1800"/>
            </a:br>
            <a:r>
              <a:rPr b="1" i="1" lang="en-US" sz="1800" spc="-1" strike="noStrike">
                <a:solidFill>
                  <a:srgbClr val="330066"/>
                </a:solidFill>
                <a:latin typeface="Arial"/>
              </a:rPr>
              <a:t>Получившееся словосочетание означает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защита информации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глобальная сеть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цифровая графика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кодирование информации.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539640" y="3213000"/>
            <a:ext cx="6445440" cy="3384360"/>
            <a:chOff x="539640" y="3213000"/>
            <a:chExt cx="6445440" cy="3384360"/>
          </a:xfrm>
        </p:grpSpPr>
        <p:pic>
          <p:nvPicPr>
            <p:cNvPr id="1395" name="" descr=""/>
            <p:cNvPicPr/>
            <p:nvPr/>
          </p:nvPicPr>
          <p:blipFill>
            <a:blip r:embed="rId1"/>
            <a:stretch/>
          </p:blipFill>
          <p:spPr>
            <a:xfrm>
              <a:off x="3564000" y="3242160"/>
              <a:ext cx="3421080" cy="328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" descr=""/>
            <p:cNvPicPr/>
            <p:nvPr/>
          </p:nvPicPr>
          <p:blipFill>
            <a:blip r:embed="rId2"/>
            <a:stretch/>
          </p:blipFill>
          <p:spPr>
            <a:xfrm>
              <a:off x="539640" y="3213000"/>
              <a:ext cx="3032280" cy="33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7" name="" descr=""/>
          <p:cNvPicPr/>
          <p:nvPr/>
        </p:nvPicPr>
        <p:blipFill>
          <a:blip r:embed="rId3"/>
          <a:stretch/>
        </p:blipFill>
        <p:spPr>
          <a:xfrm>
            <a:off x="3564000" y="2320920"/>
            <a:ext cx="7083360" cy="4537080"/>
          </a:xfrm>
          <a:prstGeom prst="rect">
            <a:avLst/>
          </a:prstGeom>
          <a:ln w="0">
            <a:noFill/>
          </a:ln>
        </p:spPr>
      </p:pic>
      <p:sp>
        <p:nvSpPr>
          <p:cNvPr id="1398" name=""/>
          <p:cNvSpPr/>
          <p:nvPr/>
        </p:nvSpPr>
        <p:spPr>
          <a:xfrm>
            <a:off x="8317080" y="2205000"/>
            <a:ext cx="2519280" cy="465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Следуя за стрелками, расшифруй современные слова, записанные знаками кириллицы. Получившееся словосочетание означает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400" name=""/>
          <p:cNvGrpSpPr/>
          <p:nvPr/>
        </p:nvGrpSpPr>
        <p:grpSpPr>
          <a:xfrm>
            <a:off x="900000" y="2997360"/>
            <a:ext cx="5184360" cy="2808000"/>
            <a:chOff x="900000" y="2997360"/>
            <a:chExt cx="5184360" cy="2808000"/>
          </a:xfrm>
        </p:grpSpPr>
        <p:pic>
          <p:nvPicPr>
            <p:cNvPr id="1401" name="" descr=""/>
            <p:cNvPicPr/>
            <p:nvPr/>
          </p:nvPicPr>
          <p:blipFill>
            <a:blip r:embed="rId1"/>
            <a:stretch/>
          </p:blipFill>
          <p:spPr>
            <a:xfrm>
              <a:off x="3332520" y="3021480"/>
              <a:ext cx="2751840" cy="272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2"/>
            <a:stretch/>
          </p:blipFill>
          <p:spPr>
            <a:xfrm>
              <a:off x="900000" y="2997360"/>
              <a:ext cx="2439000" cy="28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3" name="" descr=""/>
          <p:cNvPicPr/>
          <p:nvPr/>
        </p:nvPicPr>
        <p:blipFill>
          <a:blip r:embed="rId3"/>
          <a:stretch/>
        </p:blipFill>
        <p:spPr>
          <a:xfrm>
            <a:off x="-6300720" y="2060640"/>
            <a:ext cx="9648720" cy="4653000"/>
          </a:xfrm>
          <a:prstGeom prst="rect">
            <a:avLst/>
          </a:prstGeom>
          <a:ln w="0">
            <a:noFill/>
          </a:ln>
        </p:spPr>
      </p:pic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084720" y="1916280"/>
            <a:ext cx="3059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) защита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) информация, размещенная в глобальной се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) цифровая граф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) кодирование информ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788000" y="333360"/>
            <a:ext cx="3898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Какой указующий знак надо поставить в свободный квадрат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0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714920" cy="4021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На рисунках представлены виды информации, размещаемой в компьютере. Какая надпись пропущена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08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8713800" cy="1838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6600cc"/>
                </a:solidFill>
                <a:latin typeface="Arial"/>
              </a:rPr>
              <a:t>Исключи лишнее: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74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«флешка»;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74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дискета; 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74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74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принтер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0" name="" descr=""/>
          <p:cNvPicPr/>
          <p:nvPr/>
        </p:nvPicPr>
        <p:blipFill>
          <a:blip r:embed="rId1"/>
          <a:stretch/>
        </p:blipFill>
        <p:spPr>
          <a:xfrm>
            <a:off x="6859440" y="2781360"/>
            <a:ext cx="2284560" cy="1849320"/>
          </a:xfrm>
          <a:prstGeom prst="rect">
            <a:avLst/>
          </a:prstGeom>
          <a:ln w="0">
            <a:noFill/>
          </a:ln>
        </p:spPr>
      </p:pic>
      <p:pic>
        <p:nvPicPr>
          <p:cNvPr id="1411" name="" descr=""/>
          <p:cNvPicPr/>
          <p:nvPr/>
        </p:nvPicPr>
        <p:blipFill>
          <a:blip r:embed="rId2"/>
          <a:stretch/>
        </p:blipFill>
        <p:spPr>
          <a:xfrm>
            <a:off x="5811840" y="4641840"/>
            <a:ext cx="3332160" cy="2216160"/>
          </a:xfrm>
          <a:prstGeom prst="rect">
            <a:avLst/>
          </a:prstGeom>
          <a:ln w="0">
            <a:noFill/>
          </a:ln>
        </p:spPr>
      </p:pic>
      <p:pic>
        <p:nvPicPr>
          <p:cNvPr id="1412" name="" descr=""/>
          <p:cNvPicPr/>
          <p:nvPr/>
        </p:nvPicPr>
        <p:blipFill>
          <a:blip r:embed="rId3"/>
          <a:stretch/>
        </p:blipFill>
        <p:spPr>
          <a:xfrm>
            <a:off x="4284720" y="2205000"/>
            <a:ext cx="2617560" cy="2392560"/>
          </a:xfrm>
          <a:prstGeom prst="rect">
            <a:avLst/>
          </a:prstGeom>
          <a:ln w="0">
            <a:noFill/>
          </a:ln>
        </p:spPr>
      </p:pic>
      <p:grpSp>
        <p:nvGrpSpPr>
          <p:cNvPr id="1413" name=""/>
          <p:cNvGrpSpPr/>
          <p:nvPr/>
        </p:nvGrpSpPr>
        <p:grpSpPr>
          <a:xfrm>
            <a:off x="3924360" y="4797360"/>
            <a:ext cx="2016000" cy="1944720"/>
            <a:chOff x="3924360" y="4797360"/>
            <a:chExt cx="2016000" cy="1944720"/>
          </a:xfrm>
        </p:grpSpPr>
        <p:sp>
          <p:nvSpPr>
            <p:cNvPr id="1414" name=""/>
            <p:cNvSpPr/>
            <p:nvPr/>
          </p:nvSpPr>
          <p:spPr>
            <a:xfrm>
              <a:off x="3924360" y="4797360"/>
              <a:ext cx="2016000" cy="1944720"/>
            </a:xfrm>
            <a:prstGeom prst="ellipse">
              <a:avLst/>
            </a:prstGeom>
            <a:gradFill rotWithShape="0">
              <a:gsLst>
                <a:gs pos="0">
                  <a:srgbClr val="63636c"/>
                </a:gs>
                <a:gs pos="100000">
                  <a:srgbClr val="d8d8e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572000" y="5407200"/>
              <a:ext cx="720720" cy="7207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776840" y="5627520"/>
              <a:ext cx="288720" cy="28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Выбери самое точное сообщение о возрасте Сережи.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Сереже скоро исполнится 10 лет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Сереже уже 9 лет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Сереже 9 лет, 10 месяцев и 16 дне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Сереже больше пяти лет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Слово, зашифрованное в ребусе, означает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3997440" y="1719360"/>
            <a:ext cx="46893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устройство обработки информации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место размещения микросхем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устройство управления компьюте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313080" cy="2644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Рассмотри нарисованные компьютеры и найди два одинаковых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9152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1) 2 и 4;     2) 1 и 5;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3) 1 и 6;     4) 5 и 6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8496000" cy="1595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4358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1. Этап подготовки документа, при котором ему придают тот вид, который он будет иметь на бумаге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3080" y="14400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83080" y="19288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83080" y="241776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83080" y="290664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83080" y="339408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83080" y="388296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83080" y="43704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3080" y="48592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83080" y="534816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83080" y="5837400"/>
            <a:ext cx="465120" cy="487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83080" y="632448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16520" y="1440000"/>
            <a:ext cx="46656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514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862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1936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528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87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482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1656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81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468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1372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7884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16520" y="1928880"/>
            <a:ext cx="46656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514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862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193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528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876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207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4820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656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1652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140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482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1656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8168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468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1372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7884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4396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16520" y="2906640"/>
            <a:ext cx="46656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482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656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8168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468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1372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7884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1652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4820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656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816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4824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1372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802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74396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16520" y="3882960"/>
            <a:ext cx="46656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140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862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1936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4820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656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816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16520" y="4370400"/>
            <a:ext cx="46656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5140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48200" y="4370400"/>
            <a:ext cx="4669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1656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8168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1652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514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862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936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528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137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468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816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656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482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105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74396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7884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16520" y="5348160"/>
            <a:ext cx="46656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482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1656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8168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468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1372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1936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5424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8912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2220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16520" y="5837400"/>
            <a:ext cx="46656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5140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8628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48200" y="6324480"/>
            <a:ext cx="4669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1512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8024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4536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1652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144144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66"/>
                </a:solidFill>
                <a:latin typeface="Arial"/>
              </a:rPr>
              <a:t>На столе есть места для трех предметов, установи правильное соответствие между местами и самими предметами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00720" y="2637000"/>
            <a:ext cx="41860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75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-С;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; 3-B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75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-С;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; 1-B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75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1-С;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; 3-B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75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1-С;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1" lang="ru-RU" sz="3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; 2-B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250920" y="2781360"/>
          <a:ext cx="4174920" cy="19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17492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-18108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330066"/>
                </a:solidFill>
                <a:latin typeface="Arial"/>
              </a:rPr>
              <a:t>В сказке В. Ф. Одоевского «Городок в табакерке» работой музыкальной шкатулки управляет Пружина. Какое устройство управляет работой компьютера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716360" y="3284640"/>
            <a:ext cx="40435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амя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цессор;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монитор;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лавиатур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2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4103640" cy="2797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-108360" y="-3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Слово, зашифрованное в ребусе, означает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140000" y="1268280"/>
            <a:ext cx="4546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сто кратковременного хранения информации в компьютер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средство для передачи информаци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средство для печати информации с компьютера на бумагу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средство ввода информаци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5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3960720" cy="1581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68000" y="331920"/>
            <a:ext cx="755964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В загадке «Кто его раздевает, тот слезы проливает» существенным признаком, по которому можно угадать, что речь идет о луке, является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979280" y="2492280"/>
            <a:ext cx="670716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лезы;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меть много одежек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ыделять запах, раздражающий глаза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быть маленьким, круглым и желты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8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1582560" cy="180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5438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Этап подготовки документа, при котором мы просматриваем его, исправляем ошибки и вносим изменения, называется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ормат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ис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5438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Этап подготовки документа, при котором мы придаем документу вид, который он будет иметь на бумаге, называется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ормат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е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Найди лишнее слово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лн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ду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анда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Найди лишнее слово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у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бур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в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ров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Найди лишнее слово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нти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ци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и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ллимет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Найди лишнюю цифру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3132000" y="1719360"/>
            <a:ext cx="5554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2835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2. </a:t>
            </a:r>
            <a:r>
              <a:rPr b="1" i="1" lang="en-US" sz="3200" spc="-1" strike="noStrike">
                <a:solidFill>
                  <a:srgbClr val="330066"/>
                </a:solidFill>
                <a:latin typeface="Arial"/>
              </a:rPr>
              <a:t>Запись информации с использованием кода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83080" y="14400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83080" y="19288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83080" y="241776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83080" y="290664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83080" y="339408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83080" y="388296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83080" y="43704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83080" y="48592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83080" y="534816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83080" y="5837400"/>
            <a:ext cx="465120" cy="487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83080" y="632448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16520" y="1440000"/>
            <a:ext cx="46656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514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862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1936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1528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87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482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1656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81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468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1372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27884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16520" y="1928880"/>
            <a:ext cx="46656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514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862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193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528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876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207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4820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1656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1652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5140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482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656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88168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468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1372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7884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74396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16520" y="2906640"/>
            <a:ext cx="46656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482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1656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168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468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1372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7884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1652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4820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1656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816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4824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1372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2802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74396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16520" y="3882960"/>
            <a:ext cx="46656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5140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862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1936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4820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1656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8816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16520" y="4370400"/>
            <a:ext cx="46656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5140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48200" y="4370400"/>
            <a:ext cx="4669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1656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8168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1652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514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862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61936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528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137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468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816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1656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482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2105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4396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27884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16520" y="5348160"/>
            <a:ext cx="46656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482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41656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8168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468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1372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1936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5424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8912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2220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016520" y="5837400"/>
            <a:ext cx="46656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5140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8628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48200" y="6324480"/>
            <a:ext cx="4669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1512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8024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4536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01652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740720" y="144144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Найди лишнюю цифру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3059280" y="1719360"/>
            <a:ext cx="562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543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Чтобы установить курсор в начало строки нужно нажать клавишу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26920" y="2924280"/>
            <a:ext cx="1944720" cy="1944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419640" y="3645000"/>
            <a:ext cx="1944360" cy="180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227640" y="2997360"/>
            <a:ext cx="2016360" cy="18716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Какой знак в тексте выделяется с двух сторон пробелами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3851280" y="2060640"/>
            <a:ext cx="4835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пя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воето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100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очка с запя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325600" cy="381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 txBox="1"/>
          <p:nvPr/>
        </p:nvSpPr>
        <p:spPr>
          <a:xfrm rot="20106600">
            <a:off x="323640" y="2133360"/>
            <a:ext cx="7740360" cy="25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лодцы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61" name=""/>
          <p:cNvSpPr/>
          <p:nvPr/>
        </p:nvSpPr>
        <p:spPr>
          <a:xfrm>
            <a:off x="3851280" y="5300640"/>
            <a:ext cx="1081080" cy="1081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4859280" y="4797360"/>
            <a:ext cx="1081080" cy="1081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940360" y="5300640"/>
            <a:ext cx="1081080" cy="1081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877080" y="4292640"/>
            <a:ext cx="1081080" cy="1081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524720" y="5373720"/>
            <a:ext cx="1081080" cy="1081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885080" y="3068640"/>
            <a:ext cx="1081080" cy="1081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203640" y="5445000"/>
            <a:ext cx="1081080" cy="1081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788000" y="5445000"/>
            <a:ext cx="1081080" cy="1081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651640" y="4149720"/>
            <a:ext cx="1081080" cy="1081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804000" y="5445000"/>
            <a:ext cx="1081080" cy="1081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7885080" y="4365720"/>
            <a:ext cx="1081080" cy="1081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804000" y="3213000"/>
            <a:ext cx="1081080" cy="10810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67245E-006 L -0.42517 -0.37775 E">
                                      <p:cBhvr>
                                        <p:cTn id="25" dur="2000" fill="hold"/>
                                        <p:tgtEl>
                                          <p:spTgt spid="1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6.7083E-007 L -0.52361 -0.4985 E">
                                      <p:cBhvr>
                                        <p:cTn id="28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22253E-007 L -0.57882 -0.72912 E">
                                      <p:cBhvr>
                                        <p:cTn id="31" dur="2000" fill="hold"/>
                                        <p:tgtEl>
                                          <p:spTgt spid="1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43072E-007 L -0.50798 -0.57182 E">
                                      <p:cBhvr>
                                        <p:cTn id="34" dur="2000" fill="hold"/>
                                        <p:tgtEl>
                                          <p:spTgt spid="1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500"/>
                            </p:stCondLst>
                            <p:childTnLst>
                              <p:par>
                                <p:cTn id="3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36479E-007 L -0.42135 -0.72935 E">
                                      <p:cBhvr>
                                        <p:cTn id="37" dur="2000" fill="hold"/>
                                        <p:tgtEl>
                                          <p:spTgt spid="1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27388E-006 L -0.29531 -0.36178 E">
                                      <p:cBhvr>
                                        <p:cTn id="40" dur="2000" fill="hold"/>
                                        <p:tgtEl>
                                          <p:spTgt spid="1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500"/>
                            </p:stCondLst>
                            <p:childTnLst>
                              <p:par>
                                <p:cTn id="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848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66"/>
                </a:solidFill>
                <a:latin typeface="Arial"/>
              </a:rPr>
              <a:t>3.Сведения об окружающем нас мире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83080" y="14400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83080" y="19288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483080" y="241776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83080" y="290664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83080" y="339408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83080" y="388296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83080" y="43704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83080" y="48592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83080" y="534816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83080" y="5837400"/>
            <a:ext cx="465120" cy="487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83080" y="632448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016520" y="1440000"/>
            <a:ext cx="46656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514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862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61936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528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87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482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41656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81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1372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27884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016520" y="1928880"/>
            <a:ext cx="46656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5514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862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6193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528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876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207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4820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41656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01652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5140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482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1656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8168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468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1372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27884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4396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016520" y="2906640"/>
            <a:ext cx="46656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482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1656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8168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468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1372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27884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01652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94820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1656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8816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34824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1372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2802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74396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16520" y="3882960"/>
            <a:ext cx="46656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5140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862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61936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94820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41656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8816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016520" y="4370400"/>
            <a:ext cx="46656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5140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48200" y="4370400"/>
            <a:ext cx="4669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1656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88168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1652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514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862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1936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528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137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468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816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1656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482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2105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74396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7884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016520" y="5348160"/>
            <a:ext cx="46656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9482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1656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8168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3468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81372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1936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5424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8912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2220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16520" y="5837400"/>
            <a:ext cx="46656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55140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8628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48200" y="6324480"/>
            <a:ext cx="4669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41512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88024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4536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01652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740720" y="144144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848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66"/>
                </a:solidFill>
                <a:latin typeface="Arial"/>
              </a:rPr>
              <a:t>4. Любой текст, созданный с помощью компьютер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483080" y="14400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83080" y="19288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83080" y="241776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83080" y="290664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83080" y="339408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83080" y="388296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483080" y="43704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83080" y="48592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83080" y="534816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83080" y="5837400"/>
            <a:ext cx="465120" cy="487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483080" y="632448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016520" y="1440000"/>
            <a:ext cx="46656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514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862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1936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1528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87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482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41656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81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468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1372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27884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16520" y="1928880"/>
            <a:ext cx="46656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514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862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6193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528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6876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207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5564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4820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41656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01652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55140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9482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1656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8168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3468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1372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7884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16520" y="2906640"/>
            <a:ext cx="46656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9482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656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88168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468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1372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27884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01652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4820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41656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8816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4824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1372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2802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74396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016520" y="3882960"/>
            <a:ext cx="46656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5140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862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61936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94820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656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8816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16520" y="4370400"/>
            <a:ext cx="46656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55140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948200" y="4370400"/>
            <a:ext cx="4669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1656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8168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01652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514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0862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936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528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137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468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8816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1656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9482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2105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74396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7884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016520" y="5348160"/>
            <a:ext cx="46656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482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41656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8168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3468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1372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61936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5424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8912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2220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16520" y="5837400"/>
            <a:ext cx="46656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55140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8628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48200" y="6324480"/>
            <a:ext cx="4669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1512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88024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4536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01652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40720" y="144144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848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66"/>
                </a:solidFill>
                <a:latin typeface="Arial"/>
              </a:rPr>
              <a:t>5. Мозг компьютер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483080" y="14400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483080" y="19288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83080" y="241776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483080" y="290664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483080" y="339408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83080" y="388296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83080" y="43704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83080" y="48592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83080" y="534816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483080" y="5837400"/>
            <a:ext cx="465120" cy="487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83080" y="632448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016520" y="1440000"/>
            <a:ext cx="46656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5514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862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1936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1528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87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9482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41656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881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3468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1372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27884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016520" y="1928880"/>
            <a:ext cx="46656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5514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0862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6193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1528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876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2207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5564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94820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1656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01652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55140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9482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41656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88168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3468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81372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27884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74396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016520" y="2906640"/>
            <a:ext cx="46656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9482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1656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88168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3468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81372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27884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01652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94820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41656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816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34824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81372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2802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74396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016520" y="3882960"/>
            <a:ext cx="46656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5140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862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61936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4820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41656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8816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016520" y="4370400"/>
            <a:ext cx="46656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55140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48200" y="4370400"/>
            <a:ext cx="4669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41656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88168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01652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514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0862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61936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1528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8137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3468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8816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1656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9482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2105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74396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27884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016520" y="5348160"/>
            <a:ext cx="46656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482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1656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88168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3468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1372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61936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15424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68912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2220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016520" y="5837400"/>
            <a:ext cx="46656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55140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08628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948200" y="6324480"/>
            <a:ext cx="4669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1512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88024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4536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01652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740720" y="144144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848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66"/>
                </a:solidFill>
                <a:latin typeface="Arial"/>
              </a:rPr>
              <a:t>6. Некоторое количество рядом стоящих символов, которые можно рассматривать как единое цело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483080" y="14400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483080" y="19288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483080" y="241776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483080" y="290664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483080" y="339408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483080" y="388296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483080" y="43704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483080" y="48592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483080" y="534816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483080" y="5837400"/>
            <a:ext cx="465120" cy="487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483080" y="632448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016520" y="1440000"/>
            <a:ext cx="46656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5514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0862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61936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1528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687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9482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41656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881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468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1372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27884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016520" y="1928880"/>
            <a:ext cx="46656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5514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862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6193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1528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6876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2207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564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4820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41656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1652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55140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9482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41656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88168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3468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1372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27884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4396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016520" y="2906640"/>
            <a:ext cx="46656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9482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41656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8168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468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81372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27884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01652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94820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41656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8816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34824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1372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2802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74396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016520" y="3882960"/>
            <a:ext cx="46656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55140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0862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61936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94820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656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8816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016520" y="4370400"/>
            <a:ext cx="46656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55140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948200" y="4370400"/>
            <a:ext cx="4669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41656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88168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01652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5514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0862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61936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1528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8137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3468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816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1656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9482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82105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4396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27884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016520" y="5348160"/>
            <a:ext cx="46656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9482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41656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88168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468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1372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61936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15424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8912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22220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016520" y="5837400"/>
            <a:ext cx="46656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55140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08628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948200" y="6324480"/>
            <a:ext cx="4669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1512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88024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34536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01652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740720" y="144144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ec3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848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7. Техническое устройство для ввода в компьютер графических изображений с бумажного оригинал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83080" y="14400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483080" y="19288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483080" y="241776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483080" y="290664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483080" y="339408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483080" y="388296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483080" y="4370400"/>
            <a:ext cx="465120" cy="4888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483080" y="4859280"/>
            <a:ext cx="465120" cy="487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83080" y="534816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483080" y="5837400"/>
            <a:ext cx="465120" cy="487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483080" y="6324480"/>
            <a:ext cx="465120" cy="489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016520" y="1440000"/>
            <a:ext cx="46656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5514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0862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61936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15280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687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482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41656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88168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346800" y="1440000"/>
            <a:ext cx="4669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1372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278840" y="144000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016520" y="1928880"/>
            <a:ext cx="46656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5514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0862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193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15280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8768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22076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5564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948200" y="1928880"/>
            <a:ext cx="4669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16560" y="1928880"/>
            <a:ext cx="465120" cy="48744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01652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55140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9482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41656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88168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46800" y="2417760"/>
            <a:ext cx="4669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1372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78840" y="2417760"/>
            <a:ext cx="46512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743960" y="2417760"/>
            <a:ext cx="466560" cy="488880"/>
          </a:xfrm>
          <a:prstGeom prst="rect">
            <a:avLst/>
          </a:prstGeom>
          <a:solidFill>
            <a:srgbClr val="7e9ce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016520" y="2906640"/>
            <a:ext cx="46656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9482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41656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88168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346800" y="2906640"/>
            <a:ext cx="4669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1372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78840" y="2906640"/>
            <a:ext cx="465120" cy="487440"/>
          </a:xfrm>
          <a:prstGeom prst="rect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01652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4820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1656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8816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348240" y="3394080"/>
            <a:ext cx="4669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81372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280280" y="3394080"/>
            <a:ext cx="46512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743960" y="3394080"/>
            <a:ext cx="466560" cy="488880"/>
          </a:xfrm>
          <a:prstGeom prst="rect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016520" y="3882960"/>
            <a:ext cx="46656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55140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0862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61936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48200" y="3882960"/>
            <a:ext cx="4669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41656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881680" y="3882960"/>
            <a:ext cx="465120" cy="48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016520" y="4370400"/>
            <a:ext cx="46656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55140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48200" y="4370400"/>
            <a:ext cx="4669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41656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881680" y="4370400"/>
            <a:ext cx="465120" cy="488880"/>
          </a:xfrm>
          <a:prstGeom prst="rect">
            <a:avLst/>
          </a:prstGeom>
          <a:solidFill>
            <a:srgbClr val="cc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01652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5514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0862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61936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15280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8137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3468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88168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41656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948200" y="4859280"/>
            <a:ext cx="4669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821052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743960" y="4859280"/>
            <a:ext cx="46656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78840" y="4859280"/>
            <a:ext cx="465120" cy="48744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016520" y="5348160"/>
            <a:ext cx="46656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9482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41656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88168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346800" y="5348160"/>
            <a:ext cx="4669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813720" y="5348160"/>
            <a:ext cx="465120" cy="489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61936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15424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68912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222200" y="5837400"/>
            <a:ext cx="4669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016520" y="5837400"/>
            <a:ext cx="46656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5140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086280" y="5837400"/>
            <a:ext cx="465120" cy="48708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948200" y="6324480"/>
            <a:ext cx="4669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41512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880240" y="6324480"/>
            <a:ext cx="46512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34536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016520" y="6324480"/>
            <a:ext cx="466560" cy="4892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740720" y="1441440"/>
            <a:ext cx="465120" cy="4888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4:48:49Z</dcterms:created>
  <dc:creator>Programmer</dc:creator>
  <dc:description/>
  <dc:language>en-US</dc:language>
  <cp:lastModifiedBy>user</cp:lastModifiedBy>
  <dcterms:modified xsi:type="dcterms:W3CDTF">2010-12-08T15:49:58Z</dcterms:modified>
  <cp:revision>31</cp:revision>
  <dc:subject/>
  <dc:title>Слайд 1</dc:title>
</cp:coreProperties>
</file>