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0e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6" descr="Obl_U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16" descr="page_Info"/>
          <p:cNvPicPr/>
          <p:nvPr/>
        </p:nvPicPr>
        <p:blipFill>
          <a:blip r:embed="rId2"/>
          <a:stretch/>
        </p:blipFill>
        <p:spPr>
          <a:xfrm>
            <a:off x="-3240" y="-9360"/>
            <a:ext cx="9150480" cy="6876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87320" y="3038400"/>
            <a:ext cx="772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Impact"/>
              </a:rPr>
              <a:t>«Около ЕГЭ»,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Impact"/>
              </a:rPr>
              <a:t>            </a:t>
            </a:r>
            <a:r>
              <a:rPr b="0" lang="ru-RU" sz="3200" spc="-1" strike="noStrike">
                <a:solidFill>
                  <a:srgbClr val="0000ff"/>
                </a:solidFill>
                <a:latin typeface="Impact"/>
              </a:rPr>
              <a:t>или Несколько слов об А1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76800" y="4905360"/>
            <a:ext cx="3629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Богомолова О.Б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Усенков Д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Задача </a:t>
            </a: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1268280"/>
            <a:ext cx="201600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знаков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в алфави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484360" y="1268280"/>
            <a:ext cx="79236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8160" y="1628640"/>
            <a:ext cx="933480" cy="57636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2276640"/>
            <a:ext cx="201600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циф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84360" y="2276640"/>
            <a:ext cx="79236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08360" y="1413000"/>
            <a:ext cx="2519280" cy="503280"/>
          </a:xfrm>
          <a:prstGeom prst="wedgeRoundRectCallout">
            <a:avLst>
              <a:gd name="adj1" fmla="val -72245"/>
              <a:gd name="adj2" fmla="val -11199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Десять циф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278160" y="2205000"/>
            <a:ext cx="933480" cy="43200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11640" y="1698480"/>
            <a:ext cx="2016000" cy="10828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Варианты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номеров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из 3 циф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27640" y="1698480"/>
            <a:ext cx="1081080" cy="1082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000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  <a:ea typeface="Arial"/>
              </a:rPr>
              <a:t>–</a:t>
            </a:r>
            <a:br>
              <a:rPr sz="2400"/>
            </a:b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2997360"/>
            <a:ext cx="3024360" cy="2232000"/>
          </a:xfrm>
          <a:prstGeom prst="wedgeRoundRectCallout">
            <a:avLst>
              <a:gd name="adj1" fmla="val 17189"/>
              <a:gd name="adj2" fmla="val -67069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. Все такие числа </a:t>
            </a:r>
            <a:br>
              <a:rPr sz="1800"/>
            </a:b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   различ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. Содержат 3 цифры </a:t>
            </a:r>
            <a:br>
              <a:rPr sz="1800"/>
            </a:b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   из 10 возм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3. Все возможные </a:t>
            </a:r>
            <a:br>
              <a:rPr sz="1800"/>
            </a:b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   комбинации цифр</a:t>
            </a:r>
            <a:br>
              <a:rPr sz="1800"/>
            </a:b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   по 3 из 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63640" y="2781360"/>
            <a:ext cx="3816360" cy="1152360"/>
          </a:xfrm>
          <a:custGeom>
            <a:avLst/>
            <a:gdLst/>
            <a:ahLst/>
            <a:rect l="l" t="t" r="r" b="b"/>
            <a:pathLst>
              <a:path w="2812" h="227">
                <a:moveTo>
                  <a:pt x="2812" y="0"/>
                </a:moveTo>
                <a:lnTo>
                  <a:pt x="2812" y="91"/>
                </a:lnTo>
                <a:lnTo>
                  <a:pt x="0" y="91"/>
                </a:lnTo>
                <a:lnTo>
                  <a:pt x="0" y="227"/>
                </a:lnTo>
              </a:path>
            </a:pathLst>
          </a:custGeom>
          <a:noFill/>
          <a:ln w="28440">
            <a:solidFill>
              <a:srgbClr val="00008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3933720"/>
            <a:ext cx="201600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таких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номер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84360" y="3933720"/>
            <a:ext cx="79236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95640" y="4076640"/>
            <a:ext cx="1441440" cy="576360"/>
          </a:xfrm>
          <a:prstGeom prst="rightArrow">
            <a:avLst>
              <a:gd name="adj1" fmla="val 50000"/>
              <a:gd name="adj2" fmla="val 625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Задача </a:t>
            </a: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2708280"/>
            <a:ext cx="201600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Требуемое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номер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84360" y="2708280"/>
            <a:ext cx="122400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0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08360" y="3068640"/>
            <a:ext cx="8636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143640" y="159300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2346480"/>
            <a:ext cx="2016000" cy="15141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На каждый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номер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из цифр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требуется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ариантов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из бук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88000" y="2346480"/>
            <a:ext cx="1584360" cy="15141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16720" y="3932280"/>
            <a:ext cx="1441440" cy="720720"/>
          </a:xfrm>
          <a:prstGeom prst="wedgeRoundRectCallout">
            <a:avLst>
              <a:gd name="adj1" fmla="val 14865"/>
              <a:gd name="adj2" fmla="val -142731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Arial"/>
              </a:rPr>
              <a:t>1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667640" y="4292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Задача </a:t>
            </a: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143280" y="1161000"/>
            <a:ext cx="1008360" cy="93672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95280" y="2349360"/>
          <a:ext cx="8424720" cy="2698920"/>
        </p:xfrm>
        <a:graphic>
          <a:graphicData uri="http://schemas.openxmlformats.org/drawingml/2006/table">
            <a:tbl>
              <a:tblPr/>
              <a:tblGrid>
                <a:gridCol w="2106720"/>
                <a:gridCol w="2106360"/>
                <a:gridCol w="2105280"/>
                <a:gridCol w="2106360"/>
              </a:tblGrid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чисел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 5 циф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мента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…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Мал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6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 … 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1 = 25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Ма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 … 4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1 = 125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66"/>
                          </a:solidFill>
                          <a:latin typeface="Calibri"/>
                        </a:rPr>
                        <a:t>Достаточ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 flipV="1">
            <a:off x="7812000" y="5228640"/>
            <a:ext cx="1008000" cy="936360"/>
          </a:xfrm>
          <a:custGeom>
            <a:avLst/>
            <a:gdLst>
              <a:gd name="textAreaLeft" fmla="*/ 0 w 1008000"/>
              <a:gd name="textAreaRight" fmla="*/ 1008360 w 1008000"/>
              <a:gd name="textAreaTop" fmla="*/ -360 h 936360"/>
              <a:gd name="textAreaBottom" fmla="*/ 9363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0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500"/>
                            </p:stCondLst>
                            <p:childTnLst>
                              <p:par>
                                <p:cTn id="1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Задача </a:t>
            </a: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5400000">
            <a:off x="143280" y="1161000"/>
            <a:ext cx="1008360" cy="93672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2205000"/>
            <a:ext cx="201600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знаков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в алфави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84360" y="2205000"/>
            <a:ext cx="79236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8160" y="2565360"/>
            <a:ext cx="933480" cy="57636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8360" y="3213000"/>
            <a:ext cx="201600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бук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84360" y="3213000"/>
            <a:ext cx="79236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08360" y="2349360"/>
            <a:ext cx="2519280" cy="503280"/>
          </a:xfrm>
          <a:prstGeom prst="wedgeRoundRectCallout">
            <a:avLst>
              <a:gd name="adj1" fmla="val -72245"/>
              <a:gd name="adj2" fmla="val -11199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Пять бук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278160" y="3141360"/>
            <a:ext cx="933480" cy="43164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1640" y="2635200"/>
            <a:ext cx="2016000" cy="10828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вариантов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из 3 бук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227640" y="2635200"/>
            <a:ext cx="1081080" cy="1082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63640" y="3718080"/>
            <a:ext cx="3816360" cy="1152360"/>
          </a:xfrm>
          <a:custGeom>
            <a:avLst/>
            <a:gdLst/>
            <a:ahLst/>
            <a:rect l="l" t="t" r="r" b="b"/>
            <a:pathLst>
              <a:path w="2812" h="227">
                <a:moveTo>
                  <a:pt x="2812" y="0"/>
                </a:moveTo>
                <a:lnTo>
                  <a:pt x="2812" y="91"/>
                </a:lnTo>
                <a:lnTo>
                  <a:pt x="0" y="91"/>
                </a:lnTo>
                <a:lnTo>
                  <a:pt x="0" y="227"/>
                </a:lnTo>
              </a:path>
            </a:pathLst>
          </a:custGeom>
          <a:noFill/>
          <a:ln w="28440">
            <a:solidFill>
              <a:srgbClr val="00008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8360" y="4870440"/>
            <a:ext cx="2016000" cy="107964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Общее кол-во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вариан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84360" y="4870440"/>
            <a:ext cx="2232000" cy="10796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000 </a:t>
            </a:r>
            <a:r>
              <a:rPr b="1" lang="en-US" sz="2400" spc="-1" strike="noStrike">
                <a:solidFill>
                  <a:srgbClr val="339966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125 = </a:t>
            </a:r>
            <a:br>
              <a:rPr sz="2400"/>
            </a:b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= 125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932360" y="5229360"/>
            <a:ext cx="1727280" cy="503280"/>
          </a:xfrm>
          <a:prstGeom prst="wedgeRoundRectCallout">
            <a:avLst>
              <a:gd name="adj1" fmla="val -82444"/>
              <a:gd name="adj2" fmla="val -11199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&gt; 1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67280" y="544500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9966"/>
                </a:solidFill>
                <a:uFillTx/>
                <a:latin typeface="Impact"/>
              </a:rPr>
              <a:t>Ответ: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Impact"/>
              </a:rPr>
              <a:t>  </a:t>
            </a:r>
            <a:r>
              <a:rPr b="0" lang="en-US" sz="2400" spc="-1" strike="noStrike" u="sng">
                <a:solidFill>
                  <a:srgbClr val="1f497d"/>
                </a:solidFill>
                <a:uFillTx/>
                <a:latin typeface="Impact"/>
              </a:rPr>
              <a:t>3 </a:t>
            </a:r>
            <a:r>
              <a:rPr b="0" lang="ru-RU" sz="2400" spc="-1" strike="noStrike" u="sng">
                <a:solidFill>
                  <a:srgbClr val="1f497d"/>
                </a:solidFill>
                <a:uFillTx/>
                <a:latin typeface="Impact"/>
              </a:rPr>
              <a:t>(букв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500"/>
                            </p:stCondLst>
                            <p:childTnLst>
                              <p:par>
                                <p:cTn id="1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9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0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1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1125360"/>
            <a:ext cx="2052720" cy="7891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ол-во знаков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 алфавите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2205000"/>
            <a:ext cx="2052720" cy="7891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ол-во бит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на один знак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1125360"/>
            <a:ext cx="2052720" cy="7891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ол-во знаков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 алфавите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2205000"/>
            <a:ext cx="2052720" cy="7891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ол-во бит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на один знак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72360" y="1125360"/>
            <a:ext cx="2052360" cy="7891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ол-во знаков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 алфавите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2360" y="2205000"/>
            <a:ext cx="2052360" cy="7891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ол-во бит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на один знак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1197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48360" y="23241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1917720"/>
            <a:ext cx="0" cy="28728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1917720"/>
            <a:ext cx="0" cy="28728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80360" y="1917720"/>
            <a:ext cx="0" cy="28728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284640"/>
            <a:ext cx="2052720" cy="43344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ол-во знаков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3284640"/>
            <a:ext cx="2052720" cy="43344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ол-во знаков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2360" y="3284640"/>
            <a:ext cx="2052360" cy="43344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ол-во знаков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8360" y="321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2997360"/>
            <a:ext cx="0" cy="28728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2997360"/>
            <a:ext cx="0" cy="28728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80360" y="2997360"/>
            <a:ext cx="0" cy="28728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4008600"/>
            <a:ext cx="7991280" cy="5014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ол-во битов на запись =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Symbol"/>
                <a:ea typeface="Symbol"/>
              </a:rPr>
              <a:t>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ол-во знаков </a:t>
            </a: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Symbol"/>
                <a:ea typeface="Symbol"/>
              </a:rPr>
              <a:t>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кол-во бит на знак </a:t>
            </a: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3718080"/>
            <a:ext cx="3166920" cy="28728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24360" y="3718080"/>
            <a:ext cx="718920" cy="28728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716360" y="3718080"/>
            <a:ext cx="2735280" cy="28728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4797360"/>
            <a:ext cx="2052360" cy="576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Arial"/>
              </a:rPr>
              <a:t>Целых б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4510080"/>
            <a:ext cx="0" cy="28728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4797360"/>
            <a:ext cx="2521080" cy="576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+ доп. 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5086440"/>
            <a:ext cx="2872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1640" y="4797360"/>
            <a:ext cx="2808000" cy="576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ол-во запи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62560" y="5086440"/>
            <a:ext cx="2872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5664240"/>
            <a:ext cx="7991280" cy="5014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f497d"/>
                </a:solidFill>
                <a:uFillTx/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5373720"/>
            <a:ext cx="0" cy="28728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Общая схема решения задач А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5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ч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268280"/>
            <a:ext cx="237492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знаков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в алфави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43280" y="1268280"/>
            <a:ext cx="79200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4720" y="1413000"/>
            <a:ext cx="2735280" cy="503280"/>
          </a:xfrm>
          <a:prstGeom prst="wedgeRoundRectCallout">
            <a:avLst>
              <a:gd name="adj1" fmla="val -81050"/>
              <a:gd name="adj2" fmla="val -11199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6 букв + 10 циф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1268280"/>
            <a:ext cx="237492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Битов на зн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34200" y="1268280"/>
            <a:ext cx="79236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1628640"/>
            <a:ext cx="122400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2421000"/>
            <a:ext cx="4751640" cy="792000"/>
          </a:xfrm>
          <a:prstGeom prst="wedgeRoundRectCallout">
            <a:avLst>
              <a:gd name="adj1" fmla="val 32425"/>
              <a:gd name="adj2" fmla="val -120342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5 бит: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2</a:t>
            </a:r>
            <a:r>
              <a:rPr b="1" lang="en-US" sz="1800" spc="-1" strike="noStrike" baseline="30000">
                <a:solidFill>
                  <a:srgbClr val="ff66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= 32 символа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мало)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6 бит: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2</a:t>
            </a:r>
            <a:r>
              <a:rPr b="1" lang="en-US" sz="1800" spc="-1" strike="noStrike" baseline="30000">
                <a:solidFill>
                  <a:srgbClr val="ff66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= 64 символа </a:t>
            </a: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(достаточ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421000"/>
            <a:ext cx="237492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знаков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в запи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2421000"/>
            <a:ext cx="79200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2060640"/>
            <a:ext cx="4464360" cy="360360"/>
          </a:xfrm>
          <a:custGeom>
            <a:avLst/>
            <a:gdLst/>
            <a:ahLst/>
            <a:rect l="l" t="t" r="r" b="b"/>
            <a:pathLst>
              <a:path w="2812" h="227">
                <a:moveTo>
                  <a:pt x="2812" y="0"/>
                </a:moveTo>
                <a:lnTo>
                  <a:pt x="2812" y="91"/>
                </a:lnTo>
                <a:lnTo>
                  <a:pt x="0" y="91"/>
                </a:lnTo>
                <a:lnTo>
                  <a:pt x="0" y="227"/>
                </a:lnTo>
              </a:path>
            </a:pathLst>
          </a:custGeom>
          <a:noFill/>
          <a:ln w="28440">
            <a:solidFill>
              <a:srgbClr val="00008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2781360"/>
            <a:ext cx="122400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421000"/>
            <a:ext cx="237492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Битов на зап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4200" y="2421000"/>
            <a:ext cx="79236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3500280"/>
            <a:ext cx="1582920" cy="505080"/>
          </a:xfrm>
          <a:prstGeom prst="wedgeRoundRectCallout">
            <a:avLst>
              <a:gd name="adj1" fmla="val 20009"/>
              <a:gd name="adj2" fmla="val -160379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6 </a:t>
            </a:r>
            <a:r>
              <a:rPr b="1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8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3213000"/>
            <a:ext cx="4464360" cy="360360"/>
          </a:xfrm>
          <a:custGeom>
            <a:avLst/>
            <a:gdLst/>
            <a:ahLst/>
            <a:rect l="l" t="t" r="r" b="b"/>
            <a:pathLst>
              <a:path w="2812" h="227">
                <a:moveTo>
                  <a:pt x="2812" y="0"/>
                </a:moveTo>
                <a:lnTo>
                  <a:pt x="2812" y="91"/>
                </a:lnTo>
                <a:lnTo>
                  <a:pt x="0" y="91"/>
                </a:lnTo>
                <a:lnTo>
                  <a:pt x="0" y="227"/>
                </a:lnTo>
              </a:path>
            </a:pathLst>
          </a:custGeom>
          <a:noFill/>
          <a:ln w="28440">
            <a:solidFill>
              <a:srgbClr val="00008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3573360"/>
            <a:ext cx="237492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Arial"/>
              </a:rPr>
              <a:t>Целых бай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43280" y="3573360"/>
            <a:ext cx="79200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3933720"/>
            <a:ext cx="122400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3573360"/>
            <a:ext cx="237492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запис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34200" y="3573360"/>
            <a:ext cx="79236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8000" y="4365720"/>
            <a:ext cx="4464360" cy="360360"/>
          </a:xfrm>
          <a:custGeom>
            <a:avLst/>
            <a:gdLst/>
            <a:ahLst/>
            <a:rect l="l" t="t" r="r" b="b"/>
            <a:pathLst>
              <a:path w="2812" h="227">
                <a:moveTo>
                  <a:pt x="2812" y="0"/>
                </a:moveTo>
                <a:lnTo>
                  <a:pt x="2812" y="91"/>
                </a:lnTo>
                <a:lnTo>
                  <a:pt x="0" y="91"/>
                </a:lnTo>
                <a:lnTo>
                  <a:pt x="0" y="227"/>
                </a:lnTo>
              </a:path>
            </a:pathLst>
          </a:custGeom>
          <a:noFill/>
          <a:ln w="28440">
            <a:solidFill>
              <a:srgbClr val="00008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4724280"/>
            <a:ext cx="237492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байтов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на все запи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3280" y="4724280"/>
            <a:ext cx="79200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4941720"/>
            <a:ext cx="1512720" cy="503280"/>
          </a:xfrm>
          <a:prstGeom prst="wedgeRoundRectCallout">
            <a:avLst>
              <a:gd name="adj1" fmla="val -106138"/>
              <a:gd name="adj2" fmla="val -25393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6 </a:t>
            </a:r>
            <a:r>
              <a:rPr b="1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49165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9966"/>
                </a:solidFill>
                <a:uFillTx/>
                <a:latin typeface="Impact"/>
              </a:rPr>
              <a:t>Ответ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Impact"/>
              </a:rPr>
              <a:t>  </a:t>
            </a:r>
            <a:r>
              <a:rPr b="0" lang="en-US" sz="2400" spc="-1" strike="noStrike" u="sng">
                <a:solidFill>
                  <a:srgbClr val="1f497d"/>
                </a:solidFill>
                <a:uFillTx/>
                <a:latin typeface="Impact"/>
              </a:rPr>
              <a:t>6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ч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268280"/>
            <a:ext cx="201600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знаков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в алфавите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1268280"/>
            <a:ext cx="79236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1440" y="1268280"/>
            <a:ext cx="201456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Битов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на знак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(1)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1268280"/>
            <a:ext cx="79200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8160" y="1628640"/>
            <a:ext cx="5018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25800" y="2421000"/>
            <a:ext cx="3022560" cy="503280"/>
          </a:xfrm>
          <a:prstGeom prst="wedgeRoundRectCallout">
            <a:avLst>
              <a:gd name="adj1" fmla="val 24736"/>
              <a:gd name="adj2" fmla="val -160726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5 бит: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2</a:t>
            </a:r>
            <a:r>
              <a:rPr b="1" lang="en-US" sz="1800" spc="-1" strike="noStrike" baseline="30000">
                <a:solidFill>
                  <a:srgbClr val="ff66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= 32 симв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1413000"/>
            <a:ext cx="1224000" cy="503280"/>
          </a:xfrm>
          <a:prstGeom prst="wedgeRoundRectCallout">
            <a:avLst>
              <a:gd name="adj1" fmla="val -95782"/>
              <a:gd name="adj2" fmla="val -11199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2060640"/>
            <a:ext cx="3095640" cy="360360"/>
          </a:xfrm>
          <a:custGeom>
            <a:avLst/>
            <a:gdLst/>
            <a:ahLst/>
            <a:rect l="l" t="t" r="r" b="b"/>
            <a:pathLst>
              <a:path w="2812" h="227">
                <a:moveTo>
                  <a:pt x="2812" y="0"/>
                </a:moveTo>
                <a:lnTo>
                  <a:pt x="2812" y="91"/>
                </a:lnTo>
                <a:lnTo>
                  <a:pt x="0" y="91"/>
                </a:lnTo>
                <a:lnTo>
                  <a:pt x="0" y="227"/>
                </a:lnTo>
              </a:path>
            </a:pathLst>
          </a:custGeom>
          <a:noFill/>
          <a:ln w="28440">
            <a:solidFill>
              <a:srgbClr val="00008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2421000"/>
            <a:ext cx="201600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знаков 1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в запи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2421000"/>
            <a:ext cx="79236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2637000"/>
            <a:ext cx="1224000" cy="502920"/>
          </a:xfrm>
          <a:prstGeom prst="wedgeRoundRectCallout">
            <a:avLst>
              <a:gd name="adj1" fmla="val -95782"/>
              <a:gd name="adj2" fmla="val -11199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8160" y="2781360"/>
            <a:ext cx="5018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80000" y="2421000"/>
            <a:ext cx="201600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битов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на знаки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6000" y="2421000"/>
            <a:ext cx="79200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3429000"/>
            <a:ext cx="936360" cy="503280"/>
          </a:xfrm>
          <a:prstGeom prst="wedgeRoundRectCallout">
            <a:avLst>
              <a:gd name="adj1" fmla="val 22203"/>
              <a:gd name="adj2" fmla="val -146527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3716280"/>
            <a:ext cx="201600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знаков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в алфавите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84360" y="3716280"/>
            <a:ext cx="79236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1440" y="3716280"/>
            <a:ext cx="201456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Битов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на знак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6000" y="3716280"/>
            <a:ext cx="79200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8160" y="4076640"/>
            <a:ext cx="5018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08360" y="4869000"/>
            <a:ext cx="3240000" cy="503280"/>
          </a:xfrm>
          <a:prstGeom prst="wedgeRoundRectCallout">
            <a:avLst>
              <a:gd name="adj1" fmla="val 26435"/>
              <a:gd name="adj2" fmla="val -160726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4 бита: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2</a:t>
            </a:r>
            <a:r>
              <a:rPr b="1" lang="en-US" sz="1800" spc="-1" strike="noStrike" baseline="30000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= 16 симв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08360" y="3860640"/>
            <a:ext cx="1224000" cy="503280"/>
          </a:xfrm>
          <a:prstGeom prst="wedgeRoundRectCallout">
            <a:avLst>
              <a:gd name="adj1" fmla="val -95782"/>
              <a:gd name="adj2" fmla="val -11199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8000" y="4508640"/>
            <a:ext cx="3095640" cy="360360"/>
          </a:xfrm>
          <a:custGeom>
            <a:avLst/>
            <a:gdLst/>
            <a:ahLst/>
            <a:rect l="l" t="t" r="r" b="b"/>
            <a:pathLst>
              <a:path w="2812" h="227">
                <a:moveTo>
                  <a:pt x="2812" y="0"/>
                </a:moveTo>
                <a:lnTo>
                  <a:pt x="2812" y="91"/>
                </a:lnTo>
                <a:lnTo>
                  <a:pt x="0" y="91"/>
                </a:lnTo>
                <a:lnTo>
                  <a:pt x="0" y="227"/>
                </a:lnTo>
              </a:path>
            </a:pathLst>
          </a:custGeom>
          <a:noFill/>
          <a:ln w="28440">
            <a:solidFill>
              <a:srgbClr val="00008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869000"/>
            <a:ext cx="201600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знаков 2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в запи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4869000"/>
            <a:ext cx="79236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08360" y="5084640"/>
            <a:ext cx="1368360" cy="503280"/>
          </a:xfrm>
          <a:prstGeom prst="wedgeRoundRectCallout">
            <a:avLst>
              <a:gd name="adj1" fmla="val -90949"/>
              <a:gd name="adj2" fmla="val -11199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8160" y="5229360"/>
            <a:ext cx="5018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80000" y="4869000"/>
            <a:ext cx="201600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битов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на знаки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96000" y="4869000"/>
            <a:ext cx="79200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08720" y="5877000"/>
            <a:ext cx="936360" cy="503280"/>
          </a:xfrm>
          <a:prstGeom prst="wedgeRoundRectCallout">
            <a:avLst>
              <a:gd name="adj1" fmla="val 22203"/>
              <a:gd name="adj2" fmla="val -146527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48360" y="3068640"/>
            <a:ext cx="201636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Symbol"/>
                <a:ea typeface="Symbol"/>
              </a:rPr>
              <a:t>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би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8360" y="3860640"/>
            <a:ext cx="201636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5 + 16 =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2781360"/>
            <a:ext cx="360360" cy="71892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588000" y="3573360"/>
            <a:ext cx="360360" cy="165600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885080" y="472428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ч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276640"/>
            <a:ext cx="201600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Symbol"/>
                <a:ea typeface="Symbol"/>
              </a:rPr>
              <a:t>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би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84360" y="2276640"/>
            <a:ext cx="79236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1440" y="2276640"/>
            <a:ext cx="201456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Arial"/>
              </a:rPr>
              <a:t>Целых байтов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на зап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96000" y="2276640"/>
            <a:ext cx="79200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8160" y="2637000"/>
            <a:ext cx="5018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429000"/>
            <a:ext cx="3022560" cy="503280"/>
          </a:xfrm>
          <a:prstGeom prst="wedgeRoundRectCallout">
            <a:avLst>
              <a:gd name="adj1" fmla="val 24736"/>
              <a:gd name="adj2" fmla="val -132018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4 байта </a:t>
            </a:r>
            <a:r>
              <a:rPr b="1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8 = 32 б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8000" y="3068640"/>
            <a:ext cx="3095640" cy="360360"/>
          </a:xfrm>
          <a:custGeom>
            <a:avLst/>
            <a:gdLst/>
            <a:ahLst/>
            <a:rect l="l" t="t" r="r" b="b"/>
            <a:pathLst>
              <a:path w="2812" h="227">
                <a:moveTo>
                  <a:pt x="2812" y="0"/>
                </a:moveTo>
                <a:lnTo>
                  <a:pt x="2812" y="91"/>
                </a:lnTo>
                <a:lnTo>
                  <a:pt x="0" y="91"/>
                </a:lnTo>
                <a:lnTo>
                  <a:pt x="0" y="227"/>
                </a:lnTo>
              </a:path>
            </a:pathLst>
          </a:custGeom>
          <a:noFill/>
          <a:ln w="28440">
            <a:solidFill>
              <a:srgbClr val="00008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143280" y="1161000"/>
            <a:ext cx="1008360" cy="93672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3429000"/>
            <a:ext cx="201600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запис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3429000"/>
            <a:ext cx="79236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8160" y="3789360"/>
            <a:ext cx="5018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81440" y="3429000"/>
            <a:ext cx="201456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байтов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на все запи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96000" y="3429000"/>
            <a:ext cx="79200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35640" y="4437000"/>
            <a:ext cx="1222200" cy="503280"/>
          </a:xfrm>
          <a:prstGeom prst="wedgeRoundRectCallout">
            <a:avLst>
              <a:gd name="adj1" fmla="val 11166"/>
              <a:gd name="adj2" fmla="val -132018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Symbol"/>
                <a:ea typeface="Symbol"/>
              </a:rPr>
              <a:t>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52293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9966"/>
                </a:solidFill>
                <a:uFillTx/>
                <a:latin typeface="Impact"/>
              </a:rPr>
              <a:t>Ответ: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Impact"/>
              </a:rPr>
              <a:t>  </a:t>
            </a:r>
            <a:r>
              <a:rPr b="0" lang="en-US" sz="2400" spc="-1" strike="noStrike" u="sng">
                <a:solidFill>
                  <a:srgbClr val="1f497d"/>
                </a:solidFill>
                <a:uFillTx/>
                <a:latin typeface="Impact"/>
              </a:rPr>
              <a:t>800</a:t>
            </a:r>
            <a:r>
              <a:rPr b="0" lang="ru-RU" sz="2400" spc="-1" strike="noStrike" u="sng">
                <a:solidFill>
                  <a:srgbClr val="1f497d"/>
                </a:solidFill>
                <a:uFillTx/>
                <a:latin typeface="Impac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Задача </a:t>
            </a: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268280"/>
            <a:ext cx="201600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знаков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в алфавите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84360" y="1268280"/>
            <a:ext cx="79236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81440" y="1268280"/>
            <a:ext cx="201456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Битов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на знак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(1)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000" y="1268280"/>
            <a:ext cx="79200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8160" y="1628640"/>
            <a:ext cx="5018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25800" y="2421000"/>
            <a:ext cx="3022560" cy="503280"/>
          </a:xfrm>
          <a:prstGeom prst="wedgeRoundRectCallout">
            <a:avLst>
              <a:gd name="adj1" fmla="val 24736"/>
              <a:gd name="adj2" fmla="val -160726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5 бит: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2</a:t>
            </a:r>
            <a:r>
              <a:rPr b="1" lang="en-US" sz="1800" spc="-1" strike="noStrike" baseline="30000">
                <a:solidFill>
                  <a:srgbClr val="ff66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= 32 симв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08360" y="1413000"/>
            <a:ext cx="1224000" cy="503280"/>
          </a:xfrm>
          <a:prstGeom prst="wedgeRoundRectCallout">
            <a:avLst>
              <a:gd name="adj1" fmla="val -95782"/>
              <a:gd name="adj2" fmla="val -11199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2060640"/>
            <a:ext cx="3095640" cy="360360"/>
          </a:xfrm>
          <a:custGeom>
            <a:avLst/>
            <a:gdLst/>
            <a:ahLst/>
            <a:rect l="l" t="t" r="r" b="b"/>
            <a:pathLst>
              <a:path w="2812" h="227">
                <a:moveTo>
                  <a:pt x="2812" y="0"/>
                </a:moveTo>
                <a:lnTo>
                  <a:pt x="2812" y="91"/>
                </a:lnTo>
                <a:lnTo>
                  <a:pt x="0" y="91"/>
                </a:lnTo>
                <a:lnTo>
                  <a:pt x="0" y="227"/>
                </a:lnTo>
              </a:path>
            </a:pathLst>
          </a:custGeom>
          <a:noFill/>
          <a:ln w="28440">
            <a:solidFill>
              <a:srgbClr val="00008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2421000"/>
            <a:ext cx="201600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знаков 1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в запи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2421000"/>
            <a:ext cx="79236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08360" y="2637000"/>
            <a:ext cx="1224000" cy="502920"/>
          </a:xfrm>
          <a:prstGeom prst="wedgeRoundRectCallout">
            <a:avLst>
              <a:gd name="adj1" fmla="val -95782"/>
              <a:gd name="adj2" fmla="val -11199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78160" y="2781360"/>
            <a:ext cx="5018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2421000"/>
            <a:ext cx="201600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битов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на знаки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6000" y="2421000"/>
            <a:ext cx="79200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08720" y="3429000"/>
            <a:ext cx="936360" cy="503280"/>
          </a:xfrm>
          <a:prstGeom prst="wedgeRoundRectCallout">
            <a:avLst>
              <a:gd name="adj1" fmla="val 22203"/>
              <a:gd name="adj2" fmla="val -146527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3716280"/>
            <a:ext cx="201600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знаков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в алфавите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84360" y="3716280"/>
            <a:ext cx="79236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81440" y="3716280"/>
            <a:ext cx="201456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Битов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на знак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96000" y="3716280"/>
            <a:ext cx="79200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78160" y="4076640"/>
            <a:ext cx="5018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08360" y="4869000"/>
            <a:ext cx="3240000" cy="503280"/>
          </a:xfrm>
          <a:prstGeom prst="wedgeRoundRectCallout">
            <a:avLst>
              <a:gd name="adj1" fmla="val 26435"/>
              <a:gd name="adj2" fmla="val -160726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4 бита: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2</a:t>
            </a:r>
            <a:r>
              <a:rPr b="1" lang="en-US" sz="1800" spc="-1" strike="noStrike" baseline="30000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= 16 симв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3860640"/>
            <a:ext cx="1224000" cy="503280"/>
          </a:xfrm>
          <a:prstGeom prst="wedgeRoundRectCallout">
            <a:avLst>
              <a:gd name="adj1" fmla="val -95782"/>
              <a:gd name="adj2" fmla="val -11199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4508640"/>
            <a:ext cx="3095640" cy="360360"/>
          </a:xfrm>
          <a:custGeom>
            <a:avLst/>
            <a:gdLst/>
            <a:ahLst/>
            <a:rect l="l" t="t" r="r" b="b"/>
            <a:pathLst>
              <a:path w="2812" h="227">
                <a:moveTo>
                  <a:pt x="2812" y="0"/>
                </a:moveTo>
                <a:lnTo>
                  <a:pt x="2812" y="91"/>
                </a:lnTo>
                <a:lnTo>
                  <a:pt x="0" y="91"/>
                </a:lnTo>
                <a:lnTo>
                  <a:pt x="0" y="227"/>
                </a:lnTo>
              </a:path>
            </a:pathLst>
          </a:custGeom>
          <a:noFill/>
          <a:ln w="28440">
            <a:solidFill>
              <a:srgbClr val="00008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4869000"/>
            <a:ext cx="201600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знаков 2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в запи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84360" y="4869000"/>
            <a:ext cx="79236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08360" y="5084640"/>
            <a:ext cx="1368360" cy="503280"/>
          </a:xfrm>
          <a:prstGeom prst="wedgeRoundRectCallout">
            <a:avLst>
              <a:gd name="adj1" fmla="val -90949"/>
              <a:gd name="adj2" fmla="val -11199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8160" y="5229360"/>
            <a:ext cx="5018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80000" y="4869000"/>
            <a:ext cx="201600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битов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на знаки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6000" y="4869000"/>
            <a:ext cx="79200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08720" y="5877000"/>
            <a:ext cx="936360" cy="503280"/>
          </a:xfrm>
          <a:prstGeom prst="wedgeRoundRectCallout">
            <a:avLst>
              <a:gd name="adj1" fmla="val 22203"/>
              <a:gd name="adj2" fmla="val -146527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48360" y="3068640"/>
            <a:ext cx="201636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Symbol"/>
                <a:ea typeface="Symbol"/>
              </a:rPr>
              <a:t>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би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48360" y="3860640"/>
            <a:ext cx="201636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5 + 16 =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8000" y="2781360"/>
            <a:ext cx="360360" cy="71892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588000" y="3573360"/>
            <a:ext cx="360360" cy="165600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885080" y="472428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0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500"/>
                            </p:stCondLst>
                            <p:childTnLst>
                              <p:par>
                                <p:cTn id="6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5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Impact"/>
              </a:rPr>
              <a:t>Задача </a:t>
            </a: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2276640"/>
            <a:ext cx="201600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Symbol"/>
                <a:ea typeface="Symbol"/>
              </a:rPr>
              <a:t>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би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84360" y="2276640"/>
            <a:ext cx="79236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81440" y="2276640"/>
            <a:ext cx="201456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+ доп. инф-ция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(б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6000" y="2276640"/>
            <a:ext cx="79200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8160" y="2637000"/>
            <a:ext cx="5018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3068640"/>
            <a:ext cx="3095640" cy="360360"/>
          </a:xfrm>
          <a:custGeom>
            <a:avLst/>
            <a:gdLst/>
            <a:ahLst/>
            <a:rect l="l" t="t" r="r" b="b"/>
            <a:pathLst>
              <a:path w="2812" h="227">
                <a:moveTo>
                  <a:pt x="2812" y="0"/>
                </a:moveTo>
                <a:lnTo>
                  <a:pt x="2812" y="91"/>
                </a:lnTo>
                <a:lnTo>
                  <a:pt x="0" y="91"/>
                </a:lnTo>
                <a:lnTo>
                  <a:pt x="0" y="227"/>
                </a:lnTo>
              </a:path>
            </a:pathLst>
          </a:custGeom>
          <a:noFill/>
          <a:ln w="28440">
            <a:solidFill>
              <a:srgbClr val="00008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143280" y="1161000"/>
            <a:ext cx="1008360" cy="93672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3429000"/>
            <a:ext cx="201600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Всего бит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на зап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84360" y="3429000"/>
            <a:ext cx="79236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8160" y="3789360"/>
            <a:ext cx="5018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81440" y="3429000"/>
            <a:ext cx="201456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Arial"/>
              </a:rPr>
              <a:t>Целых байтов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на зап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3429000"/>
            <a:ext cx="79200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4437000"/>
            <a:ext cx="2881080" cy="503280"/>
          </a:xfrm>
          <a:prstGeom prst="wedgeRoundRectCallout">
            <a:avLst>
              <a:gd name="adj1" fmla="val 23444"/>
              <a:gd name="adj2" fmla="val -132018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1 байт </a:t>
            </a:r>
            <a:r>
              <a:rPr b="1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8 = 88 би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03640" y="558972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9966"/>
                </a:solidFill>
                <a:uFillTx/>
                <a:latin typeface="Impact"/>
              </a:rPr>
              <a:t>Ответ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Impact"/>
              </a:rPr>
              <a:t>  </a:t>
            </a:r>
            <a:r>
              <a:rPr b="0" lang="en-US" sz="2400" spc="-1" strike="noStrike" u="sng">
                <a:solidFill>
                  <a:srgbClr val="1f497d"/>
                </a:solidFill>
                <a:uFillTx/>
                <a:latin typeface="Impact"/>
              </a:rPr>
              <a:t>5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08000" y="4221000"/>
            <a:ext cx="3095640" cy="360360"/>
          </a:xfrm>
          <a:custGeom>
            <a:avLst/>
            <a:gdLst/>
            <a:ahLst/>
            <a:rect l="l" t="t" r="r" b="b"/>
            <a:pathLst>
              <a:path w="2812" h="227">
                <a:moveTo>
                  <a:pt x="2812" y="0"/>
                </a:moveTo>
                <a:lnTo>
                  <a:pt x="2812" y="91"/>
                </a:lnTo>
                <a:lnTo>
                  <a:pt x="0" y="91"/>
                </a:lnTo>
                <a:lnTo>
                  <a:pt x="0" y="227"/>
                </a:lnTo>
              </a:path>
            </a:pathLst>
          </a:custGeom>
          <a:noFill/>
          <a:ln w="28440">
            <a:solidFill>
              <a:srgbClr val="00008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4581360"/>
            <a:ext cx="201600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запис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4360" y="4581360"/>
            <a:ext cx="79236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8160" y="4941720"/>
            <a:ext cx="5018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81440" y="4581360"/>
            <a:ext cx="201456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ол-во байтов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на все запи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4581360"/>
            <a:ext cx="79200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35640" y="5589720"/>
            <a:ext cx="1222200" cy="503280"/>
          </a:xfrm>
          <a:prstGeom prst="wedgeRoundRectCallout">
            <a:avLst>
              <a:gd name="adj1" fmla="val 11166"/>
              <a:gd name="adj2" fmla="val -132018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Symbol"/>
                <a:ea typeface="Symbol"/>
              </a:rPr>
              <a:t>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940"/>
                            </p:stCondLst>
                            <p:childTnLst>
                              <p:par>
                                <p:cTn id="8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44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940"/>
                            </p:stCondLst>
                            <p:childTnLst>
                              <p:par>
                                <p:cTn id="8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ча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1268280"/>
            <a:ext cx="201600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Диапазон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чисе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84360" y="1268280"/>
            <a:ext cx="79236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… </a:t>
            </a:r>
            <a:br>
              <a:rPr sz="2400"/>
            </a:b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8160" y="1628640"/>
            <a:ext cx="5018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08360" y="1413000"/>
            <a:ext cx="2519280" cy="503280"/>
          </a:xfrm>
          <a:prstGeom prst="wedgeRoundRectCallout">
            <a:avLst>
              <a:gd name="adj1" fmla="val -72245"/>
              <a:gd name="adj2" fmla="val -11199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Десятич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08000" y="2060640"/>
            <a:ext cx="3095640" cy="360360"/>
          </a:xfrm>
          <a:custGeom>
            <a:avLst/>
            <a:gdLst/>
            <a:ahLst/>
            <a:rect l="l" t="t" r="r" b="b"/>
            <a:pathLst>
              <a:path w="2812" h="227">
                <a:moveTo>
                  <a:pt x="2812" y="0"/>
                </a:moveTo>
                <a:lnTo>
                  <a:pt x="2812" y="91"/>
                </a:lnTo>
                <a:lnTo>
                  <a:pt x="0" y="91"/>
                </a:lnTo>
                <a:lnTo>
                  <a:pt x="0" y="227"/>
                </a:lnTo>
              </a:path>
            </a:pathLst>
          </a:custGeom>
          <a:noFill/>
          <a:ln w="28440">
            <a:solidFill>
              <a:srgbClr val="00008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81440" y="1268280"/>
            <a:ext cx="201456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Битов на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идентифика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96000" y="1268280"/>
            <a:ext cx="79200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24360" y="2421000"/>
            <a:ext cx="1440000" cy="503280"/>
          </a:xfrm>
          <a:prstGeom prst="wedgeRoundRectCallout">
            <a:avLst>
              <a:gd name="adj1" fmla="val -18027"/>
              <a:gd name="adj2" fmla="val -160726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ff66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= 1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2421000"/>
            <a:ext cx="201600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учеников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в коман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84360" y="2421000"/>
            <a:ext cx="79236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78160" y="2781360"/>
            <a:ext cx="5018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81440" y="2421000"/>
            <a:ext cx="201456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Битов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на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учен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96000" y="2421000"/>
            <a:ext cx="79200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339966"/>
                </a:solidFill>
                <a:latin typeface="Symbol"/>
                <a:ea typeface="Symbol"/>
              </a:rPr>
              <a:t>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3213000"/>
            <a:ext cx="3095640" cy="360360"/>
          </a:xfrm>
          <a:custGeom>
            <a:avLst/>
            <a:gdLst/>
            <a:ahLst/>
            <a:rect l="l" t="t" r="r" b="b"/>
            <a:pathLst>
              <a:path w="2812" h="227">
                <a:moveTo>
                  <a:pt x="2812" y="0"/>
                </a:moveTo>
                <a:lnTo>
                  <a:pt x="2812" y="91"/>
                </a:lnTo>
                <a:lnTo>
                  <a:pt x="0" y="91"/>
                </a:lnTo>
                <a:lnTo>
                  <a:pt x="0" y="227"/>
                </a:lnTo>
              </a:path>
            </a:pathLst>
          </a:custGeom>
          <a:noFill/>
          <a:ln w="28440">
            <a:solidFill>
              <a:srgbClr val="00008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3573360"/>
            <a:ext cx="201600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Всего битов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на коман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4360" y="3573360"/>
            <a:ext cx="158292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339966"/>
                </a:solidFill>
                <a:latin typeface="Symbol"/>
                <a:ea typeface="Symbol"/>
              </a:rPr>
              <a:t>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8360" y="4653000"/>
            <a:ext cx="201600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Кол-во запис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84360" y="4653000"/>
            <a:ext cx="79236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5445000"/>
            <a:ext cx="201456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Байтов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на все запи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84360" y="5445000"/>
            <a:ext cx="79236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78160" y="5445000"/>
            <a:ext cx="5018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5013360"/>
            <a:ext cx="201600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Байтов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на одну зап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96000" y="5013360"/>
            <a:ext cx="792000" cy="792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04000" y="5157720"/>
            <a:ext cx="1152720" cy="503280"/>
          </a:xfrm>
          <a:prstGeom prst="wedgeRoundRectCallout">
            <a:avLst>
              <a:gd name="adj1" fmla="val -91324"/>
              <a:gd name="adj2" fmla="val -17824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80 /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3429000"/>
            <a:ext cx="1441440" cy="576360"/>
          </a:xfrm>
          <a:prstGeom prst="rightArrow">
            <a:avLst>
              <a:gd name="adj1" fmla="val 50000"/>
              <a:gd name="adj2" fmla="val 625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500"/>
                            </p:stCondLst>
                            <p:childTnLst>
                              <p:par>
                                <p:cTn id="8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000"/>
                            </p:stCondLst>
                            <p:childTnLst>
                              <p:par>
                                <p:cTn id="8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500"/>
                            </p:stCondLst>
                            <p:childTnLst>
                              <p:par>
                                <p:cTn id="8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50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635280" y="450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Impact"/>
              </a:rPr>
              <a:t>Задача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5400000">
            <a:off x="143280" y="1161000"/>
            <a:ext cx="1008360" cy="93672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26920" y="2205000"/>
            <a:ext cx="252108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339966"/>
                </a:solidFill>
                <a:latin typeface="Symbol"/>
                <a:ea typeface="Symbol"/>
              </a:rPr>
              <a:t>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+ 8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= 7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27280" y="1557360"/>
            <a:ext cx="1440000" cy="503280"/>
          </a:xfrm>
          <a:prstGeom prst="wedgeRoundRectCallout">
            <a:avLst>
              <a:gd name="adj1" fmla="val -37541"/>
              <a:gd name="adj2" fmla="val 137064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9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байт </a:t>
            </a:r>
            <a:r>
              <a:rPr b="1" lang="ru-RU" sz="1800" spc="-1" strike="noStrike">
                <a:solidFill>
                  <a:srgbClr val="ff6600"/>
                </a:solidFill>
                <a:latin typeface="Symbol"/>
                <a:ea typeface="Symbol"/>
              </a:rPr>
              <a:t>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49800" y="2565360"/>
            <a:ext cx="5014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51280" y="2205000"/>
            <a:ext cx="100800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59280" y="2205000"/>
            <a:ext cx="79236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76720" y="1557360"/>
            <a:ext cx="2735280" cy="503280"/>
          </a:xfrm>
          <a:prstGeom prst="wedgeRoundRectCallout">
            <a:avLst>
              <a:gd name="adj1" fmla="val -43439"/>
              <a:gd name="adj2" fmla="val 137064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НЕ ЦЕЛОЕ ЧИСЛ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268000" y="2997360"/>
            <a:ext cx="2303640" cy="50292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26920" y="3500280"/>
            <a:ext cx="201636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Если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X = 7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43280" y="3500280"/>
            <a:ext cx="79200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71640" y="4581360"/>
            <a:ext cx="1513080" cy="503280"/>
          </a:xfrm>
          <a:prstGeom prst="wedgeRoundRectCallout">
            <a:avLst>
              <a:gd name="adj1" fmla="val -19569"/>
              <a:gd name="adj2" fmla="val -160726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0 </a:t>
            </a:r>
            <a:r>
              <a:rPr b="1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7 +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2997360"/>
            <a:ext cx="2016000" cy="50292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46560" y="3500280"/>
            <a:ext cx="2016360" cy="792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Если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X = 6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62920" y="3500280"/>
            <a:ext cx="792000" cy="792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91280" y="4581360"/>
            <a:ext cx="1513080" cy="503280"/>
          </a:xfrm>
          <a:prstGeom prst="wedgeRoundRectCallout">
            <a:avLst>
              <a:gd name="adj1" fmla="val -19569"/>
              <a:gd name="adj2" fmla="val -160726"/>
              <a:gd name="adj3" fmla="val 16667"/>
            </a:avLst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0 </a:t>
            </a:r>
            <a:r>
              <a:rPr b="1" lang="ru-RU" sz="1800" spc="-1" strike="noStrike">
                <a:solidFill>
                  <a:srgbClr val="ff6600"/>
                </a:solidFill>
                <a:latin typeface="Symbol"/>
                <a:ea typeface="Symbol"/>
              </a:rPr>
              <a:t>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+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7640" y="3645000"/>
            <a:ext cx="504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79640" y="4653000"/>
            <a:ext cx="3095640" cy="503280"/>
          </a:xfrm>
          <a:prstGeom prst="wedgeRoundRectCallout">
            <a:avLst>
              <a:gd name="adj1" fmla="val -8768"/>
              <a:gd name="adj2" fmla="val -157884"/>
              <a:gd name="adj3" fmla="val 16667"/>
            </a:avLst>
          </a:prstGeom>
          <a:solidFill>
            <a:srgbClr val="ffe1f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ЛИШКОМ МНОГ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08720" y="364500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51640" y="4653000"/>
            <a:ext cx="3095640" cy="503280"/>
          </a:xfrm>
          <a:prstGeom prst="wedgeRoundRectCallout">
            <a:avLst>
              <a:gd name="adj1" fmla="val 12203"/>
              <a:gd name="adj2" fmla="val -157884"/>
              <a:gd name="adj3" fmla="val 16667"/>
            </a:avLst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УМЕЩАЕТСЯ В 9 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84720" y="54450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9966"/>
                </a:solidFill>
                <a:uFillTx/>
                <a:latin typeface="Impact"/>
              </a:rPr>
              <a:t>Ответ: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Impact"/>
              </a:rPr>
              <a:t>  </a:t>
            </a:r>
            <a:r>
              <a:rPr b="0" i="1" lang="en-US" sz="2400" spc="-1" strike="noStrike" u="sng">
                <a:solidFill>
                  <a:srgbClr val="ff3300"/>
                </a:solidFill>
                <a:uFillTx/>
                <a:latin typeface="Impact"/>
              </a:rPr>
              <a:t>X</a:t>
            </a:r>
            <a:r>
              <a:rPr b="0" lang="en-US" sz="2400" spc="-1" strike="noStrike" u="sng">
                <a:solidFill>
                  <a:srgbClr val="1f497d"/>
                </a:solidFill>
                <a:uFillTx/>
                <a:latin typeface="Impact"/>
              </a:rPr>
              <a:t> = </a:t>
            </a:r>
            <a:r>
              <a:rPr b="0" lang="ru-RU" sz="2400" spc="-1" strike="noStrike" u="sng">
                <a:solidFill>
                  <a:srgbClr val="1f497d"/>
                </a:solidFill>
                <a:uFillTx/>
                <a:latin typeface="Impact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0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"/>
                            </p:stCondLst>
                            <p:childTnLst>
                              <p:par>
                                <p:cTn id="10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REW</cp:lastModifiedBy>
  <dcterms:modified xsi:type="dcterms:W3CDTF">2013-12-22T12:04:08Z</dcterms:modified>
  <cp:revision>68</cp:revision>
  <dc:subject/>
  <dc:title>Презентация PowerPoint</dc:title>
</cp:coreProperties>
</file>