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0e1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6" descr="Obl_Unfo"/>
          <p:cNvPicPr/>
          <p:nvPr/>
        </p:nvPicPr>
        <p:blipFill>
          <a:blip r:embed="rId2"/>
          <a:stretch/>
        </p:blipFill>
        <p:spPr>
          <a:xfrm>
            <a:off x="-3240" y="-9360"/>
            <a:ext cx="9150480" cy="687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Прямоугольник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Picture 16" descr="page_Info"/>
          <p:cNvPicPr/>
          <p:nvPr/>
        </p:nvPicPr>
        <p:blipFill>
          <a:blip r:embed="rId2"/>
          <a:stretch/>
        </p:blipFill>
        <p:spPr>
          <a:xfrm>
            <a:off x="-3240" y="-9360"/>
            <a:ext cx="9150480" cy="68767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87320" y="3038400"/>
            <a:ext cx="772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Impact"/>
              </a:rPr>
              <a:t>Японский уго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962760" y="4176720"/>
            <a:ext cx="1701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5360" y="2084400"/>
            <a:ext cx="3838680" cy="351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60920" y="2084400"/>
            <a:ext cx="3838680" cy="351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42696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Impact"/>
              </a:rPr>
              <a:t>Два суд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6600" y="1392120"/>
            <a:ext cx="17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Arial"/>
              </a:rPr>
              <a:t>Прос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72160" y="1392120"/>
            <a:ext cx="17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Слож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36600" y="2195640"/>
          <a:ext cx="3603240" cy="3286080"/>
        </p:xfrm>
        <a:graphic>
          <a:graphicData uri="http://schemas.openxmlformats.org/drawingml/2006/table">
            <a:tbl>
              <a:tblPr/>
              <a:tblGrid>
                <a:gridCol w="399960"/>
                <a:gridCol w="400320"/>
                <a:gridCol w="400320"/>
                <a:gridCol w="401040"/>
                <a:gridCol w="400320"/>
                <a:gridCol w="400320"/>
                <a:gridCol w="400320"/>
                <a:gridCol w="400320"/>
                <a:gridCol w="400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772160" y="2195640"/>
          <a:ext cx="3633120" cy="3286080"/>
        </p:xfrm>
        <a:graphic>
          <a:graphicData uri="http://schemas.openxmlformats.org/drawingml/2006/table">
            <a:tbl>
              <a:tblPr/>
              <a:tblGrid>
                <a:gridCol w="403560"/>
                <a:gridCol w="403560"/>
                <a:gridCol w="403560"/>
                <a:gridCol w="404280"/>
                <a:gridCol w="403560"/>
                <a:gridCol w="403560"/>
                <a:gridCol w="403920"/>
                <a:gridCol w="403560"/>
                <a:gridCol w="403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35280" y="42696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Impact"/>
              </a:rPr>
              <a:t>Судоку без циф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6600" y="1138320"/>
            <a:ext cx="862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робуйте расставить все блоки, показанные на правом рисунке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левом так, чтобы форма блоков совпадала и при этом соблюдались правила «классического» судоку (в каждом столбце, в каждой строк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 каждом квадратике 3 × 3 цифры не должны повторятьс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2529000"/>
            <a:ext cx="729756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REW</cp:lastModifiedBy>
  <dcterms:modified xsi:type="dcterms:W3CDTF">2013-12-14T17:19:24Z</dcterms:modified>
  <cp:revision>105</cp:revision>
  <dc:subject/>
  <dc:title>Презентация PowerPoint</dc:title>
</cp:coreProperties>
</file>