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Obl_U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6" descr="page_I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7320" y="3038400"/>
            <a:ext cx="772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Impact"/>
              </a:rPr>
              <a:t>Построение графиков функций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Impact"/>
              </a:rPr>
              <a:t>в полярных координат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905360"/>
            <a:ext cx="40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Альберт Михайл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 гимназии № 1530 г. Москвы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Этапы  построения  графиков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в  полярных  координ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341360"/>
            <a:ext cx="7772400" cy="4496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1. Инициализация графического реж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2. Цикл для углов от 0 до 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2.1. Пересчет значения угла в ради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2.2. Расчет значения 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2.3. Определение декартовых координат 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2.4. Рисование точки с координатами 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онец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еременные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в  программе  на  Паск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040" y="1459080"/>
            <a:ext cx="849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angle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угол между полярной осью и прямой,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         соединяющей полюс и данную точку,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         в градусах (φ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9966"/>
                </a:solidFill>
                <a:latin typeface="Arial"/>
              </a:rPr>
              <a:t>R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значение расстояния до полю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rad </a:t>
            </a:r>
            <a:r>
              <a:rPr b="0" i="1" lang="en-US" sz="2400" spc="-1" strike="noStrike">
                <a:solidFill>
                  <a:srgbClr val="3399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угол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angle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, выраженный  в радианах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(360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º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= 2π радиа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декартовы координаты, соответствующ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лученным поляр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35280" y="4348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ересчет  значений 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3040" y="1154160"/>
            <a:ext cx="849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1. Значения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in()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os()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лежат в интервале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1,1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–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нужно использовать коэффициент масштабирования,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равный 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100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3040" y="2355840"/>
            <a:ext cx="849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2. Пересчет из математической декартовой системы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   координат в систему координат экр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92200" y="3502080"/>
            <a:ext cx="3624120" cy="2319120"/>
            <a:chOff x="592200" y="3502080"/>
            <a:chExt cx="3624120" cy="2319120"/>
          </a:xfrm>
        </p:grpSpPr>
        <p:sp>
          <p:nvSpPr>
            <p:cNvPr id="88" name=""/>
            <p:cNvSpPr/>
            <p:nvPr/>
          </p:nvSpPr>
          <p:spPr>
            <a:xfrm>
              <a:off x="592200" y="3502080"/>
              <a:ext cx="3624120" cy="23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6280" y="3666960"/>
              <a:ext cx="1403280" cy="49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66"/>
                  </a:solidFill>
                  <a:latin typeface="Arial"/>
                </a:rPr>
                <a:t>Экра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66"/>
                  </a:solidFill>
                  <a:latin typeface="Arial"/>
                </a:rPr>
                <a:t>координ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5400" y="4281480"/>
              <a:ext cx="198360" cy="33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9966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79800" y="3585960"/>
              <a:ext cx="288720" cy="57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9966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3240" y="3533760"/>
              <a:ext cx="174312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9720" y="3533760"/>
              <a:ext cx="0" cy="9950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28760" y="5126040"/>
              <a:ext cx="13255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46400" y="4495680"/>
              <a:ext cx="0" cy="610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13120" y="4386240"/>
              <a:ext cx="1983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71760" y="4495680"/>
              <a:ext cx="1501920" cy="49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Декартовы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координ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86160" y="5087880"/>
              <a:ext cx="2649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506840" y="3267000"/>
            <a:ext cx="2610000" cy="4446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Графический реж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24760" y="3267000"/>
            <a:ext cx="1280880" cy="444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640</a:t>
            </a:r>
            <a:r>
              <a:rPr b="1" lang="en-US" sz="2000" spc="-1" strike="noStrike">
                <a:solidFill>
                  <a:srgbClr val="339966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6840" y="3828960"/>
            <a:ext cx="2610000" cy="4446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чало ко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24760" y="3828960"/>
            <a:ext cx="1280880" cy="444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6840" y="4390920"/>
            <a:ext cx="2610000" cy="4446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ходится на экра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6840" y="5451480"/>
            <a:ext cx="3898800" cy="6699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= r ×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s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× </a:t>
            </a: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10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20;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240 – </a:t>
            </a: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10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sin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12280" y="3267000"/>
            <a:ext cx="0" cy="1040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6840" y="4975200"/>
            <a:ext cx="3898800" cy="4446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Формулы перес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24760" y="4390920"/>
            <a:ext cx="1280880" cy="444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320</a:t>
            </a:r>
            <a:r>
              <a:rPr b="1" lang="ru-RU" sz="2000" spc="-1" strike="noStrike">
                <a:solidFill>
                  <a:srgbClr val="339966"/>
                </a:solidFill>
                <a:latin typeface="Arial"/>
              </a:rPr>
              <a:t>,2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12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62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12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62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12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62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12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62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12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62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5280" y="5400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Программа  для  построения 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графика  функции 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R</a:t>
            </a:r>
            <a:r>
              <a:rPr b="0" i="1" lang="ru-RU" sz="2400" spc="-1" strike="noStrike">
                <a:solidFill>
                  <a:srgbClr val="1f497d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=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sin</a:t>
            </a: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(6φ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112760"/>
            <a:ext cx="8736120" cy="4967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Uses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Graph, CRT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angle, gd, gm: integer; R, rad, x, y: real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EGIN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gd := detect; 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{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Инициация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графического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режима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}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initgraph(gd, gm, ' ')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angle := 0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359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 Begin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{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Цикл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для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всех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углов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   rad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:= 2 *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Pi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angle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/360;    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{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Градусы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в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радианы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}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R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:=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sin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(6 *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rad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);              {Расчет значения </a:t>
            </a:r>
            <a:r>
              <a:rPr b="0" i="1" lang="en-US" sz="2000" spc="-1" strike="noStrike">
                <a:solidFill>
                  <a:srgbClr val="0000ff"/>
                </a:solidFill>
                <a:latin typeface="Courier New"/>
              </a:rPr>
              <a:t>R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} 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x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:=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R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cos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rad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) * 100 + 320; {Расчет декартовых } 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y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:= 240 – 100 *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R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sin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rad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); {     координат    } 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PutPixel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Trunc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x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),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Trunc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y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), 1)     {Точка графика} 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</a:rPr>
              <a:t>Е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nd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peat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</a:rPr>
              <a:t>         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{Приостановка до нажатия любой клавиши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Until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Keypressed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Close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0" lang="ru-RU" sz="20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35280" y="5400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Графики 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функции 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R</a:t>
            </a:r>
            <a:r>
              <a:rPr b="0" i="1" lang="ru-RU" sz="2400" spc="-1" strike="noStrike">
                <a:solidFill>
                  <a:srgbClr val="1f497d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=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sin</a:t>
            </a: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(6φ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1360" y="1154160"/>
            <a:ext cx="452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Графики функции </a:t>
            </a:r>
            <a:br>
              <a:rPr sz="2400"/>
            </a:b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R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in(6</a:t>
            </a:r>
            <a:r>
              <a:rPr b="0" lang="en-US" sz="2400" spc="-1" strike="noStrike">
                <a:solidFill>
                  <a:srgbClr val="1f497d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)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 дополнительными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оэффициентами </a:t>
            </a:r>
            <a:br>
              <a:rPr sz="2400"/>
            </a:br>
            <a:r>
              <a:rPr b="0" i="1" lang="en-US" sz="2400" spc="-1" strike="noStrike">
                <a:solidFill>
                  <a:srgbClr val="339966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1360" y="3135240"/>
            <a:ext cx="3683160" cy="6699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= R ×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s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ad × </a:t>
            </a:r>
            <a:r>
              <a:rPr b="1" i="1" lang="en-US" sz="1800" spc="-1" strike="noStrike">
                <a:solidFill>
                  <a:srgbClr val="339966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100 + 3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240 – 100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 ×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sin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086360" y="1133640"/>
            <a:ext cx="4986360" cy="48560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graphicFrame>
        <p:nvGraphicFramePr>
          <p:cNvPr id="114" name=""/>
          <p:cNvGraphicFramePr/>
          <p:nvPr/>
        </p:nvGraphicFramePr>
        <p:xfrm>
          <a:off x="171360" y="3962520"/>
          <a:ext cx="3683160" cy="2133360"/>
        </p:xfrm>
        <a:graphic>
          <a:graphicData uri="http://schemas.openxmlformats.org/drawingml/2006/table">
            <a:tbl>
              <a:tblPr/>
              <a:tblGrid>
                <a:gridCol w="614520"/>
                <a:gridCol w="612720"/>
                <a:gridCol w="614520"/>
                <a:gridCol w="614160"/>
                <a:gridCol w="612720"/>
                <a:gridCol w="614520"/>
              </a:tblGrid>
              <a:tr h="3070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48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98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48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5280" y="10152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 самостоятельной 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760" y="1268280"/>
            <a:ext cx="850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спользуя те же значения коэффициентов 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a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, получите графики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1) 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in(5</a:t>
            </a:r>
            <a:r>
              <a:rPr b="0" lang="en-US" sz="2400" spc="-1" strike="noStrike">
                <a:solidFill>
                  <a:srgbClr val="1f497d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2) 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in(8</a:t>
            </a:r>
            <a:r>
              <a:rPr b="0" lang="en-US" sz="2400" spc="-1" strike="noStrike">
                <a:solidFill>
                  <a:srgbClr val="1f497d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REW</cp:lastModifiedBy>
  <dcterms:modified xsi:type="dcterms:W3CDTF">2013-12-13T18:14:58Z</dcterms:modified>
  <cp:revision>80</cp:revision>
  <dc:subject/>
  <dc:title>Презентация PowerPoint</dc:title>
</cp:coreProperties>
</file>