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0e1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6" descr="Obl_Unfo"/>
          <p:cNvPicPr/>
          <p:nvPr/>
        </p:nvPicPr>
        <p:blipFill>
          <a:blip r:embed="rId2"/>
          <a:stretch/>
        </p:blipFill>
        <p:spPr>
          <a:xfrm>
            <a:off x="-3240" y="-9360"/>
            <a:ext cx="9150480" cy="687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Прямоугольник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Picture 16" descr="page_Info"/>
          <p:cNvPicPr/>
          <p:nvPr/>
        </p:nvPicPr>
        <p:blipFill>
          <a:blip r:embed="rId2"/>
          <a:stretch/>
        </p:blipFill>
        <p:spPr>
          <a:xfrm>
            <a:off x="-3240" y="-9360"/>
            <a:ext cx="9150480" cy="687672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5.png"/><Relationship Id="rId1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87320" y="3038400"/>
            <a:ext cx="772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Impact"/>
              </a:rPr>
              <a:t>В мир информа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259680" y="4905360"/>
            <a:ext cx="254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87320" y="4029120"/>
            <a:ext cx="772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 Black"/>
              </a:rPr>
              <a:t>Лишний солдат и бидоны с мёд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3478320" y="4400640"/>
            <a:ext cx="3432240" cy="1681200"/>
            <a:chOff x="3478320" y="4400640"/>
            <a:chExt cx="3432240" cy="1681200"/>
          </a:xfrm>
        </p:grpSpPr>
        <p:grpSp>
          <p:nvGrpSpPr>
            <p:cNvPr id="82" name=""/>
            <p:cNvGrpSpPr/>
            <p:nvPr/>
          </p:nvGrpSpPr>
          <p:grpSpPr>
            <a:xfrm>
              <a:off x="3800520" y="4716360"/>
              <a:ext cx="2787840" cy="243000"/>
              <a:chOff x="3800520" y="4716360"/>
              <a:chExt cx="2787840" cy="243000"/>
            </a:xfrm>
          </p:grpSpPr>
          <p:sp>
            <p:nvSpPr>
              <p:cNvPr id="83" name=""/>
              <p:cNvSpPr/>
              <p:nvPr/>
            </p:nvSpPr>
            <p:spPr>
              <a:xfrm>
                <a:off x="3800520" y="4716360"/>
                <a:ext cx="450720" cy="243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552920" y="4716360"/>
                <a:ext cx="451080" cy="243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84880" y="4716360"/>
                <a:ext cx="450720" cy="243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137280" y="4716360"/>
                <a:ext cx="451080" cy="243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3478320" y="4400640"/>
              <a:ext cx="3432240" cy="1681200"/>
              <a:chOff x="3478320" y="4400640"/>
              <a:chExt cx="3432240" cy="1681200"/>
            </a:xfrm>
          </p:grpSpPr>
          <p:pic>
            <p:nvPicPr>
              <p:cNvPr id="8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478320" y="4400640"/>
                <a:ext cx="1074600" cy="168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251240" y="4400640"/>
                <a:ext cx="1074960" cy="168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062680" y="4400640"/>
                <a:ext cx="1074600" cy="168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835600" y="4400640"/>
                <a:ext cx="1074960" cy="1681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92" name=""/>
          <p:cNvGrpSpPr/>
          <p:nvPr/>
        </p:nvGrpSpPr>
        <p:grpSpPr>
          <a:xfrm>
            <a:off x="3144960" y="4479840"/>
            <a:ext cx="3431520" cy="1681200"/>
            <a:chOff x="3144960" y="4479840"/>
            <a:chExt cx="3431520" cy="1681200"/>
          </a:xfrm>
        </p:grpSpPr>
        <p:grpSp>
          <p:nvGrpSpPr>
            <p:cNvPr id="93" name=""/>
            <p:cNvGrpSpPr/>
            <p:nvPr/>
          </p:nvGrpSpPr>
          <p:grpSpPr>
            <a:xfrm>
              <a:off x="3466800" y="4795560"/>
              <a:ext cx="2787120" cy="243000"/>
              <a:chOff x="3466800" y="4795560"/>
              <a:chExt cx="2787120" cy="243000"/>
            </a:xfrm>
          </p:grpSpPr>
          <p:sp>
            <p:nvSpPr>
              <p:cNvPr id="94" name=""/>
              <p:cNvSpPr/>
              <p:nvPr/>
            </p:nvSpPr>
            <p:spPr>
              <a:xfrm>
                <a:off x="3466800" y="4795560"/>
                <a:ext cx="450360" cy="243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218840" y="4795560"/>
                <a:ext cx="450720" cy="243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050800" y="4795560"/>
                <a:ext cx="450360" cy="243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803200" y="4795560"/>
                <a:ext cx="450720" cy="243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3144960" y="4479840"/>
              <a:ext cx="3431520" cy="1681200"/>
              <a:chOff x="3144960" y="4479840"/>
              <a:chExt cx="3431520" cy="1681200"/>
            </a:xfrm>
          </p:grpSpPr>
          <p:pic>
            <p:nvPicPr>
              <p:cNvPr id="9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144960" y="4479840"/>
                <a:ext cx="1074240" cy="168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3917520" y="4479840"/>
                <a:ext cx="1074600" cy="168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728960" y="4479840"/>
                <a:ext cx="1074240" cy="168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5501880" y="4479840"/>
                <a:ext cx="1074600" cy="1681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3" name=""/>
          <p:cNvSpPr/>
          <p:nvPr/>
        </p:nvSpPr>
        <p:spPr>
          <a:xfrm>
            <a:off x="3635280" y="69840"/>
            <a:ext cx="53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Impact"/>
              </a:rPr>
              <a:t>Задача 1. «Генерал </a:t>
            </a:r>
            <a:br>
              <a:rPr sz="2400"/>
            </a:br>
            <a:r>
              <a:rPr b="0" lang="ru-RU" sz="2400" spc="-1" strike="noStrike">
                <a:solidFill>
                  <a:srgbClr val="1f497d"/>
                </a:solidFill>
                <a:latin typeface="Impact"/>
              </a:rPr>
              <a:t>и рядовой Байтико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760" y="1249200"/>
            <a:ext cx="8643960" cy="29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нерал построил солдат в колонну по 4, при этом только рядовой Байтиков остался один в шеренге. Тогда генерал построил солдат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олонну по 5, и снова один Байтиков остался лишним. Когда же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олонне по 6 опять только Байтиков остался один, генерал посулил ему наряд на уборку территории вне очереди, после чего в колонне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7 Байтиков нашел себе место в шеренге с другими, и никого лишнего не осталос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ое наименьшее  количество солдат могло быть у генерала? Известно, что искомое количество не более 350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9"/>
          <a:stretch/>
        </p:blipFill>
        <p:spPr>
          <a:xfrm>
            <a:off x="1179360" y="4479840"/>
            <a:ext cx="1401840" cy="2055960"/>
          </a:xfrm>
          <a:prstGeom prst="rect">
            <a:avLst/>
          </a:prstGeom>
          <a:ln w="0">
            <a:noFill/>
          </a:ln>
        </p:spPr>
      </p:pic>
      <p:grpSp>
        <p:nvGrpSpPr>
          <p:cNvPr id="106" name=""/>
          <p:cNvGrpSpPr/>
          <p:nvPr/>
        </p:nvGrpSpPr>
        <p:grpSpPr>
          <a:xfrm>
            <a:off x="2822400" y="4683240"/>
            <a:ext cx="3432240" cy="1681200"/>
            <a:chOff x="2822400" y="4683240"/>
            <a:chExt cx="3432240" cy="1681200"/>
          </a:xfrm>
        </p:grpSpPr>
        <p:grpSp>
          <p:nvGrpSpPr>
            <p:cNvPr id="107" name=""/>
            <p:cNvGrpSpPr/>
            <p:nvPr/>
          </p:nvGrpSpPr>
          <p:grpSpPr>
            <a:xfrm>
              <a:off x="3144600" y="4998960"/>
              <a:ext cx="2787840" cy="243000"/>
              <a:chOff x="3144600" y="4998960"/>
              <a:chExt cx="2787840" cy="243000"/>
            </a:xfrm>
          </p:grpSpPr>
          <p:sp>
            <p:nvSpPr>
              <p:cNvPr id="108" name=""/>
              <p:cNvSpPr/>
              <p:nvPr/>
            </p:nvSpPr>
            <p:spPr>
              <a:xfrm>
                <a:off x="3144600" y="4998960"/>
                <a:ext cx="450720" cy="243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897000" y="4998960"/>
                <a:ext cx="451080" cy="243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728960" y="4998960"/>
                <a:ext cx="450720" cy="243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481360" y="4998960"/>
                <a:ext cx="451080" cy="243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2822400" y="4683240"/>
              <a:ext cx="3432240" cy="1681200"/>
              <a:chOff x="2822400" y="4683240"/>
              <a:chExt cx="3432240" cy="1681200"/>
            </a:xfrm>
          </p:grpSpPr>
          <p:pic>
            <p:nvPicPr>
              <p:cNvPr id="113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822400" y="4683240"/>
                <a:ext cx="1074600" cy="168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595320" y="4683240"/>
                <a:ext cx="1074960" cy="168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4406760" y="4683240"/>
                <a:ext cx="1074600" cy="168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5179680" y="4683240"/>
                <a:ext cx="1074960" cy="1681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17" name="" descr=""/>
          <p:cNvPicPr/>
          <p:nvPr/>
        </p:nvPicPr>
        <p:blipFill>
          <a:blip r:embed="rId14"/>
          <a:stretch/>
        </p:blipFill>
        <p:spPr>
          <a:xfrm>
            <a:off x="7132680" y="4716360"/>
            <a:ext cx="113508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635280" y="69840"/>
            <a:ext cx="53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Impact"/>
              </a:rPr>
              <a:t>Задача 1. «Генерал </a:t>
            </a:r>
            <a:br>
              <a:rPr sz="2400"/>
            </a:br>
            <a:r>
              <a:rPr b="0" lang="ru-RU" sz="2400" spc="-1" strike="noStrike">
                <a:solidFill>
                  <a:srgbClr val="1f497d"/>
                </a:solidFill>
                <a:latin typeface="Impact"/>
              </a:rPr>
              <a:t>и рядовой Байтико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0760" y="1249200"/>
            <a:ext cx="86439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решении задачи используем электронную таблицу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soft Excel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аналогичную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формим лист так, как показано на рисунк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004760" y="2546280"/>
          <a:ext cx="7324920" cy="3557520"/>
        </p:xfrm>
        <a:graphic>
          <a:graphicData uri="http://schemas.openxmlformats.org/drawingml/2006/table">
            <a:tbl>
              <a:tblPr/>
              <a:tblGrid>
                <a:gridCol w="804960"/>
                <a:gridCol w="900000"/>
                <a:gridCol w="1405080"/>
                <a:gridCol w="1405080"/>
                <a:gridCol w="1404720"/>
                <a:gridCol w="14050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바탕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바탕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바탕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바탕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바탕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바탕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바탕"/>
                        </a:rPr>
                        <a:t>Остаток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바탕"/>
                        </a:rPr>
                        <a:t>Остаток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바탕"/>
                        </a:rPr>
                        <a:t>Остаток 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바탕"/>
                        </a:rPr>
                        <a:t>Остаток 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바탕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바탕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바탕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바탕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바탕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바탕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바탕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바탕"/>
                        </a:rPr>
                        <a:t>3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바탕"/>
                        </a:rPr>
                        <a:t>3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바탕"/>
                        </a:rPr>
                        <a:t>3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바탕"/>
                        </a:rPr>
                        <a:t>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바탕"/>
                        </a:rPr>
                        <a:t>3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635280" y="69840"/>
            <a:ext cx="53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Impact"/>
              </a:rPr>
              <a:t>Задача 1. «Генерал </a:t>
            </a:r>
            <a:br>
              <a:rPr sz="2400"/>
            </a:br>
            <a:r>
              <a:rPr b="0" lang="ru-RU" sz="2400" spc="-1" strike="noStrike">
                <a:solidFill>
                  <a:srgbClr val="1f497d"/>
                </a:solidFill>
                <a:latin typeface="Impact"/>
              </a:rPr>
              <a:t>и рядовой Байтико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760" y="1249200"/>
            <a:ext cx="864396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толбц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ишем значения количества солдат, в столбцах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читаем остатки от деления того или иного количества солдат соответственно н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электронной таблиц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soft Excel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расчета остатка используется функци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ТА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в  OpenOffice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r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функци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улы в ячейках можно получить следующим образом (на примере программ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soft Exce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ячейку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2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вест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=ОСТАТ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;4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ячейку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2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вест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=ОСТАТ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;5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ячейку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вест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=ОСТАТ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;6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ячейку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2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=ОСТАТ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;7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х можно распространить (скопировать) на остальные стро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635280" y="69840"/>
            <a:ext cx="53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Impact"/>
              </a:rPr>
              <a:t>Задача 1. «Генерал </a:t>
            </a:r>
            <a:br>
              <a:rPr sz="2400"/>
            </a:br>
            <a:r>
              <a:rPr b="0" lang="ru-RU" sz="2400" spc="-1" strike="noStrike">
                <a:solidFill>
                  <a:srgbClr val="1f497d"/>
                </a:solidFill>
                <a:latin typeface="Impact"/>
              </a:rPr>
              <a:t>и рядовой Байтико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0760" y="1249200"/>
            <a:ext cx="8643960" cy="17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 можно вручную вводить только одну формул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трок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48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едует ввести числ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тогда формула в ячейк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=ОСТАТ($A2;B$29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ованы смешанны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сылки с одним символом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может быть скопирована во все остальные ячейки диапазон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2:Е347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00000" y="3036960"/>
          <a:ext cx="7338960" cy="3162240"/>
        </p:xfrm>
        <a:graphic>
          <a:graphicData uri="http://schemas.openxmlformats.org/drawingml/2006/table">
            <a:tbl>
              <a:tblPr/>
              <a:tblGrid>
                <a:gridCol w="851040"/>
                <a:gridCol w="868320"/>
                <a:gridCol w="1405080"/>
                <a:gridCol w="1404720"/>
                <a:gridCol w="1405080"/>
                <a:gridCol w="14047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바탕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바탕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바탕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바탕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바탕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바탕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바탕"/>
                        </a:rPr>
                        <a:t>Остаток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바탕"/>
                        </a:rPr>
                        <a:t>Остаток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바탕"/>
                        </a:rPr>
                        <a:t>Остаток 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바탕"/>
                        </a:rPr>
                        <a:t>Остаток 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바탕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바탕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바탕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바탕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바탕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바탕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바탕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바탕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바탕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바탕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바탕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바탕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바탕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바탕"/>
                        </a:rPr>
                        <a:t>3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바탕"/>
                        </a:rPr>
                        <a:t>3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바탕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바탕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바탕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바탕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바탕"/>
                        </a:rPr>
                        <a:t>3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바탕"/>
                        </a:rPr>
                        <a:t>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바탕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바탕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바탕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바탕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바탕"/>
                        </a:rPr>
                        <a:t>3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바탕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바탕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바탕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바탕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635280" y="69840"/>
            <a:ext cx="53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Impact"/>
              </a:rPr>
              <a:t>Задача 1. «Генерал </a:t>
            </a:r>
            <a:br>
              <a:rPr sz="2400"/>
            </a:br>
            <a:r>
              <a:rPr b="0" lang="ru-RU" sz="2400" spc="-1" strike="noStrike">
                <a:solidFill>
                  <a:srgbClr val="1f497d"/>
                </a:solidFill>
                <a:latin typeface="Impact"/>
              </a:rPr>
              <a:t>и рядовой Байтико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0760" y="1249200"/>
            <a:ext cx="8643960" cy="17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гда искомое значение будет в строке, в которой в столбцах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статки будут равны соответственно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вывода в столбц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комого значения следует использовать функци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Соответствующую формулу нужно ввести в ячейку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распространить (скопировать) ее на остальные стро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929120" y="3954600"/>
            <a:ext cx="1393920" cy="16682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635280" y="43488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Задача 2. «Бидоны с медом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0760" y="1249200"/>
            <a:ext cx="8643960" cy="26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бранный мёд заполняет несколько 50-литровых бидон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сли его разлить в 40-литровые бидоны, то понадобится на 5 бидонов больше и один из них останется неполны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сли этот мёд разлить в 70-литровые бидоны, то понадобится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 4 бидона меньше и один из них тоже останется неполны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колько 50-литровых бидонов заполняет собранный мёд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Решите задачу, используя электронную таблиц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619280" y="4321080"/>
            <a:ext cx="2260440" cy="15066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4476600" y="4557600"/>
            <a:ext cx="1393920" cy="16686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5610240" y="4557600"/>
            <a:ext cx="1393920" cy="16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REW</cp:lastModifiedBy>
  <dcterms:modified xsi:type="dcterms:W3CDTF">2013-12-19T18:39:12Z</dcterms:modified>
  <cp:revision>148</cp:revision>
  <dc:subject/>
  <dc:title>Презентация PowerPoint</dc:title>
</cp:coreProperties>
</file>