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Impact"/>
              </a:rPr>
              <a:t>Ответы, решения, разъяс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11760" y="4905360"/>
            <a:ext cx="39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задачам рубр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ир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44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ять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11040" y="1246320"/>
            <a:ext cx="853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Какую настойку Плиний Старший считал эликсиром молодост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и средством от плохого дых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Какая швея, согласно легенде, сшила первый американский фла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В каком месяце Александром Сергеевичем Пушкиным овладевал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«ужасная тоск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Кто, когда и в каком городе провел первую хирургическую операцию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под нарко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Группа 10"/>
          <p:cNvGrpSpPr/>
          <p:nvPr/>
        </p:nvGrpSpPr>
        <p:grpSpPr>
          <a:xfrm>
            <a:off x="2924280" y="3889440"/>
            <a:ext cx="3166920" cy="2414520"/>
            <a:chOff x="2924280" y="3889440"/>
            <a:chExt cx="3166920" cy="2414520"/>
          </a:xfrm>
        </p:grpSpPr>
        <p:pic>
          <p:nvPicPr>
            <p:cNvPr id="83" name="Picture 32" descr="http://www.otrcat.com/z/old-american-flag.jpg"/>
            <p:cNvPicPr/>
            <p:nvPr/>
          </p:nvPicPr>
          <p:blipFill>
            <a:blip r:embed="rId1"/>
            <a:stretch/>
          </p:blipFill>
          <p:spPr>
            <a:xfrm>
              <a:off x="2924280" y="4669920"/>
              <a:ext cx="3166920" cy="16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4" descr="http://www.stihi.ru/pics/2013/05/11/5136.jpg"/>
            <p:cNvPicPr/>
            <p:nvPr/>
          </p:nvPicPr>
          <p:blipFill>
            <a:blip r:embed="rId2"/>
            <a:stretch/>
          </p:blipFill>
          <p:spPr>
            <a:xfrm>
              <a:off x="4356360" y="3889440"/>
              <a:ext cx="113328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6" descr="http://saunaru.tomsk.ru/upload/resize_cache/iblock/efa/180_225_1742c89bd31d31e706694c01794f9666d/efa1aeebea849d608bd4bfe33018b87c.jpg"/>
            <p:cNvPicPr/>
            <p:nvPr/>
          </p:nvPicPr>
          <p:blipFill>
            <a:blip r:embed="rId3"/>
            <a:stretch/>
          </p:blipFill>
          <p:spPr>
            <a:xfrm>
              <a:off x="3349080" y="4711320"/>
              <a:ext cx="171432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60240" y="1976400"/>
            <a:ext cx="8183880" cy="1533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иний Старший считал эликсиром молодост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средством от плохого дыхания абс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0240" y="2503440"/>
            <a:ext cx="8183880" cy="1533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легенд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американский флаг сшил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вея Бетси Росс из Филадельф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0240" y="3289320"/>
            <a:ext cx="8183880" cy="1533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ом Сергеевичем Пушкины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ладевала «ужасная тоска» в мар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0240" y="4100400"/>
            <a:ext cx="8183880" cy="1533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оссии первую хирургическую операци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наркозом провел 19 февраля 1847 год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ор Иноземцев  в г. Ри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5280" y="44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11040" y="1276200"/>
            <a:ext cx="853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Автор детективных романов Татьяна Устинова всегда хотела носить туфл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на высоких каблуках, но не могла позволить себе из-за своего и так высокого роста. Однажды она стояла около прилавка с подобной обувью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и, вздыхая, жаловалась своей подруге — популярной телевизионной ведущей: «Как хочу так, но я и так выше всех!». На это от своей спутницы она услышала: «Покупай, это проблема тех, кто ниже!». С тех пор писательница носит обувь на высоких каблу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Какая телеведущая была с Т.Устиновой в магаз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Андре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Б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Малыш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В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Лаза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micrusha.ru/content/news/images/1230/images/vrednye-tufli.jpg"/>
          <p:cNvPicPr/>
          <p:nvPr/>
        </p:nvPicPr>
        <p:blipFill>
          <a:blip r:embed="rId1"/>
          <a:stretch/>
        </p:blipFill>
        <p:spPr>
          <a:xfrm>
            <a:off x="6426360" y="3790800"/>
            <a:ext cx="2717640" cy="2576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2920" y="3965400"/>
            <a:ext cx="8843760" cy="2401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утницей автора детективных романов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тьяны Устиновой в обувном магазине во время истории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 которой шла речь в вопросе, был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леведущая Елена Малышев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ариант ответа 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44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11040" y="1228680"/>
            <a:ext cx="853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Знаменитый американский кинорежиссер Фрэнсис Коппола откры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 Калифорнии весьма необычный парк. Его посетители могут не только насладиться замечательными видами, но и отведать определенный продукт местного производства. Причем в самом процессе дегустации есть определенная  «фишка»: насладиться вкусом можно только в темно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Что там пробу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Ч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  <a:ea typeface="Arial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Ко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  <a:ea typeface="Arial"/>
              </a:rPr>
              <a:t>В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marketus.ru/goods_images/RP5024_14244-6.jpg"/>
          <p:cNvPicPr/>
          <p:nvPr/>
        </p:nvPicPr>
        <p:blipFill>
          <a:blip r:embed="rId1"/>
          <a:stretch/>
        </p:blipFill>
        <p:spPr>
          <a:xfrm>
            <a:off x="6442200" y="3159000"/>
            <a:ext cx="2401920" cy="3238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content.sweetim.com/sim/cpie/emoticons/00020354.gif"/>
          <p:cNvPicPr/>
          <p:nvPr/>
        </p:nvPicPr>
        <p:blipFill>
          <a:blip r:embed="rId2"/>
          <a:stretch/>
        </p:blipFill>
        <p:spPr>
          <a:xfrm>
            <a:off x="5064120" y="4221000"/>
            <a:ext cx="1709640" cy="132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6440" y="3405240"/>
            <a:ext cx="8844120" cy="2992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арке, открытом американски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норежиссером Фрэнсисом Коппол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лифорнии, в темно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густируют вин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ариант ответа 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5280" y="44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11040" y="1212840"/>
            <a:ext cx="853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В одном из краевых центров России есть один, где не только «придумали» Бабу-Ягу, но и поставили, например, памятники Ушам, Сердц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и, что самое забавное, сантех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Что это за гор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Перм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Б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Владив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В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Хабаров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young.rzd.ru/dbmm/images/41/4080/2611843"/>
          <p:cNvPicPr/>
          <p:nvPr/>
        </p:nvPicPr>
        <p:blipFill>
          <a:blip r:embed="rId1"/>
          <a:stretch/>
        </p:blipFill>
        <p:spPr>
          <a:xfrm>
            <a:off x="3786120" y="2830680"/>
            <a:ext cx="5045040" cy="3323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0600" y="2770200"/>
            <a:ext cx="8844120" cy="360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мятник сантехнику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авлен в г. Пер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ариант ответа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5280" y="44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11040" y="1276200"/>
            <a:ext cx="853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Давно известно, что разные цвета оказывают весьма сильное влия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на ту или иную сторону нашей интеллектуальной деятельности. К примеру, один из цветов способен улучшать память и способствуют ясной мысли, помогать сконцентриро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О каком цвете идет ре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Роз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Б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Зеле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В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Желт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952880" y="2997360"/>
            <a:ext cx="4011840" cy="3097080"/>
            <a:chOff x="4952880" y="2997360"/>
            <a:chExt cx="4011840" cy="3097080"/>
          </a:xfrm>
        </p:grpSpPr>
        <p:sp>
          <p:nvSpPr>
            <p:cNvPr id="106" name=""/>
            <p:cNvSpPr/>
            <p:nvPr/>
          </p:nvSpPr>
          <p:spPr>
            <a:xfrm>
              <a:off x="6124680" y="3298680"/>
              <a:ext cx="1407960" cy="1185840"/>
            </a:xfrm>
            <a:custGeom>
              <a:avLst/>
              <a:gdLst/>
              <a:ahLst/>
              <a:rect l="l" t="t" r="r" b="b"/>
              <a:pathLst>
                <a:path w="887" h="747">
                  <a:moveTo>
                    <a:pt x="30" y="399"/>
                  </a:moveTo>
                  <a:cubicBezTo>
                    <a:pt x="60" y="351"/>
                    <a:pt x="168" y="263"/>
                    <a:pt x="222" y="226"/>
                  </a:cubicBezTo>
                  <a:cubicBezTo>
                    <a:pt x="276" y="189"/>
                    <a:pt x="329" y="197"/>
                    <a:pt x="356" y="178"/>
                  </a:cubicBezTo>
                  <a:cubicBezTo>
                    <a:pt x="383" y="159"/>
                    <a:pt x="372" y="140"/>
                    <a:pt x="385" y="111"/>
                  </a:cubicBezTo>
                  <a:cubicBezTo>
                    <a:pt x="398" y="82"/>
                    <a:pt x="419" y="10"/>
                    <a:pt x="433" y="5"/>
                  </a:cubicBezTo>
                  <a:cubicBezTo>
                    <a:pt x="447" y="0"/>
                    <a:pt x="461" y="60"/>
                    <a:pt x="472" y="82"/>
                  </a:cubicBezTo>
                  <a:cubicBezTo>
                    <a:pt x="483" y="104"/>
                    <a:pt x="489" y="121"/>
                    <a:pt x="500" y="140"/>
                  </a:cubicBezTo>
                  <a:cubicBezTo>
                    <a:pt x="511" y="159"/>
                    <a:pt x="529" y="200"/>
                    <a:pt x="539" y="197"/>
                  </a:cubicBezTo>
                  <a:cubicBezTo>
                    <a:pt x="549" y="194"/>
                    <a:pt x="547" y="142"/>
                    <a:pt x="558" y="120"/>
                  </a:cubicBezTo>
                  <a:cubicBezTo>
                    <a:pt x="569" y="98"/>
                    <a:pt x="572" y="77"/>
                    <a:pt x="606" y="63"/>
                  </a:cubicBezTo>
                  <a:cubicBezTo>
                    <a:pt x="640" y="49"/>
                    <a:pt x="714" y="10"/>
                    <a:pt x="760" y="34"/>
                  </a:cubicBezTo>
                  <a:cubicBezTo>
                    <a:pt x="806" y="58"/>
                    <a:pt x="881" y="151"/>
                    <a:pt x="884" y="207"/>
                  </a:cubicBezTo>
                  <a:cubicBezTo>
                    <a:pt x="887" y="263"/>
                    <a:pt x="801" y="329"/>
                    <a:pt x="779" y="370"/>
                  </a:cubicBezTo>
                  <a:cubicBezTo>
                    <a:pt x="757" y="411"/>
                    <a:pt x="764" y="429"/>
                    <a:pt x="750" y="456"/>
                  </a:cubicBezTo>
                  <a:cubicBezTo>
                    <a:pt x="736" y="483"/>
                    <a:pt x="698" y="507"/>
                    <a:pt x="692" y="533"/>
                  </a:cubicBezTo>
                  <a:cubicBezTo>
                    <a:pt x="686" y="559"/>
                    <a:pt x="694" y="595"/>
                    <a:pt x="712" y="610"/>
                  </a:cubicBezTo>
                  <a:cubicBezTo>
                    <a:pt x="730" y="625"/>
                    <a:pt x="790" y="604"/>
                    <a:pt x="798" y="620"/>
                  </a:cubicBezTo>
                  <a:cubicBezTo>
                    <a:pt x="806" y="636"/>
                    <a:pt x="776" y="685"/>
                    <a:pt x="760" y="706"/>
                  </a:cubicBezTo>
                  <a:cubicBezTo>
                    <a:pt x="744" y="727"/>
                    <a:pt x="729" y="741"/>
                    <a:pt x="702" y="744"/>
                  </a:cubicBezTo>
                  <a:cubicBezTo>
                    <a:pt x="675" y="747"/>
                    <a:pt x="630" y="739"/>
                    <a:pt x="596" y="725"/>
                  </a:cubicBezTo>
                  <a:cubicBezTo>
                    <a:pt x="562" y="711"/>
                    <a:pt x="556" y="672"/>
                    <a:pt x="500" y="658"/>
                  </a:cubicBezTo>
                  <a:cubicBezTo>
                    <a:pt x="444" y="644"/>
                    <a:pt x="337" y="663"/>
                    <a:pt x="260" y="639"/>
                  </a:cubicBezTo>
                  <a:cubicBezTo>
                    <a:pt x="183" y="615"/>
                    <a:pt x="77" y="560"/>
                    <a:pt x="40" y="514"/>
                  </a:cubicBezTo>
                  <a:cubicBezTo>
                    <a:pt x="3" y="468"/>
                    <a:pt x="0" y="447"/>
                    <a:pt x="30" y="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2" descr="http://sveti-juraj.org/duga%20golub.jpg"/>
            <p:cNvPicPr/>
            <p:nvPr/>
          </p:nvPicPr>
          <p:blipFill>
            <a:blip r:embed="rId1"/>
            <a:stretch/>
          </p:blipFill>
          <p:spPr>
            <a:xfrm>
              <a:off x="4952880" y="2997360"/>
              <a:ext cx="4011840" cy="30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174600" y="3203640"/>
            <a:ext cx="8844120" cy="3109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читается, что именно желтый цвет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ен улучшать память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способствует ясной мысли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могает сконцентрироваться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ариант ответа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5280" y="44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ля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11040" y="1276200"/>
            <a:ext cx="853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В одном из популярных австралийских торговых центров недавно появилась весьма необычная гардеробная. Для ее оформления специально пригласили «скульптора по еде» из Великобритании. «Вкусное творение» художника должно было привлечь в магазин как можно больше покупательниц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На создание «шедевра» ушло более двух с половиной центнеров некоего лаком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Ка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Пас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Б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Шоко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  <a:ea typeface="Arial"/>
              </a:rPr>
              <a:t>В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Марме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hermansbakeryandcatering.com/images/dora%20petite.jpg"/>
          <p:cNvPicPr/>
          <p:nvPr/>
        </p:nvPicPr>
        <p:blipFill>
          <a:blip r:embed="rId1"/>
          <a:stretch/>
        </p:blipFill>
        <p:spPr>
          <a:xfrm>
            <a:off x="6019920" y="3621240"/>
            <a:ext cx="2230200" cy="263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2920" y="3930480"/>
            <a:ext cx="8843760" cy="2516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формлении гардеробн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дном из популярных австралийских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рговых центров было использован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двух с половиной центнеров шоколад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ариант ответа 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4T17:42:30Z</dcterms:modified>
  <cp:revision>143</cp:revision>
  <dc:subject/>
  <dc:title>Презентация PowerPoint</dc:title>
</cp:coreProperties>
</file>