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В мир инфор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59680" y="4905360"/>
            <a:ext cx="25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5280" y="4032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оследняя табли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760" y="12492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ите, как должна выглядеть последняя табличка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закон изменения положения символов во всех табличках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хранил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20760" y="2516040"/>
            <a:ext cx="86439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Числовой ребус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«Трижды Ш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760" y="12492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обычно, одинаковыми буквами зашифрованы одинаковые цифры, разными буквами — разные циф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00240" y="2516040"/>
          <a:ext cx="2931840" cy="1822680"/>
        </p:xfrm>
        <a:graphic>
          <a:graphicData uri="http://schemas.openxmlformats.org/drawingml/2006/table">
            <a:tbl>
              <a:tblPr/>
              <a:tblGrid>
                <a:gridCol w="484200"/>
                <a:gridCol w="510480"/>
                <a:gridCol w="484560"/>
                <a:gridCol w="484200"/>
                <a:gridCol w="483840"/>
                <a:gridCol w="484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Times New Roman"/>
                          <a:ea typeface="바탕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32440" y="4098960"/>
            <a:ext cx="32115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Деревья и скам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760" y="124920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уппа деревьев растет так, как показано на рисунк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0760" y="1709640"/>
            <a:ext cx="4373280" cy="4205520"/>
            <a:chOff x="320760" y="1709640"/>
            <a:chExt cx="4373280" cy="4205520"/>
          </a:xfrm>
        </p:grpSpPr>
        <p:sp>
          <p:nvSpPr>
            <p:cNvPr id="127" name=""/>
            <p:cNvSpPr/>
            <p:nvPr/>
          </p:nvSpPr>
          <p:spPr>
            <a:xfrm>
              <a:off x="320760" y="1709640"/>
              <a:ext cx="4373280" cy="420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498600" y="1843200"/>
              <a:ext cx="3857400" cy="38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4968720" y="1817640"/>
            <a:ext cx="399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л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жд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рев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соседней с ним по стороне условной клетке) нужно установить скамейку так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скамей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оприкасалис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собой даже уг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слева и сверху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чают количество деревь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ующем ря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ли решить такую задач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7840" y="2657520"/>
            <a:ext cx="3657600" cy="32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На шахматной до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760" y="12492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ется шахматная доска с обозначением клеток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но стандартной шахматной нотации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нижняя левая, ...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верхняя правая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71520" y="2816280"/>
          <a:ext cx="3263760" cy="2921040"/>
        </p:xfrm>
        <a:graphic>
          <a:graphicData uri="http://schemas.openxmlformats.org/drawingml/2006/table">
            <a:tbl>
              <a:tblPr/>
              <a:tblGrid>
                <a:gridCol w="412560"/>
                <a:gridCol w="412560"/>
                <a:gridCol w="399960"/>
                <a:gridCol w="412920"/>
                <a:gridCol w="438120"/>
                <a:gridCol w="361800"/>
                <a:gridCol w="412920"/>
                <a:gridCol w="412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78360" y="2324160"/>
            <a:ext cx="498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некоторой начальной клетки нужно проложить маршрут в клетк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равилу: каждый ход делается либо на одну клетку влево, либо на одну клетку вниз, либо на одну клетку вниз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одну клетку вле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, из клет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устимы ходы на клет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числите все такие маршруты, ведущие из начальной клет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 оформите, обозначая 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влево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вниз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вниз–вле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1200" y="2676600"/>
            <a:ext cx="321624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Квадрат из костей дом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760" y="1249200"/>
            <a:ext cx="864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ти домино выложены в виде кружевной салфетки, причем сумма очков в каждом вертикальном и горизонтальном рядах одна и та же. Значения очков на костях, кроме «пустышек», зашифрованы буквами. Расшифруйте 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54120" y="2819520"/>
          <a:ext cx="2980800" cy="2921040"/>
        </p:xfrm>
        <a:graphic>
          <a:graphicData uri="http://schemas.openxmlformats.org/drawingml/2006/table">
            <a:tbl>
              <a:tblPr/>
              <a:tblGrid>
                <a:gridCol w="372600"/>
                <a:gridCol w="372600"/>
                <a:gridCol w="372240"/>
                <a:gridCol w="372960"/>
                <a:gridCol w="372600"/>
                <a:gridCol w="372240"/>
                <a:gridCol w="372600"/>
                <a:gridCol w="372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4114800" y="2676600"/>
            <a:ext cx="484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м проб и подборо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решение сложн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буйте решить задачу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математ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56400" y="3916440"/>
            <a:ext cx="3483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35280" y="133200"/>
            <a:ext cx="53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О карандаше</a:t>
            </a:r>
            <a:br>
              <a:rPr sz="24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для учащихся 1 – 7 класс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760" y="12492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ьте на вопро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Сколько граней у шестигранного карандаша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58920" y="2381400"/>
            <a:ext cx="506592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Четыре во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760" y="1249200"/>
            <a:ext cx="8643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в Интернете или по другим источникам информаци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ы на следующие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–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ая песня какой эстрадной звезды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стала «японской национальной песней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ую пряность больше всего не любят клопы и таракан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з какого дерева, согласно скандинавским легендам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боги сотворили первую женщин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984400" y="4567320"/>
            <a:ext cx="2822400" cy="1719360"/>
            <a:chOff x="2984400" y="4567320"/>
            <a:chExt cx="2822400" cy="171936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202640" y="4567320"/>
              <a:ext cx="1604160" cy="17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2984400" y="4567320"/>
              <a:ext cx="1592640" cy="171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Конкурс №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760" y="124920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еревода десятичного числа 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241 76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воичную систему методом последовательного деления числа на основание системы счисления понадобится выполнить 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1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ераций д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ложите методику перевода, с помощью которой можно решить эту задачу за гораздо меньшее число операций д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ика должна быть такой, чтобы ее можно было продемонстрировать, например, у классной дос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71800" y="4302000"/>
            <a:ext cx="49640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Кроссв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5840" y="1074600"/>
            <a:ext cx="4714920" cy="4970520"/>
            <a:chOff x="285840" y="1074600"/>
            <a:chExt cx="4714920" cy="4970520"/>
          </a:xfrm>
        </p:grpSpPr>
        <p:sp>
          <p:nvSpPr>
            <p:cNvPr id="154" name=""/>
            <p:cNvSpPr/>
            <p:nvPr/>
          </p:nvSpPr>
          <p:spPr>
            <a:xfrm>
              <a:off x="285840" y="1074600"/>
              <a:ext cx="4714920" cy="497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347040" y="1182240"/>
              <a:ext cx="4500720" cy="471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5684760" y="4254480"/>
            <a:ext cx="2895840" cy="639720"/>
          </a:xfrm>
          <a:custGeom>
            <a:avLst/>
            <a:gdLst>
              <a:gd name="textAreaLeft" fmla="*/ 41400 w 2895840"/>
              <a:gd name="textAreaRight" fmla="*/ 2854440 w 2895840"/>
              <a:gd name="textAreaTop" fmla="*/ 41400 h 639720"/>
              <a:gd name="textAreaBottom" fmla="*/ 598320 h 639720"/>
            </a:gdLst>
            <a:ahLst/>
            <a:rect l="textAreaLeft" t="textAreaTop" r="textAreaRight" b="textAreaBottom"/>
            <a:pathLst>
              <a:path w="97735" h="21600">
                <a:moveTo>
                  <a:pt x="0" y="0"/>
                </a:moveTo>
                <a:lnTo>
                  <a:pt x="97735" y="0"/>
                </a:lnTo>
                <a:lnTo>
                  <a:pt x="97735" y="21600"/>
                </a:lnTo>
                <a:lnTo>
                  <a:pt x="0" y="21600"/>
                </a:lnTo>
                <a:close/>
              </a:path>
              <a:path fill="lightenLess" w="97735" h="21600">
                <a:moveTo>
                  <a:pt x="0" y="0"/>
                </a:moveTo>
                <a:lnTo>
                  <a:pt x="97735" y="0"/>
                </a:lnTo>
                <a:lnTo>
                  <a:pt x="96335" y="1400"/>
                </a:lnTo>
                <a:lnTo>
                  <a:pt x="1400" y="1400"/>
                </a:lnTo>
                <a:close/>
              </a:path>
              <a:path fill="darken" w="97735" h="21600">
                <a:moveTo>
                  <a:pt x="97735" y="0"/>
                </a:moveTo>
                <a:lnTo>
                  <a:pt x="97735" y="21600"/>
                </a:lnTo>
                <a:lnTo>
                  <a:pt x="96335" y="20200"/>
                </a:lnTo>
                <a:lnTo>
                  <a:pt x="96335" y="1400"/>
                </a:lnTo>
                <a:close/>
              </a:path>
              <a:path fill="darkenLess" w="97735" h="21600">
                <a:moveTo>
                  <a:pt x="97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335" y="20200"/>
                </a:lnTo>
                <a:close/>
              </a:path>
              <a:path fill="lighten" w="97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горизон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84760" y="5381640"/>
            <a:ext cx="2895840" cy="639720"/>
          </a:xfrm>
          <a:custGeom>
            <a:avLst/>
            <a:gdLst>
              <a:gd name="textAreaLeft" fmla="*/ 41400 w 2895840"/>
              <a:gd name="textAreaRight" fmla="*/ 2854440 w 2895840"/>
              <a:gd name="textAreaTop" fmla="*/ 41400 h 639720"/>
              <a:gd name="textAreaBottom" fmla="*/ 598320 h 639720"/>
            </a:gdLst>
            <a:ahLst/>
            <a:rect l="textAreaLeft" t="textAreaTop" r="textAreaRight" b="textAreaBottom"/>
            <a:pathLst>
              <a:path w="97735" h="21600">
                <a:moveTo>
                  <a:pt x="0" y="0"/>
                </a:moveTo>
                <a:lnTo>
                  <a:pt x="97735" y="0"/>
                </a:lnTo>
                <a:lnTo>
                  <a:pt x="97735" y="21600"/>
                </a:lnTo>
                <a:lnTo>
                  <a:pt x="0" y="21600"/>
                </a:lnTo>
                <a:close/>
              </a:path>
              <a:path fill="lightenLess" w="97735" h="21600">
                <a:moveTo>
                  <a:pt x="0" y="0"/>
                </a:moveTo>
                <a:lnTo>
                  <a:pt x="97735" y="0"/>
                </a:lnTo>
                <a:lnTo>
                  <a:pt x="96335" y="1400"/>
                </a:lnTo>
                <a:lnTo>
                  <a:pt x="1400" y="1400"/>
                </a:lnTo>
                <a:close/>
              </a:path>
              <a:path fill="darken" w="97735" h="21600">
                <a:moveTo>
                  <a:pt x="97735" y="0"/>
                </a:moveTo>
                <a:lnTo>
                  <a:pt x="97735" y="21600"/>
                </a:lnTo>
                <a:lnTo>
                  <a:pt x="96335" y="20200"/>
                </a:lnTo>
                <a:lnTo>
                  <a:pt x="96335" y="1400"/>
                </a:lnTo>
                <a:close/>
              </a:path>
              <a:path fill="darkenLess" w="97735" h="21600">
                <a:moveTo>
                  <a:pt x="97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335" y="20200"/>
                </a:lnTo>
                <a:close/>
              </a:path>
              <a:path fill="lighten" w="97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верти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91320" y="4121280"/>
            <a:ext cx="2228760" cy="22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апки и файлы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 ма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760" y="12492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Пользователь работал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одни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переходил от одной папк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к другой. Четыре момента его работы показаны в окн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5360" y="2093760"/>
            <a:ext cx="2949480" cy="428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309840" y="2093760"/>
            <a:ext cx="2765520" cy="1624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199200" y="2093760"/>
            <a:ext cx="2765520" cy="1982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08400" y="27129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Wingdings"/>
                <a:ea typeface="Wingdings"/>
              </a:rPr>
              <a:t>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7288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Wingdings"/>
                <a:ea typeface="Wingdings"/>
              </a:rPr>
              <a:t>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69120" y="275904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Wingdings"/>
                <a:ea typeface="Wingdings"/>
              </a:rPr>
              <a:t>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69120" y="47829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Wingdings"/>
                <a:ea typeface="Wingdings"/>
              </a:rPr>
              <a:t>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22800" y="4782960"/>
            <a:ext cx="276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ройте фрагмент дерева папок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которым работал пользоват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апки и файлы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 ма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760" y="12492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реди файлов, имена которых указаны на рисунке, выберите т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которые соответствуют указанной ма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ано 4 варианта задания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78560" y="3255840"/>
            <a:ext cx="3386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1f497d"/>
                </a:solidFill>
                <a:latin typeface="Courier New"/>
              </a:rPr>
              <a:t>*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1f497d"/>
                </a:solidFill>
                <a:latin typeface="Courier New"/>
              </a:rPr>
              <a:t>800*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2400" spc="-1" strike="noStrike">
                <a:solidFill>
                  <a:srgbClr val="1f497d"/>
                </a:solidFill>
                <a:latin typeface="Courier New"/>
              </a:rPr>
              <a:t>?</a:t>
            </a:r>
            <a:r>
              <a:rPr b="1" lang="ru-RU" sz="2400" spc="-1" strike="noStrike">
                <a:solidFill>
                  <a:srgbClr val="1f497d"/>
                </a:solidFill>
                <a:latin typeface="Courier New"/>
              </a:rPr>
              <a:t>о*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2400" spc="-1" strike="noStrike">
                <a:solidFill>
                  <a:srgbClr val="1f497d"/>
                </a:solidFill>
                <a:latin typeface="Courier New"/>
              </a:rPr>
              <a:t>*н*</a:t>
            </a:r>
            <a:r>
              <a:rPr b="1" lang="en-US" sz="2400" spc="-1" strike="noStrike">
                <a:solidFill>
                  <a:srgbClr val="1f497d"/>
                </a:solidFill>
                <a:latin typeface="Courier New"/>
              </a:rPr>
              <a:t>.???</a:t>
            </a:r>
            <a:r>
              <a:rPr b="1" lang="ru-RU" sz="2400" spc="-1" strike="noStrike">
                <a:solidFill>
                  <a:srgbClr val="1f497d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2093760"/>
            <a:ext cx="29494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Папки и файлы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 ма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760" y="1249200"/>
            <a:ext cx="86439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Укажите, какая маска объединяет фай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1f497d"/>
                </a:solidFill>
                <a:latin typeface="Courier New"/>
              </a:rPr>
              <a:t>1200-1800.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</a:rPr>
              <a:t>docx</a:t>
            </a:r>
            <a:r>
              <a:rPr b="1" lang="ru-RU" sz="2000" spc="-1" strike="noStrike">
                <a:solidFill>
                  <a:srgbClr val="1f497d"/>
                </a:solidFill>
                <a:latin typeface="Courier New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ourier New"/>
              </a:rPr>
              <a:t>    Россия 800-1500гг.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</a:rPr>
              <a:t>txt</a:t>
            </a:r>
            <a:r>
              <a:rPr b="1" lang="ru-RU" sz="2000" spc="-1" strike="noStrike">
                <a:solidFill>
                  <a:srgbClr val="1f497d"/>
                </a:solidFill>
                <a:latin typeface="Courier New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ourier New"/>
              </a:rPr>
              <a:t>    800-1500 Рим.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</a:rPr>
              <a:t>txt</a:t>
            </a:r>
            <a:r>
              <a:rPr b="1" lang="ru-RU" sz="2000" spc="-1" strike="noStrike">
                <a:solidFill>
                  <a:srgbClr val="1f497d"/>
                </a:solidFill>
                <a:latin typeface="Courier New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ourier New"/>
              </a:rPr>
              <a:t>    Войны 20 века.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</a:rPr>
              <a:t>t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писке на рисун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14880" y="1819440"/>
            <a:ext cx="294984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35280" y="4032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Необычный маршру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760" y="1249200"/>
            <a:ext cx="864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тя вышел из точки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ской равнины и прошел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м на юг, 2 м — на запад, 4 м — на север, 6 м — на восток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м на юг, 8 м — на запад, 10 м — на север, 12 м — на восток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м на юг, 14 м — на запад, 16 м — на север, 18 м — на восток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каком расстоянии от точки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дет Митя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после 100 таких «шагов» (после прохождения 100 отрезков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ова длина последнего, 100-го отрезка пу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ой общий путь пройдет Митя за 100 «шагов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flipH="1">
            <a:off x="7465680" y="3995640"/>
            <a:ext cx="14986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4032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Три учите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760" y="124920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тарших классах школы работают три учителя: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Ива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Пет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ид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Каждый из них преподает по два предмета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что в расписании у них всего шесть предметов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глийский язы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ид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самый молодой из 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химии старше  учителя ис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трое — учитель химии, учитель физики и 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Пет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любят играть в шахма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гда между собой играют учитель литературы и учитель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английского языка, то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ид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олеет за послед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Пет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 знает английского языка и не преподает матема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то какие предметы препода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96000" y="4556160"/>
            <a:ext cx="3866760" cy="1662120"/>
            <a:chOff x="4896000" y="4556160"/>
            <a:chExt cx="3866760" cy="16621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rcRect l="21124" t="0" r="15578" b="5505"/>
            <a:stretch/>
          </p:blipFill>
          <p:spPr>
            <a:xfrm>
              <a:off x="7812360" y="4798800"/>
              <a:ext cx="950400" cy="14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 flipH="1">
              <a:off x="4896000" y="4798800"/>
              <a:ext cx="1709280" cy="14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6557040" y="4556160"/>
              <a:ext cx="1329120" cy="16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4032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Раве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760" y="1249200"/>
            <a:ext cx="86439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кой системе счисления справедливы раве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3 × 4 = 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5 × 5 =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2 × 2 = 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14960" y="2951280"/>
            <a:ext cx="48290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35280" y="4032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Серебряная  це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760" y="1249200"/>
            <a:ext cx="8643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гостиницу приехал путешественн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снилось, что деньги он забыл дома. У него была лишь серебряная цепочка из 7 звеньев. Он договорился с хозяином гостиницы о том, что за каждый день пребывания в гостинице будет расплачиваться одним звеном цеп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е звено цепочки надо аккуратно расцепить, чтобы прожить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гостинице 7 дней и ежедневно расплачиваться с хозяин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Хозяин может давать сдачу звеньями, полученными им ранее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1543" r="0" b="21727"/>
          <a:stretch/>
        </p:blipFill>
        <p:spPr>
          <a:xfrm>
            <a:off x="0" y="4116240"/>
            <a:ext cx="4098960" cy="237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0" t="11543" r="0" b="21727"/>
          <a:stretch/>
        </p:blipFill>
        <p:spPr>
          <a:xfrm>
            <a:off x="5037120" y="4132440"/>
            <a:ext cx="4098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5280" y="4032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Кто есть кт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760" y="124920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ьте себе, что, прогуливаясь по острову Двоичный Код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 встретили двух людей — </a:t>
            </a:r>
            <a:r>
              <a:rPr b="1" i="1" lang="en-US" sz="20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Каждый из них либо рыцарь (всегда говорит правду), либо лжец (всегда вре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66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казывает следующее утвержд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По крайней мере, один из нас лжец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но ли определить, кто есть кт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78400" y="3306600"/>
            <a:ext cx="3479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18T19:05:35Z</dcterms:modified>
  <cp:revision>137</cp:revision>
  <dc:subject/>
  <dc:title>Презентация PowerPoint</dc:title>
</cp:coreProperties>
</file>