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Obl_U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6" descr="page_I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7320" y="3038400"/>
            <a:ext cx="772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Impact"/>
              </a:rPr>
              <a:t>Древние системы нумерации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Impact"/>
              </a:rPr>
              <a:t>и счет предме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3720" y="4905360"/>
            <a:ext cx="34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алин Г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ругие возможны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системы нум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247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счет шестер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33520" y="1947960"/>
            <a:ext cx="2011320" cy="459720"/>
            <a:chOff x="533520" y="1947960"/>
            <a:chExt cx="2011320" cy="459720"/>
          </a:xfrm>
        </p:grpSpPr>
        <p:sp>
          <p:nvSpPr>
            <p:cNvPr id="143" name=""/>
            <p:cNvSpPr/>
            <p:nvPr/>
          </p:nvSpPr>
          <p:spPr>
            <a:xfrm>
              <a:off x="533520" y="194796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339966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520" y="2022480"/>
              <a:ext cx="1440" cy="335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54400" y="1947960"/>
            <a:ext cx="2011320" cy="459720"/>
            <a:chOff x="3254400" y="1947960"/>
            <a:chExt cx="2011320" cy="459720"/>
          </a:xfrm>
        </p:grpSpPr>
        <p:sp>
          <p:nvSpPr>
            <p:cNvPr id="146" name=""/>
            <p:cNvSpPr/>
            <p:nvPr/>
          </p:nvSpPr>
          <p:spPr>
            <a:xfrm>
              <a:off x="3254400" y="194796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339966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9400" y="2011320"/>
              <a:ext cx="1440" cy="335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282560" y="2338560"/>
              <a:ext cx="33516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004080" y="1947960"/>
            <a:ext cx="2011320" cy="459720"/>
            <a:chOff x="6004080" y="1947960"/>
            <a:chExt cx="2011320" cy="459720"/>
          </a:xfrm>
        </p:grpSpPr>
        <p:sp>
          <p:nvSpPr>
            <p:cNvPr id="150" name=""/>
            <p:cNvSpPr/>
            <p:nvPr/>
          </p:nvSpPr>
          <p:spPr>
            <a:xfrm>
              <a:off x="6004080" y="194796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339966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39080" y="2014560"/>
              <a:ext cx="1440" cy="335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032240" y="2341440"/>
              <a:ext cx="335160" cy="1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032240" y="2014560"/>
              <a:ext cx="33516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33520" y="2660760"/>
            <a:ext cx="2011320" cy="459720"/>
            <a:chOff x="533520" y="2660760"/>
            <a:chExt cx="2011320" cy="459720"/>
          </a:xfrm>
        </p:grpSpPr>
        <p:sp>
          <p:nvSpPr>
            <p:cNvPr id="155" name=""/>
            <p:cNvSpPr/>
            <p:nvPr/>
          </p:nvSpPr>
          <p:spPr>
            <a:xfrm>
              <a:off x="533520" y="266076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339966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68520" y="2743200"/>
              <a:ext cx="1440" cy="335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561680" y="3070440"/>
              <a:ext cx="33516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561680" y="2743200"/>
              <a:ext cx="335160" cy="1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81360" y="2743200"/>
              <a:ext cx="1440" cy="335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54400" y="2660760"/>
            <a:ext cx="2011320" cy="459720"/>
            <a:chOff x="3254400" y="2660760"/>
            <a:chExt cx="2011320" cy="459720"/>
          </a:xfrm>
        </p:grpSpPr>
        <p:sp>
          <p:nvSpPr>
            <p:cNvPr id="161" name=""/>
            <p:cNvSpPr/>
            <p:nvPr/>
          </p:nvSpPr>
          <p:spPr>
            <a:xfrm>
              <a:off x="3254400" y="266076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339966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89400" y="2743200"/>
              <a:ext cx="1440" cy="335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282560" y="3070440"/>
              <a:ext cx="33516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282560" y="2743200"/>
              <a:ext cx="335160" cy="1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02240" y="2743200"/>
              <a:ext cx="1440" cy="335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89400" y="2742840"/>
              <a:ext cx="312840" cy="335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026040" y="2660760"/>
            <a:ext cx="2011320" cy="459720"/>
            <a:chOff x="6026040" y="2660760"/>
            <a:chExt cx="2011320" cy="459720"/>
          </a:xfrm>
        </p:grpSpPr>
        <p:sp>
          <p:nvSpPr>
            <p:cNvPr id="168" name=""/>
            <p:cNvSpPr/>
            <p:nvPr/>
          </p:nvSpPr>
          <p:spPr>
            <a:xfrm>
              <a:off x="6026040" y="266076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339966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61040" y="2739960"/>
              <a:ext cx="1440" cy="335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7054200" y="3067200"/>
              <a:ext cx="33516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054200" y="2739960"/>
              <a:ext cx="335160" cy="1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73880" y="2739960"/>
              <a:ext cx="1440" cy="335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061040" y="2739600"/>
              <a:ext cx="312840" cy="335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060680" y="2739600"/>
              <a:ext cx="312840" cy="3272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33520" y="3595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счет десят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0" b="72782"/>
          <a:stretch/>
        </p:blipFill>
        <p:spPr>
          <a:xfrm>
            <a:off x="-47520" y="4275000"/>
            <a:ext cx="4686120" cy="776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rcRect l="0" t="61641" r="0" b="10628"/>
          <a:stretch/>
        </p:blipFill>
        <p:spPr>
          <a:xfrm>
            <a:off x="4621320" y="4262400"/>
            <a:ext cx="4662360" cy="785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5051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2         3         4         5         6         7         8         9     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ругие возможны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системы нум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247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счет десятками (другой вариан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76683"/>
          <a:stretch/>
        </p:blipFill>
        <p:spPr>
          <a:xfrm>
            <a:off x="111240" y="1967040"/>
            <a:ext cx="4435200" cy="730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rcRect l="0" t="49144" r="0" b="14859"/>
          <a:stretch/>
        </p:blipFill>
        <p:spPr>
          <a:xfrm>
            <a:off x="4562640" y="1744560"/>
            <a:ext cx="4435200" cy="1127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2871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 2         3          4        5        6         7         8         9     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746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 запись числа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ет иметь ви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rcRect l="9032" t="7114" r="31629" b="61527"/>
          <a:stretch/>
        </p:blipFill>
        <p:spPr>
          <a:xfrm>
            <a:off x="941400" y="4525920"/>
            <a:ext cx="2773440" cy="854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rcRect l="9682" t="49680" r="29826" b="11133"/>
          <a:stretch/>
        </p:blipFill>
        <p:spPr>
          <a:xfrm>
            <a:off x="5319720" y="4419720"/>
            <a:ext cx="2827440" cy="1066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203720" y="4764240"/>
            <a:ext cx="7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533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  +   10   +   3                          10  +  10    +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35280" y="10152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я 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 самостоятельной 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760" y="1268280"/>
            <a:ext cx="850248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1. Приняв, что список продолжительностей «похода»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   в школу имеет ви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66"/>
                </a:solidFill>
                <a:latin typeface="Arial"/>
              </a:rPr>
              <a:t>27, 52, 43, 38, 47, 8, 21, 40, 32, 53, 35, 28, 40, 18, 31, 45, 24, 30, 37, 15, 39, 34, 48, 25, 30, 7, 32, 12, 26, 35, 48, 19, 33, 26, 17, 30, 42, 22, 53, 28, 42, 36, 23, 10, 34, 46, 16, 29, 35, 52, 41, 32, 21, 39, 55, 25,29, 8, 36, 44, 26, 55, 34, 19, 42, 54, 27, 10, 45, 20, 31, 50, 18, 9, 41, 14, 38, 40, 23, 49, 33, 15, 24, 46, 36, 28, 32, 37, 51, 20, 29, 47, 33, 27, 41, 22, 39, 4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получите итоговые таблицы с использованием трех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   описанных систем нум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760" y="4917960"/>
            <a:ext cx="85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. В электронных таблицах Microsoft Excel или других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постройте круговую диаграмму, иллюстрирующую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такое распределение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Аттическая нумерация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(др. Греция, 1 тыс.лет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19200" y="1484280"/>
          <a:ext cx="6288120" cy="733320"/>
        </p:xfrm>
        <a:graphic>
          <a:graphicData uri="http://schemas.openxmlformats.org/drawingml/2006/table">
            <a:tbl>
              <a:tblPr/>
              <a:tblGrid>
                <a:gridCol w="2822760"/>
                <a:gridCol w="312480"/>
                <a:gridCol w="339840"/>
                <a:gridCol w="339840"/>
                <a:gridCol w="387360"/>
                <a:gridCol w="339480"/>
                <a:gridCol w="360360"/>
                <a:gridCol w="411120"/>
                <a:gridCol w="462240"/>
                <a:gridCol w="512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Десятичн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Аттиче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Γ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Γ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Γ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Γ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533520" y="295416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числа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спользуется символ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значается как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Δ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как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ΔΓ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акой системе счисления числа 1, 5, 10 и т.п. называются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узловы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остальные числа получаются из узловых с помощью операции с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Нумерация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индейцев май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3656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Един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значалась точкой, а число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горизонтальной черто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52520" y="2914560"/>
            <a:ext cx="6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52520" y="2914560"/>
            <a:ext cx="54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52520" y="2914560"/>
            <a:ext cx="54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52520" y="2914560"/>
            <a:ext cx="6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15840" y="1492200"/>
          <a:ext cx="7523280" cy="1258920"/>
        </p:xfrm>
        <a:graphic>
          <a:graphicData uri="http://schemas.openxmlformats.org/drawingml/2006/table">
            <a:tbl>
              <a:tblPr/>
              <a:tblGrid>
                <a:gridCol w="2822760"/>
                <a:gridCol w="460440"/>
                <a:gridCol w="460440"/>
                <a:gridCol w="609480"/>
                <a:gridCol w="853920"/>
                <a:gridCol w="730440"/>
                <a:gridCol w="731880"/>
                <a:gridCol w="853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Десятичн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Нумерация май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5489640" y="234936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9960" y="234648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49960" y="243540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2080" y="234648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12080" y="243540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07320" y="234648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07320" y="243540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07320" y="253044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35280" y="6984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Иероглифическая система нумерации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(древний Егип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063960"/>
            <a:ext cx="8153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числа 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овался символ 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∩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число 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ображалось пиктограммой      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исло 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5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иктограммой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м узловым числом было 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1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ля него использовался рисунок, похожий на греческую букву 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число 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23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алось как 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ρρ∩∩∩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|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52520" y="2867040"/>
            <a:ext cx="6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52520" y="2867040"/>
            <a:ext cx="54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52520" y="2867040"/>
            <a:ext cx="54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52520" y="2867040"/>
            <a:ext cx="6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4520" y="1463760"/>
          <a:ext cx="7968960" cy="1279440"/>
        </p:xfrm>
        <a:graphic>
          <a:graphicData uri="http://schemas.openxmlformats.org/drawingml/2006/table">
            <a:tbl>
              <a:tblPr/>
              <a:tblGrid>
                <a:gridCol w="2822400"/>
                <a:gridCol w="512640"/>
                <a:gridCol w="555840"/>
                <a:gridCol w="557280"/>
                <a:gridCol w="556920"/>
                <a:gridCol w="555840"/>
                <a:gridCol w="557280"/>
                <a:gridCol w="555480"/>
                <a:gridCol w="557280"/>
                <a:gridCol w="73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Десятичн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Египетская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иероглифическая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750080" y="3444840"/>
            <a:ext cx="420840" cy="72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65600" y="4005360"/>
            <a:ext cx="65556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4348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Статистические  подс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2477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Разбиение всего интервала значений измеряемо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величины на несколько промежутк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«интервалы группировки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«классы группировки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610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ет количеств значений величины, попадающ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в каждый интервал группир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736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графика, диаграммы, гистограммы и пр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по полученным значениям количеств значени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для каждого интерв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Статистические  подсчеты: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графические обо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2477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удобства при подсчете количеств значений величины и наглядности можно использовать свою графическую систему нумерации,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7716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ление еще одного значения – дорисов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ертикальной черточки: 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|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||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838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обавлении каждого пятого значения – четыр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редыдущих черточки перечеркиваются: 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||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|||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894800" y="4313160"/>
            <a:ext cx="426960" cy="347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509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число 17:     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||||  ||||  ||||  ||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 +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54320" y="5175000"/>
            <a:ext cx="427320" cy="3474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60840" y="5175000"/>
            <a:ext cx="426960" cy="3474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051520" y="5175000"/>
            <a:ext cx="426960" cy="3474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ример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247760"/>
            <a:ext cx="8153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тя попросил 30 своих друзей указать любимый сорт мороженого и получил следующие отве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ивочное, шоколадное, сливочное, ванильное, шоколадное, шоколадное, сливочное, шоколадное, фруктовое, шоколадное, ванильное, сливочное, шоколадное, ванильное, шоколадное, сливочное, ванильное, шоколадное, шоколадное, ванильное, шоколадное, шоколадное, шоколадное, сливочное, шоколадное, фруктовое, шоколадное, сливочное, ванильное, шоколад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тем Петя обработал эти результаты и нарисовал круговую диаграмму, представляющую результаты опр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ример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247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32080" y="2271600"/>
            <a:ext cx="98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32080" y="2271600"/>
            <a:ext cx="98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32080" y="2271600"/>
            <a:ext cx="98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32080" y="2394000"/>
            <a:ext cx="98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2080" y="2394000"/>
            <a:ext cx="98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32080" y="2394000"/>
            <a:ext cx="98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06680" y="2057400"/>
          <a:ext cx="6486480" cy="2190600"/>
        </p:xfrm>
        <a:graphic>
          <a:graphicData uri="http://schemas.openxmlformats.org/drawingml/2006/table">
            <a:tbl>
              <a:tblPr/>
              <a:tblGrid>
                <a:gridCol w="2189160"/>
                <a:gridCol w="1133280"/>
                <a:gridCol w="1090800"/>
                <a:gridCol w="2073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Сорт мороже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Подс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Угол диа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лив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|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4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Шоколад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|  ||||  ||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80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ани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||  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2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Фрукто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4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Итого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60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 flipV="1">
            <a:off x="4183200" y="2513160"/>
            <a:ext cx="136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967200" y="2893680"/>
            <a:ext cx="136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272120" y="2893680"/>
            <a:ext cx="136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602240" y="2893680"/>
            <a:ext cx="136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187880" y="3258720"/>
            <a:ext cx="136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ример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247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41600" y="2052720"/>
          <a:ext cx="623412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1600" y="2052720"/>
                    <a:ext cx="623412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REW</cp:lastModifiedBy>
  <dcterms:modified xsi:type="dcterms:W3CDTF">2013-12-13T20:38:45Z</dcterms:modified>
  <cp:revision>101</cp:revision>
  <dc:subject/>
  <dc:title>Презентация PowerPoint</dc:title>
</cp:coreProperties>
</file>