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Вопросы по информатике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для проведения школьных конкурсов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«Что? Где? Когда?» и «Брейн-ринг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6800" y="4905360"/>
            <a:ext cx="36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латопольский Д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9. Выв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ин любитель информатики проживал по адресу: ул. Кременчугская, 153, корпус 6. Но когда он смотрел на вывеску с номером дома, он утверждал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живет в в доме номер 69.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2432160" y="2463840"/>
            <a:ext cx="4573440" cy="3432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2463840"/>
            <a:ext cx="8736120" cy="3800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вывеске номер дома был указан в виде 153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информатике в виде нижнего индекса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казывают основание системы счисления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которой записано число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естеричному числу 153 соответствует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сятичное значение 6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0. Хитрый журна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311120"/>
            <a:ext cx="873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журналист приехал в командировку в гостиницу, не успев забронировать номер по Интернету (при таком бронировании стоимость проживания меньше). Как обычно, он взял с собой ноутб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е услуг, предоставляемых гостиницей, бы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есплатный завтра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есплатная доставка в номер уж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бесплат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бесплатная подача в номер свежих газет и журн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журналист все же смог обеспечить меньшую стоимость проживания в гостинице.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38400" y="4024440"/>
            <a:ext cx="2791080" cy="235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149720"/>
            <a:ext cx="8736120" cy="2525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рналист, подключившись по бесплатном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Интернету, забронировал номер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чего, согласно брони, оформил проживание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меньшей стоим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1. Арифмет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311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выра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463920"/>
            <a:ext cx="8736120" cy="2525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 – 102 = 1 в тр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176364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101 – 102 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490840"/>
            <a:ext cx="87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стите одну цифру так, чтобы оно стало верным. Операцию возведения в степень не использу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2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. Тестирова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11120"/>
            <a:ext cx="873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известно, для проверки правильности вычислительных программ и поиска в них возможных ошибок проводят контрольные расчеты вручную, используя калькулятор. Но на ЭВМ первых поколений даже при расчетах по правильной программе были возможны ошибки из-за случайных аппаратных сбоев (скачков напряжения и других причин). Для них проверка правильности результатов проводилась по-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именн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4215"/>
          <a:stretch/>
        </p:blipFill>
        <p:spPr>
          <a:xfrm>
            <a:off x="2019240" y="3198960"/>
            <a:ext cx="5105520" cy="2778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3325680"/>
            <a:ext cx="8736120" cy="2907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да на результат расчетов могли повлиять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чайные аппаратные сбои, проводилс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называемый «двойной счет» — задача решалась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важды, и результаты сравнивались между собой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ждественность результатов говорила о том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в процессе вычислений машина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допускала случайных сбо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3. Оперативна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311120"/>
            <a:ext cx="41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ВМ первых поколений программа оформлялас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виде номеров ячеек, в которых размещались команды для решения задачи. Номера ячеек указывались относительно некоторого начального номера, например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показано в таб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номер ячейки, оформленный в таблице полужирным начертание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большим кеглем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та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51200" y="1325520"/>
          <a:ext cx="3975120" cy="4381560"/>
        </p:xfrm>
        <a:graphic>
          <a:graphicData uri="http://schemas.openxmlformats.org/drawingml/2006/table">
            <a:tbl>
              <a:tblPr/>
              <a:tblGrid>
                <a:gridCol w="1773360"/>
                <a:gridCol w="22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Номер ячей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Команда в ячей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 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28600" y="5342040"/>
            <a:ext cx="8736120" cy="1255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номер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+ 7 следовал номер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+ 10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 как запись велась в восьмерич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е счисления (8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4. Числа в компьют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311120"/>
            <a:ext cx="87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число, представляемое в компьютере к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ьше числа, представляемого к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47800" y="2178000"/>
            <a:ext cx="56484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2146320"/>
            <a:ext cx="8736120" cy="4054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ожет быть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да приведенные представления —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представления чисел в 8-разрядной ячейк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 знаком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ое представление соответствует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ицательному числу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старший, знаковый, разряд равен 1),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торое — положитель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5. Ханойские баш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311120"/>
            <a:ext cx="87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, наверное, слышали о головоломке “Ханойские башни”. Ее простейший вариант изображен на кар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02160" y="1952640"/>
            <a:ext cx="3533760" cy="2012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2146320"/>
            <a:ext cx="517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й есть еще два вертикальных стержня. Нужно перенести диски с исходного стержня на какой-то другой, используя третий стержень как промежуточный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том должны соблюдаться усло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 за один ход можно переносить один дис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 нельзя класть больший диск на меньш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 снятый диск должен быть надет на один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из стерж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710240"/>
            <a:ext cx="873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отношение имеет к головоломке «Ханойские башни» строка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 2 1 3 1 2 1 4  1 2 1 3 1 2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710240"/>
            <a:ext cx="8736120" cy="19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дисков — четыре и они обозначены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чиная с самого маленького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1, 2, 3 и 4, то последовательность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ладывания дисков при решении головоломки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впадет с показанной последовательностью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16.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Word 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31112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в документе текстового реда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 верное равенство, скопировал его в буфер обмена, а потом вставил скопированный фрагмент в презента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т фрагмент стал выглядеть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413160"/>
            <a:ext cx="8736120" cy="2774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копировании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Point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т символов – пропадают индексы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исла 2 и 10 были нижними индексам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обозначается основание системы счисления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торой записываются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39076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2 = 210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4796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17.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Word 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Power Point</a:t>
            </a: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31112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в документе текстового реда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 верное равенство, скопировал его в буфер обмена, а потом вставил скопированный фрагмент в презента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т фрагмент стал выглядеть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413160"/>
            <a:ext cx="8736120" cy="2774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копировании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Point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т символов – пропадают индексы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исла 2 и 10 были нижними индексам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обозначается основание системы счисления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торой записываются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39076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12 = 31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84796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8. Систем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31112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адем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Петрович Ерш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один из основоположников школьной информатики. В 1958 г. вышла его книга «Программирующая программ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быстродействующей электронной счетной маш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зывают системную программу такого типа в настоящее врем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55840" y="2722680"/>
            <a:ext cx="4265640" cy="3216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" y="2722680"/>
            <a:ext cx="8736120" cy="3465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анслятор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системная программа, переводяща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ую программу на машинный язы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. «Черный ящ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311120"/>
            <a:ext cx="87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, наверное, знаете, что такое «черный ящик»? Так называют устройство для автоматической записи данных во время эксплуатации самолета, вертолета, водного судна и т.п. В случае аварии или неисправной работ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информация позволит выяснить возможную причину произошедшего. Несмотря на название прибора, чаще всего его окрашивают в оранжевый цвет.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40360" y="33940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3390840"/>
            <a:ext cx="3927240" cy="294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3390840"/>
            <a:ext cx="8736120" cy="2946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ерный ящик»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правило, окрашивают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оранжевый цвет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бы было легче найти его после ава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19.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311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те на картин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68320" y="1889280"/>
          <a:ext cx="6980040" cy="180648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J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Z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g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q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4360" y="1889280"/>
            <a:ext cx="1083960" cy="180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948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зображено на 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314960"/>
            <a:ext cx="8736120" cy="2314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емисегментный индикатор» —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используемый для указания цифр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огда он применяется и для отображения бук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лишь немногие из букв имеют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уитивно понятное семисегментное представление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чень таких латинских букв приведен на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20.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311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те на картин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68320" y="1889280"/>
          <a:ext cx="6980040" cy="180648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А, Б, В, Г, Е, Н, О, П, Р, С, У, Ч, Ь, Э/З, 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г, и, о, п,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28600" y="3948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зображено на 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314960"/>
            <a:ext cx="8736120" cy="2314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рисунке приведен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чень русских букв, которые имеют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уитивно понятное семисегментное предст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1889280"/>
            <a:ext cx="10825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2. Слово –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это слово не является названием числа (ка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т.п.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 иногда используется при счете, наряду со словом «дв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это за сло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82720" y="2492280"/>
            <a:ext cx="5788080" cy="384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2465280"/>
            <a:ext cx="8736120" cy="4110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слово «раз», одно из значений которого — «од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«раз, два и обчёлс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«раз, два — взя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вет «пара» не совсем правилен: хотя слово «пара»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о используют как синоним слова «два», говорить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пара» можно только о парных предметах или одежд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«пара варежек», «пара брюк», «пара ботинок» и п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3. Дек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1112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знаете, что тако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Посмотрите на таблич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920" y="3724200"/>
            <a:ext cx="8736120" cy="2946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тра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в информатике называют группу из четырех би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пример, при переводе двоичного числ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естнадцатеричную систему счисления)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 происходит от «тетра» — части сложных слов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начающей «четыре» (например, «тетраэдр» и т.п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8720" y="1874880"/>
          <a:ext cx="1762200" cy="1095480"/>
        </p:xfrm>
        <a:graphic>
          <a:graphicData uri="http://schemas.openxmlformats.org/drawingml/2006/table">
            <a:tbl>
              <a:tblPr/>
              <a:tblGrid>
                <a:gridCol w="558720"/>
                <a:gridCol w="120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ри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바탕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28600" y="320688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слово должно стоять на месте вопросительного зн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4.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11120"/>
            <a:ext cx="873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два понятия, используемые в информатике, имеют одну и ту же вторую часть, а первая в одном из этих понятий происходит от латинского слова, соответствующего слов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ъединя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а во втором — от слова, соответствующего слов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зобщ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это понят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3280" y="3057480"/>
            <a:ext cx="8736120" cy="2946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Конъюнкция» и «дизъюнкция» —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огические оп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5. Блок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311120"/>
            <a:ext cx="87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алгоритмической конструкции, по вашему мнению, соответствует последнее изображение в таблич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08240" y="1620720"/>
            <a:ext cx="132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08240" y="1620720"/>
            <a:ext cx="132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8240" y="1620720"/>
            <a:ext cx="132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08240" y="1620720"/>
            <a:ext cx="132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06600" y="2131920"/>
          <a:ext cx="6211800" cy="3198960"/>
        </p:xfrm>
        <a:graphic>
          <a:graphicData uri="http://schemas.openxmlformats.org/drawingml/2006/table">
            <a:tbl>
              <a:tblPr/>
              <a:tblGrid>
                <a:gridCol w="4529160"/>
                <a:gridCol w="168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Алгоритмическая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кон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ледовани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(линейный алгорит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етвлени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(разветвляющийся алгорит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Цикл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(циклический алгорит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바탕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681960" y="4170240"/>
            <a:ext cx="398160" cy="398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10400" y="4795920"/>
            <a:ext cx="398520" cy="398520"/>
            <a:chOff x="6710400" y="4795920"/>
            <a:chExt cx="398520" cy="398520"/>
          </a:xfrm>
        </p:grpSpPr>
        <p:sp>
          <p:nvSpPr>
            <p:cNvPr id="106" name=""/>
            <p:cNvSpPr/>
            <p:nvPr/>
          </p:nvSpPr>
          <p:spPr>
            <a:xfrm>
              <a:off x="6710400" y="4795920"/>
              <a:ext cx="398520" cy="39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22720" y="4905360"/>
              <a:ext cx="183600" cy="18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910560" y="2898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575400" y="3481560"/>
            <a:ext cx="568440" cy="482400"/>
            <a:chOff x="6575400" y="3481560"/>
            <a:chExt cx="568440" cy="482400"/>
          </a:xfrm>
        </p:grpSpPr>
        <p:grpSp>
          <p:nvGrpSpPr>
            <p:cNvPr id="110" name=""/>
            <p:cNvGrpSpPr/>
            <p:nvPr/>
          </p:nvGrpSpPr>
          <p:grpSpPr>
            <a:xfrm>
              <a:off x="6575400" y="3481560"/>
              <a:ext cx="306000" cy="482400"/>
              <a:chOff x="6575400" y="3481560"/>
              <a:chExt cx="306000" cy="482400"/>
            </a:xfrm>
          </p:grpSpPr>
          <p:sp>
            <p:nvSpPr>
              <p:cNvPr id="111" name=""/>
              <p:cNvSpPr/>
              <p:nvPr/>
            </p:nvSpPr>
            <p:spPr>
              <a:xfrm>
                <a:off x="6881400" y="3481560"/>
                <a:ext cx="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575400" y="3757320"/>
                <a:ext cx="306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81400" y="3757320"/>
              <a:ext cx="26244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8600" y="5510160"/>
            <a:ext cx="8736120" cy="1162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кл в цикл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ложенный цик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6. Клав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311120"/>
            <a:ext cx="873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знаете, что такое пишущая машинка? Это было устройство для печати текста на бумаге. Оно представляло собой клавиатуру; при резком нажат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лавиши ударный молоточек с соответствующим символом ударял через красящую ленту по листу бумаги, печатая на нем символ. Затем бумага смещалась влево на одну позицию и очередной символ печатался ря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зультате очередного усовершенствования конструкции пишущей машинки в ее клавиатуру была добавлена всего одна клавиша, а количество печатаемых символов увеличилось в два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делала эта клавиш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78240" y="3638520"/>
            <a:ext cx="2679840" cy="2648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3938760"/>
            <a:ext cx="8736120" cy="2617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клавиша была аналогом современных клави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sLock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f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— она меняла регистр букв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нее пишущая машинка печатала только прописные буквы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этой же клавишей на каждом молоточк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ли помещать по две литеры (одна под другой)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тало можно печатать как большие, так и маленькие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7. Арифметический при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, конечно, знаете, что арифметика — это наука о числах и действиях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 ними. А как назывался механический прибор, позволявший выполнять четыре арифметических действия на целыми числ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20960" y="2463840"/>
            <a:ext cx="5656320" cy="3773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7440" y="2463840"/>
            <a:ext cx="8736120" cy="4092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рифмомет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вание прибора происходит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 двух греческих слов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о из которых — «число», «счёт»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торое — «мера», «измерител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8. Откуда взялись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3111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ет одна из ненаучных гипотез происхождения начертания современных арабских цифр. Ее идею демонстрирует следующее изображ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6320" y="2317680"/>
          <a:ext cx="6838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2317680"/>
                    <a:ext cx="683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28600" y="3191040"/>
            <a:ext cx="87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м заключается эта гипотез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8600" y="3809880"/>
            <a:ext cx="8736120" cy="2746440"/>
            <a:chOff x="228600" y="3809880"/>
            <a:chExt cx="8736120" cy="2746440"/>
          </a:xfrm>
        </p:grpSpPr>
        <p:sp>
          <p:nvSpPr>
            <p:cNvPr id="131" name=""/>
            <p:cNvSpPr/>
            <p:nvPr/>
          </p:nvSpPr>
          <p:spPr>
            <a:xfrm>
              <a:off x="228600" y="3809880"/>
              <a:ext cx="8736120" cy="274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ипотеза заключается в том, что количество углов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(острых или прямых) в изображении каждой цифры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ответствует ее числовому значению: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— один угол, 2 — два угла и т.д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о для цифры 9 эта гипотеза не соблюдаетс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386000" y="5364000"/>
            <a:ext cx="6095880" cy="7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86000" y="5364000"/>
                      <a:ext cx="609588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20T20:29:57Z</dcterms:modified>
  <cp:revision>106</cp:revision>
  <dc:subject/>
  <dc:title>Презентация PowerPoint</dc:title>
</cp:coreProperties>
</file>