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Obl_U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6" descr="page_I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7320" y="3038400"/>
            <a:ext cx="77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Impact"/>
              </a:rPr>
              <a:t>Полярные   координ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76800" y="4905360"/>
            <a:ext cx="36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латопольский Д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0152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Функции 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в полярной  системе 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46240" y="1268280"/>
            <a:ext cx="32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ример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46240" y="1820880"/>
            <a:ext cx="32259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 + 2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ru-RU" sz="2400" spc="-1" strike="noStrike">
                <a:solidFill>
                  <a:srgbClr val="339966"/>
                </a:solidFill>
                <a:latin typeface="Arial"/>
              </a:rPr>
              <a:t>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73680" y="1268280"/>
            <a:ext cx="2524320" cy="676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40360" y="194472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http://grafikus.ru/plot2d#po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30437" t="22630" r="2687" b="42524"/>
          <a:stretch/>
        </p:blipFill>
        <p:spPr>
          <a:xfrm>
            <a:off x="277920" y="2803680"/>
            <a:ext cx="8591400" cy="3243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57120" y="4695840"/>
            <a:ext cx="2328840" cy="609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235160" y="101520"/>
            <a:ext cx="6643440" cy="664380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29167 2.96296E-006 E">
                                      <p:cBhvr>
                                        <p:cTn id="304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L -0.29028 1.85185E-006 E">
                                      <p:cBhvr>
                                        <p:cTn id="30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635280" y="10152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ние 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 самостоятельной 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760" y="1268280"/>
            <a:ext cx="850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становите, как выглядит в полярных координатах график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1) 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2) </a:t>
            </a:r>
            <a:r>
              <a:rPr b="0" i="1" lang="en-US" sz="2400" spc="-1" strike="noStrike">
                <a:solidFill>
                  <a:srgbClr val="1f497d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= 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760" y="4462560"/>
            <a:ext cx="8502480" cy="113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99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339966"/>
                </a:solidFill>
                <a:latin typeface="Arial"/>
              </a:rPr>
              <a:t>1)  </a:t>
            </a:r>
            <a:r>
              <a:rPr b="0" lang="en-US" sz="2200" spc="-1" strike="noStrike">
                <a:solidFill>
                  <a:srgbClr val="339966"/>
                </a:solidFill>
                <a:latin typeface="Arial"/>
              </a:rPr>
              <a:t>http://grafikus.ru/i/6724/25426030.b/0_a33dc_a684c985_o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99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339966"/>
                </a:solidFill>
                <a:latin typeface="Arial"/>
              </a:rPr>
              <a:t>2)  </a:t>
            </a:r>
            <a:r>
              <a:rPr b="0" lang="en-US" sz="2200" spc="-1" strike="noStrike">
                <a:solidFill>
                  <a:srgbClr val="339966"/>
                </a:solidFill>
                <a:latin typeface="Arial"/>
              </a:rPr>
              <a:t>http://grafikus.ru/i/9811/25426030.b/0_a33dd_38200072_o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екартовы  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43440" y="2347920"/>
            <a:ext cx="0" cy="358776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52600" y="4103640"/>
            <a:ext cx="501516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4160" y="1268280"/>
            <a:ext cx="237492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ордин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9080" y="1268280"/>
            <a:ext cx="121104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9966"/>
                </a:solidFill>
                <a:latin typeface="Arial"/>
              </a:rPr>
              <a:t>y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1960" y="234792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41960" y="410364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65920" y="410364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81680" y="3968640"/>
            <a:ext cx="0" cy="2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0760" y="421164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881680" y="2473200"/>
            <a:ext cx="0" cy="1495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727160" y="3170160"/>
            <a:ext cx="243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26040" y="289872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3440" y="3170160"/>
            <a:ext cx="20224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27680" y="311472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99040" y="2301840"/>
            <a:ext cx="1368720" cy="503280"/>
          </a:xfrm>
          <a:prstGeom prst="wedgeRoundRectCallout">
            <a:avLst>
              <a:gd name="adj1" fmla="val -48722"/>
              <a:gd name="adj2" fmla="val 98263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(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Рене   Декарт   (1596 – 16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File:Frans Hals - Portret van René Descartes.jpg"/>
          <p:cNvPicPr/>
          <p:nvPr/>
        </p:nvPicPr>
        <p:blipFill>
          <a:blip r:embed="rId1"/>
          <a:srcRect l="14422" t="0" r="15070" b="25752"/>
          <a:stretch/>
        </p:blipFill>
        <p:spPr>
          <a:xfrm>
            <a:off x="2911320" y="1441440"/>
            <a:ext cx="32911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3894120" y="3190680"/>
            <a:ext cx="1227240" cy="115236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94120" y="4343400"/>
            <a:ext cx="276696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олярные  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9588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51280" y="4753080"/>
            <a:ext cx="1368360" cy="503280"/>
          </a:xfrm>
          <a:prstGeom prst="wedgeRoundRectCallout">
            <a:avLst>
              <a:gd name="adj1" fmla="val 18907"/>
              <a:gd name="adj2" fmla="val -113722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По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73520" y="4753080"/>
            <a:ext cx="1987560" cy="503280"/>
          </a:xfrm>
          <a:prstGeom prst="wedgeRoundRectCallout">
            <a:avLst>
              <a:gd name="adj1" fmla="val -26356"/>
              <a:gd name="adj2" fmla="val -113722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Полярная 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4760" y="429588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4160" y="1268280"/>
            <a:ext cx="237492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ордин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9080" y="1268280"/>
            <a:ext cx="121104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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3840" y="3657600"/>
            <a:ext cx="1371240" cy="13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26" y="627"/>
                </a:moveTo>
                <a:arcTo wR="10800" hR="10800" stAng="-4222928" swAng="4222928"/>
                <a:lnTo>
                  <a:pt x="10800" y="10800"/>
                </a:lnTo>
                <a:close/>
              </a:path>
              <a:path fill="none" w="21600" h="21600">
                <a:moveTo>
                  <a:pt x="14426" y="627"/>
                </a:moveTo>
                <a:arcTo wR="10800" hR="10800" stAng="-4222928" swAng="4222928"/>
              </a:path>
            </a:pathLst>
          </a:custGeom>
          <a:noFill/>
          <a:ln w="28440">
            <a:solidFill>
              <a:srgbClr val="339966"/>
            </a:solidFill>
            <a:prstDash val="lg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59200" y="364968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819400">
            <a:off x="4353840" y="2836800"/>
            <a:ext cx="144720" cy="1531800"/>
          </a:xfrm>
          <a:custGeom>
            <a:avLst/>
            <a:gdLst>
              <a:gd name="textAreaLeft" fmla="*/ 92520 w 144720"/>
              <a:gd name="textAreaRight" fmla="*/ 145080 w 144720"/>
              <a:gd name="textAreaTop" fmla="*/ 39600 h 1531800"/>
              <a:gd name="textAreaBottom" fmla="*/ 14922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2560" y="315900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60880" y="3137040"/>
            <a:ext cx="108000" cy="10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68880" y="2347920"/>
            <a:ext cx="1368360" cy="503280"/>
          </a:xfrm>
          <a:prstGeom prst="wedgeRoundRectCallout">
            <a:avLst>
              <a:gd name="adj1" fmla="val -48722"/>
              <a:gd name="adj2" fmla="val 98263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(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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олярные  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751280" y="3349440"/>
            <a:ext cx="809640" cy="118404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51280" y="4533840"/>
            <a:ext cx="276696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03760" y="448632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1480" y="420048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89320" y="3847320"/>
            <a:ext cx="1371240" cy="137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97" y="936"/>
                </a:moveTo>
                <a:arcTo wR="10800" hR="10800" stAng="-3958536" swAng="3958536"/>
                <a:lnTo>
                  <a:pt x="10800" y="10800"/>
                </a:lnTo>
                <a:close/>
              </a:path>
              <a:path fill="none" w="21600" h="21600">
                <a:moveTo>
                  <a:pt x="15197" y="936"/>
                </a:moveTo>
                <a:arcTo wR="10800" hR="10800" stAng="-3958536" swAng="3958536"/>
              </a:path>
            </a:pathLst>
          </a:custGeom>
          <a:noFill/>
          <a:ln w="28440">
            <a:solidFill>
              <a:srgbClr val="339966"/>
            </a:solidFill>
            <a:prstDash val="lg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23040" y="3906720"/>
            <a:ext cx="6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60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053800">
            <a:off x="4979520" y="3068280"/>
            <a:ext cx="144720" cy="1531800"/>
          </a:xfrm>
          <a:custGeom>
            <a:avLst/>
            <a:gdLst>
              <a:gd name="textAreaLeft" fmla="*/ 92520 w 144720"/>
              <a:gd name="textAreaRight" fmla="*/ 145080 w 144720"/>
              <a:gd name="textAreaTop" fmla="*/ 39600 h 1531800"/>
              <a:gd name="textAreaBottom" fmla="*/ 14922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60840" y="357840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97560" y="3295800"/>
            <a:ext cx="108000" cy="10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05560" y="2538360"/>
            <a:ext cx="1368360" cy="503280"/>
          </a:xfrm>
          <a:prstGeom prst="wedgeRoundRectCallout">
            <a:avLst>
              <a:gd name="adj1" fmla="val -48722"/>
              <a:gd name="adj2" fmla="val 98263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º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4160" y="1268280"/>
            <a:ext cx="237492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Точка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9080" y="1268280"/>
            <a:ext cx="121104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60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  <a:ea typeface="Arial"/>
              </a:rPr>
              <a:t>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1268280"/>
            <a:ext cx="237492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Точка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07280" y="1268280"/>
            <a:ext cx="121140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11720" y="4002120"/>
            <a:ext cx="1095120" cy="10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1" y="14573"/>
                </a:moveTo>
                <a:arcTo wR="10800" hR="10800" stAng="9573021" swAng="12026979"/>
                <a:lnTo>
                  <a:pt x="10800" y="10800"/>
                </a:lnTo>
                <a:close/>
              </a:path>
              <a:path fill="none" w="21600" h="21600">
                <a:moveTo>
                  <a:pt x="681" y="14573"/>
                </a:moveTo>
                <a:arcTo wR="10800" hR="10800" stAng="9573021" swAng="12026979"/>
              </a:path>
            </a:pathLst>
          </a:custGeom>
          <a:noFill/>
          <a:ln w="28440">
            <a:solidFill>
              <a:srgbClr val="0000ff"/>
            </a:solidFill>
            <a:prstDash val="lg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0672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1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813040" y="4533480"/>
            <a:ext cx="1951200" cy="1009800"/>
          </a:xfrm>
          <a:prstGeom prst="line">
            <a:avLst/>
          </a:prstGeom>
          <a:ln w="2844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4465400">
            <a:off x="3729600" y="4213800"/>
            <a:ext cx="144360" cy="2019240"/>
          </a:xfrm>
          <a:custGeom>
            <a:avLst/>
            <a:gdLst>
              <a:gd name="textAreaLeft" fmla="*/ 92160 w 144360"/>
              <a:gd name="textAreaRight" fmla="*/ 144360 w 144360"/>
              <a:gd name="textAreaTop" fmla="*/ 52560 h 2019240"/>
              <a:gd name="textAreaBottom" fmla="*/ 1966680 h 20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515160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86040" y="548964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5680" y="4657680"/>
            <a:ext cx="1368360" cy="503280"/>
          </a:xfrm>
          <a:prstGeom prst="wedgeRoundRectCallout">
            <a:avLst>
              <a:gd name="adj1" fmla="val 43388"/>
              <a:gd name="adj2" fmla="val 98263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10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º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Танцы   пч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680" y="12463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74680" y="3722760"/>
            <a:ext cx="4191120" cy="196668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4699080" y="1246320"/>
            <a:ext cx="420372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5280" y="10152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Функции 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в полярной  системе 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840" y="1268280"/>
            <a:ext cx="264312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in(</a:t>
            </a:r>
            <a:r>
              <a:rPr b="1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14720" y="2773440"/>
            <a:ext cx="5067000" cy="3948120"/>
            <a:chOff x="2214720" y="2773440"/>
            <a:chExt cx="5067000" cy="3948120"/>
          </a:xfrm>
        </p:grpSpPr>
        <p:sp>
          <p:nvSpPr>
            <p:cNvPr id="142" name=""/>
            <p:cNvSpPr/>
            <p:nvPr/>
          </p:nvSpPr>
          <p:spPr>
            <a:xfrm>
              <a:off x="2214720" y="2773440"/>
              <a:ext cx="5067000" cy="266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2325600" y="2927520"/>
              <a:ext cx="4858920" cy="3794040"/>
              <a:chOff x="2325600" y="2927520"/>
              <a:chExt cx="4858920" cy="3794040"/>
            </a:xfrm>
          </p:grpSpPr>
          <p:sp>
            <p:nvSpPr>
              <p:cNvPr id="144" name=""/>
              <p:cNvSpPr/>
              <p:nvPr/>
            </p:nvSpPr>
            <p:spPr>
              <a:xfrm>
                <a:off x="4291560" y="3039120"/>
                <a:ext cx="1636560" cy="36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2325600" y="2927520"/>
                <a:ext cx="4858920" cy="2447640"/>
                <a:chOff x="2325600" y="2927520"/>
                <a:chExt cx="4858920" cy="244764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2325600" y="2927520"/>
                  <a:ext cx="4858920" cy="2029680"/>
                  <a:chOff x="2325600" y="2927520"/>
                  <a:chExt cx="4858920" cy="20296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5628240" y="3555000"/>
                    <a:ext cx="141840" cy="141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055120" y="2927520"/>
                    <a:ext cx="141840" cy="1422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2325600" y="3039120"/>
                    <a:ext cx="4858920" cy="1918080"/>
                    <a:chOff x="2325600" y="3039120"/>
                    <a:chExt cx="4858920" cy="191808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2325600" y="4880160"/>
                      <a:ext cx="48589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 flipV="1">
                      <a:off x="3198960" y="3652200"/>
                      <a:ext cx="2429280" cy="12272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5826600" y="4815360"/>
                      <a:ext cx="141840" cy="1418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flipV="1">
                      <a:off x="3171600" y="3039120"/>
                      <a:ext cx="1937880" cy="184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 flipV="1">
                      <a:off x="3226320" y="4350240"/>
                      <a:ext cx="2673720" cy="529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"/>
                <p:cNvSpPr/>
                <p:nvPr/>
              </p:nvSpPr>
              <p:spPr>
                <a:xfrm>
                  <a:off x="3097800" y="4993200"/>
                  <a:ext cx="25668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5819400" y="4266720"/>
                <a:ext cx="141840" cy="141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3413160" y="1268280"/>
            <a:ext cx="55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Построение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с помощью циркуля и лин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9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635280" y="10152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Функции 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в полярной  системе 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268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Точка (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полярных координатах –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то же, что (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× </a:t>
            </a: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φ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),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× </a:t>
            </a: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sin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339966"/>
                </a:solidFill>
                <a:latin typeface="Arial"/>
              </a:rPr>
              <a:t>φ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)) в декартовых координ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035000" y="2409840"/>
            <a:ext cx="6680160" cy="3254400"/>
            <a:chOff x="1035000" y="2409840"/>
            <a:chExt cx="6680160" cy="3254400"/>
          </a:xfrm>
        </p:grpSpPr>
        <p:sp>
          <p:nvSpPr>
            <p:cNvPr id="161" name=""/>
            <p:cNvSpPr/>
            <p:nvPr/>
          </p:nvSpPr>
          <p:spPr>
            <a:xfrm>
              <a:off x="1035000" y="2409840"/>
              <a:ext cx="6664320" cy="325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284120" y="2575080"/>
              <a:ext cx="6431040" cy="3041640"/>
              <a:chOff x="1284120" y="2575080"/>
              <a:chExt cx="6431040" cy="3041640"/>
            </a:xfrm>
          </p:grpSpPr>
          <p:sp>
            <p:nvSpPr>
              <p:cNvPr id="163" name=""/>
              <p:cNvSpPr/>
              <p:nvPr/>
            </p:nvSpPr>
            <p:spPr>
              <a:xfrm>
                <a:off x="4500720" y="4219560"/>
                <a:ext cx="38412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9966"/>
                    </a:solidFill>
                    <a:latin typeface="Arial"/>
                  </a:rPr>
                  <a:t>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1284120" y="2646360"/>
                <a:ext cx="6221520" cy="2882880"/>
                <a:chOff x="1284120" y="2646360"/>
                <a:chExt cx="6221520" cy="28828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284120" y="5004720"/>
                  <a:ext cx="6221520" cy="0"/>
                </a:xfrm>
                <a:prstGeom prst="line">
                  <a:avLst/>
                </a:prstGeom>
                <a:ln w="28440">
                  <a:solidFill>
                    <a:srgbClr val="00008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382120" y="2646360"/>
                  <a:ext cx="0" cy="2882880"/>
                </a:xfrm>
                <a:prstGeom prst="line">
                  <a:avLst/>
                </a:prstGeom>
                <a:ln w="28440">
                  <a:solidFill>
                    <a:srgbClr val="000080"/>
                  </a:solidFill>
                  <a:miter/>
                  <a:head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7261200" y="5092560"/>
                <a:ext cx="45396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01800" y="2575080"/>
                <a:ext cx="45396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403360" y="3432240"/>
                <a:ext cx="3110040" cy="1573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583240" y="3432240"/>
                <a:ext cx="0" cy="1573200"/>
              </a:xfrm>
              <a:prstGeom prst="line">
                <a:avLst/>
              </a:prstGeom>
              <a:ln w="1908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403000" y="3432240"/>
                <a:ext cx="3179880" cy="0"/>
              </a:xfrm>
              <a:prstGeom prst="line">
                <a:avLst/>
              </a:prstGeom>
              <a:ln w="19080">
                <a:solidFill>
                  <a:srgbClr val="8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392600">
                <a:off x="3061080" y="4051440"/>
                <a:ext cx="1371240" cy="131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13" y="48"/>
                    </a:moveTo>
                    <a:arcTo wR="10800" hR="10800" stAng="-5077031" swAng="50770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13" y="48"/>
                    </a:moveTo>
                    <a:arcTo wR="10800" hR="10800" stAng="-5077031" swAng="5077031"/>
                  </a:path>
                </a:pathLst>
              </a:custGeom>
              <a:noFill/>
              <a:ln w="28440">
                <a:solidFill>
                  <a:srgbClr val="339966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37040" y="3956040"/>
                <a:ext cx="49824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28880" y="5092560"/>
                <a:ext cx="45396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81720" y="3317760"/>
                <a:ext cx="180720" cy="181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62440" y="2575080"/>
                <a:ext cx="1368720" cy="502920"/>
              </a:xfrm>
              <a:prstGeom prst="wedgeRoundRectCallout">
                <a:avLst>
                  <a:gd name="adj1" fmla="val -48722"/>
                  <a:gd name="adj2" fmla="val 98263"/>
                  <a:gd name="adj3" fmla="val 16667"/>
                </a:avLst>
              </a:prstGeom>
              <a:solidFill>
                <a:srgbClr val="ffff99"/>
              </a:solidFill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( </a:t>
                </a: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R</a:t>
                </a: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, </a:t>
                </a:r>
                <a:r>
                  <a:rPr b="1" lang="en-US" sz="1800" spc="-1" strike="noStrike">
                    <a:solidFill>
                      <a:srgbClr val="ff6600"/>
                    </a:solidFill>
                    <a:latin typeface="Symbol"/>
                    <a:ea typeface="Symbol"/>
                  </a:rPr>
                  <a:t></a:t>
                </a: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10320" y="4033800"/>
                <a:ext cx="159840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1f497d"/>
                    </a:solidFill>
                    <a:latin typeface="Arial"/>
                  </a:rPr>
                  <a:t>× </a:t>
                </a:r>
                <a:r>
                  <a:rPr b="0" lang="en-GB" sz="2400" spc="-1" strike="noStrike">
                    <a:solidFill>
                      <a:srgbClr val="1f497d"/>
                    </a:solidFill>
                    <a:latin typeface="Arial"/>
                  </a:rPr>
                  <a:t>cos</a:t>
                </a:r>
                <a:r>
                  <a:rPr b="0" lang="ru-RU" sz="2400" spc="-1" strike="noStrike">
                    <a:solidFill>
                      <a:srgbClr val="1f497d"/>
                    </a:solidFill>
                    <a:latin typeface="Arial"/>
                  </a:rPr>
                  <a:t>(</a:t>
                </a:r>
                <a:r>
                  <a:rPr b="0" lang="ru-RU" sz="2400" spc="-1" strike="noStrike">
                    <a:solidFill>
                      <a:srgbClr val="339966"/>
                    </a:solidFill>
                    <a:latin typeface="Arial"/>
                  </a:rPr>
                  <a:t>φ</a:t>
                </a:r>
                <a:r>
                  <a:rPr b="0" lang="ru-RU" sz="2400" spc="-1" strike="noStrike">
                    <a:solidFill>
                      <a:srgbClr val="1f497d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137040" y="2903400"/>
                <a:ext cx="159840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1f497d"/>
                    </a:solidFill>
                    <a:latin typeface="Arial"/>
                  </a:rPr>
                  <a:t>× </a:t>
                </a:r>
                <a:r>
                  <a:rPr b="0" lang="en-US" sz="2400" spc="-1" strike="noStrike">
                    <a:solidFill>
                      <a:srgbClr val="1f497d"/>
                    </a:solidFill>
                    <a:latin typeface="Arial"/>
                  </a:rPr>
                  <a:t>sin</a:t>
                </a:r>
                <a:r>
                  <a:rPr b="0" lang="ru-RU" sz="2400" spc="-1" strike="noStrike">
                    <a:solidFill>
                      <a:srgbClr val="1f497d"/>
                    </a:solidFill>
                    <a:latin typeface="Arial"/>
                  </a:rPr>
                  <a:t>(</a:t>
                </a:r>
                <a:r>
                  <a:rPr b="0" lang="ru-RU" sz="2400" spc="-1" strike="noStrike">
                    <a:solidFill>
                      <a:srgbClr val="339966"/>
                    </a:solidFill>
                    <a:latin typeface="Arial"/>
                  </a:rPr>
                  <a:t>φ</a:t>
                </a:r>
                <a:r>
                  <a:rPr b="0" lang="ru-RU" sz="2400" spc="-1" strike="noStrike">
                    <a:solidFill>
                      <a:srgbClr val="1f497d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28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635280" y="10152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Функции 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в полярной  системе 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26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ример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46240" y="1820880"/>
            <a:ext cx="32259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 + 2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ru-RU" sz="2400" spc="-1" strike="noStrike">
                <a:solidFill>
                  <a:srgbClr val="339966"/>
                </a:solidFill>
                <a:latin typeface="Arial"/>
              </a:rPr>
              <a:t>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19000" y="2928960"/>
            <a:ext cx="74980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1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REW</cp:lastModifiedBy>
  <dcterms:modified xsi:type="dcterms:W3CDTF">2013-12-13T18:25:04Z</dcterms:modified>
  <cp:revision>58</cp:revision>
  <dc:subject/>
  <dc:title>Презентация PowerPoint</dc:title>
</cp:coreProperties>
</file>