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Impact"/>
              </a:rPr>
              <a:t>Схема Горн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76800" y="4905360"/>
            <a:ext cx="36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латопольский Д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Общий случай –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оптимальные вы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311120"/>
            <a:ext cx="87361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м случае виде алгебраический многочле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степен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его преобразование к скобочной форме выглядят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</a:t>
            </a:r>
            <a:r>
              <a:rPr b="0" i="1" lang="en-US" sz="2400" spc="-1" strike="noStrike" baseline="30000">
                <a:solidFill>
                  <a:srgbClr val="339966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</a:t>
            </a:r>
            <a:r>
              <a:rPr b="0" i="1" lang="en-US" sz="2400" spc="-1" strike="noStrike" baseline="30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 – 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</a:t>
            </a:r>
            <a:r>
              <a:rPr b="0" i="1" lang="en-US" sz="2400" spc="-1" strike="noStrike" baseline="30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 – 2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… +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 + а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= </a:t>
            </a:r>
            <a:br>
              <a:rPr sz="2400"/>
            </a:b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= ((…((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– 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  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+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 + … + а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 + а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x + а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0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ебраический многочле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степени, а следовательно, и десятичный эквивален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ичного числа можно вычислить з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й умножен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й с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птимальный способ вычис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8200" y="3019320"/>
            <a:ext cx="412920" cy="26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78560" y="2727360"/>
            <a:ext cx="412560" cy="26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11120"/>
            <a:ext cx="87361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количество умножений, количество сложений и количеств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нажатий клавиш с цифрами при переводе восьмеричного чис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174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в десятичную систему без использования схемы Горнера на калькулят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ез функции возведения в степень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с такой функц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оих случаях учтите также нажатия клавиш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охран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и суммирование частных произведений в памяти)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вод значен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из памя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311120"/>
            <a:ext cx="87361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вед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есятичную систему счисления описанным способом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с использованием схемы Горнера следующие чи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1010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212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505320"/>
            <a:ext cx="8736120" cy="179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1010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212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3111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2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ятся цифры заданного целого двоичного числа.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одготовьте лист для перевода этого числа в десятичную систем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счисления без использования схемы Горне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81280" y="2432160"/>
          <a:ext cx="5302080" cy="2193840"/>
        </p:xfrm>
        <a:graphic>
          <a:graphicData uri="http://schemas.openxmlformats.org/drawingml/2006/table">
            <a:tbl>
              <a:tblPr/>
              <a:tblGrid>
                <a:gridCol w="469800"/>
                <a:gridCol w="2193840"/>
                <a:gridCol w="336600"/>
                <a:gridCol w="349200"/>
                <a:gridCol w="349560"/>
                <a:gridCol w="322200"/>
                <a:gridCol w="334800"/>
                <a:gridCol w="317520"/>
                <a:gridCol w="289080"/>
                <a:gridCol w="339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воичные цифры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числ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оответствующе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есятичное число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рав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44440" y="480060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Указания по выпол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спомогательные расчеты проведите вне зоны видимости 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спользуйте функци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ПРОИЗ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295280"/>
            <a:ext cx="8736120" cy="538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есомости разрядов записать, например, в стро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искомое значение в ячей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быть рассчитано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СУММПРОИЗВ(B1:I1;B42:I4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 весомостей может быть проведен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41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ятся номера разрядов (используя автозаполн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ячей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ится форму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2^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затем распространяет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(копируется) на остальные яч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3400" y="4035600"/>
          <a:ext cx="7556400" cy="2465280"/>
        </p:xfrm>
        <a:graphic>
          <a:graphicData uri="http://schemas.openxmlformats.org/drawingml/2006/table">
            <a:tbl>
              <a:tblPr/>
              <a:tblGrid>
                <a:gridCol w="465120"/>
                <a:gridCol w="3737160"/>
                <a:gridCol w="565200"/>
                <a:gridCol w="438120"/>
                <a:gridCol w="438120"/>
                <a:gridCol w="438120"/>
                <a:gridCol w="323640"/>
                <a:gridCol w="362160"/>
                <a:gridCol w="349200"/>
                <a:gridCol w="439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двоичные цифры числ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оответствующее десятичное число рав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Номер разря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есомость разря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3111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2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ятся цифры заданного целого двоичного числ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ьте лист для перевода этого числа в десятичную систем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сления с использованием схемы Горне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74800" y="2440080"/>
          <a:ext cx="5332320" cy="2193840"/>
        </p:xfrm>
        <a:graphic>
          <a:graphicData uri="http://schemas.openxmlformats.org/drawingml/2006/table">
            <a:tbl>
              <a:tblPr/>
              <a:tblGrid>
                <a:gridCol w="425520"/>
                <a:gridCol w="2162160"/>
                <a:gridCol w="349200"/>
                <a:gridCol w="349200"/>
                <a:gridCol w="349200"/>
                <a:gridCol w="336600"/>
                <a:gridCol w="324000"/>
                <a:gridCol w="361800"/>
                <a:gridCol w="349200"/>
                <a:gridCol w="325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воичные цифр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числ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оответствующе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есятичное число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рав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295280"/>
            <a:ext cx="8736120" cy="538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огательные расчеты согласно по схеме Горнера можно провести, например, в стро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чей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водится форму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A42*2+B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затем распространяется (копируется) на остальные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строки. Искомое значение в ячей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о значению в ячей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енный пример наглядно демонстрирует преимущества использования для расчетов схемы Горн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63720" y="2720880"/>
          <a:ext cx="7350120" cy="2100240"/>
        </p:xfrm>
        <a:graphic>
          <a:graphicData uri="http://schemas.openxmlformats.org/drawingml/2006/table">
            <a:tbl>
              <a:tblPr/>
              <a:tblGrid>
                <a:gridCol w="469800"/>
                <a:gridCol w="3737160"/>
                <a:gridCol w="438120"/>
                <a:gridCol w="349200"/>
                <a:gridCol w="349200"/>
                <a:gridCol w="336600"/>
                <a:gridCol w="323640"/>
                <a:gridCol w="438120"/>
                <a:gridCol w="438480"/>
                <a:gridCol w="469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двоичные цифры числ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оответствующе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есятичное число рав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3111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готовьте лист для перевода в десятичную систему счислени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спользованием схемы Горнера целого числа, заданного в систем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сления с основани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 ≤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≤ 9) в виде набора циф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74720" y="2355840"/>
          <a:ext cx="5530680" cy="3108240"/>
        </p:xfrm>
        <a:graphic>
          <a:graphicData uri="http://schemas.openxmlformats.org/drawingml/2006/table">
            <a:tbl>
              <a:tblPr/>
              <a:tblGrid>
                <a:gridCol w="531720"/>
                <a:gridCol w="2193840"/>
                <a:gridCol w="349560"/>
                <a:gridCol w="349200"/>
                <a:gridCol w="349200"/>
                <a:gridCol w="336600"/>
                <a:gridCol w="323640"/>
                <a:gridCol w="362160"/>
                <a:gridCol w="349200"/>
                <a:gridCol w="385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воичные цифры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числ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основан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истемы 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оответствующе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есятичное число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рав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295280"/>
            <a:ext cx="8736120" cy="538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а в ячей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A41*$B2+B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спространяется (копируется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тальные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стро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77920" y="2797200"/>
          <a:ext cx="6508800" cy="3289320"/>
        </p:xfrm>
        <a:graphic>
          <a:graphicData uri="http://schemas.openxmlformats.org/drawingml/2006/table">
            <a:tbl>
              <a:tblPr/>
              <a:tblGrid>
                <a:gridCol w="595440"/>
                <a:gridCol w="2330280"/>
                <a:gridCol w="565200"/>
                <a:gridCol w="349200"/>
                <a:gridCol w="349200"/>
                <a:gridCol w="336600"/>
                <a:gridCol w="438120"/>
                <a:gridCol w="438120"/>
                <a:gridCol w="438120"/>
                <a:gridCol w="668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двоичны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цифры числ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основани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истемы 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оответствующе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есятичное число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рав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еобразование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роб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311120"/>
            <a:ext cx="8736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у Горнера можно применить для перевода в десятичную систему дробных чис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 правильных конечных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ичных дробей в десятичную сис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онумеровать все цифры дробной части слева направо, начиная с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ждую цифру дробной части умножить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номер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езультаты сло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ч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 арифметические действия проводятся в десят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знач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«весомость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о дробного разряда»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можно сказать, что искомый результат равен сумме произведен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й цифры дробной части заданной дроби на весомость ее разр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хема Горнера в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311120"/>
            <a:ext cx="873612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темати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хемой  Горнер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правилом Горнера», «методом Горнера») называют алгоритм вычисления значения многочлен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800" spc="-1" strike="noStrike" baseline="-25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x</a:t>
            </a:r>
            <a:r>
              <a:rPr b="0" i="1" lang="en-US" sz="2800" spc="-1" strike="noStrike" baseline="30000">
                <a:solidFill>
                  <a:srgbClr val="339966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 +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800" spc="-1" strike="noStrike" baseline="-25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8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x</a:t>
            </a:r>
            <a:r>
              <a:rPr b="0" i="1" lang="en-US" sz="2800" spc="-1" strike="noStrike" baseline="30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800" spc="-1" strike="noStrike" baseline="30000">
                <a:solidFill>
                  <a:srgbClr val="339966"/>
                </a:solidFill>
                <a:latin typeface="Arial"/>
              </a:rPr>
              <a:t> – 1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 +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800" spc="-1" strike="noStrike" baseline="-25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339966"/>
                </a:solidFill>
                <a:latin typeface="Arial"/>
              </a:rPr>
              <a:t> – 2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x</a:t>
            </a:r>
            <a:r>
              <a:rPr b="0" i="1" lang="en-US" sz="2800" spc="-1" strike="noStrike" baseline="30000">
                <a:solidFill>
                  <a:srgbClr val="339966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800" spc="-1" strike="noStrike" baseline="30000">
                <a:solidFill>
                  <a:srgbClr val="339966"/>
                </a:solidFill>
                <a:latin typeface="Arial"/>
              </a:rPr>
              <a:t>– 2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 + … +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ru-RU" sz="28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x + а</a:t>
            </a:r>
            <a:r>
              <a:rPr b="0" i="1" lang="ru-RU" sz="2800" spc="-1" strike="noStrike" baseline="-25000">
                <a:solidFill>
                  <a:srgbClr val="339966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нного в виде суммы одночленов при заданном значении переменн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25720" y="4954680"/>
            <a:ext cx="51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нер Вильямc Джордж (1786–1837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ий матема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имеры перевода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роб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311120"/>
            <a:ext cx="87361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81bd"/>
                </a:solidFill>
                <a:latin typeface="Arial"/>
              </a:rPr>
              <a:t>Пример 1.</a:t>
            </a:r>
            <a:r>
              <a:rPr b="0" i="1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ведем число 0,201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0,2012</a:t>
            </a:r>
            <a:r>
              <a:rPr b="1" lang="en-US" sz="2000" spc="-1" strike="noStrike" baseline="-25000">
                <a:solidFill>
                  <a:srgbClr val="3399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= 2 ∙ 3</a:t>
            </a:r>
            <a:r>
              <a:rPr b="1" lang="en-US" sz="20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+ 1 ∙ 3</a:t>
            </a:r>
            <a:r>
              <a:rPr b="1" lang="en-US" sz="2000" spc="-1" strike="noStrike" baseline="30000">
                <a:solidFill>
                  <a:srgbClr val="339966"/>
                </a:solidFill>
                <a:latin typeface="Arial"/>
              </a:rPr>
              <a:t>–3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+ 2 ∙ 3</a:t>
            </a:r>
            <a:r>
              <a:rPr b="1" lang="en-US" sz="2000" spc="-1" strike="noStrike" baseline="30000">
                <a:solidFill>
                  <a:srgbClr val="339966"/>
                </a:solidFill>
                <a:latin typeface="Arial"/>
              </a:rPr>
              <a:t>–4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= 0,728395061728</a:t>
            </a:r>
            <a:r>
              <a:rPr b="1" lang="en-US" sz="2000" spc="-1" strike="noStrike" baseline="-25000">
                <a:solidFill>
                  <a:srgbClr val="3399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9,  каждая  цифра дробной части предварительно переводитс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есятичную сис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81bd"/>
                </a:solidFill>
                <a:latin typeface="Arial"/>
              </a:rPr>
              <a:t>Пример 2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ведем число 0,А0В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0,А0В2</a:t>
            </a:r>
            <a:r>
              <a:rPr b="1" lang="en-US" sz="2000" spc="-1" strike="noStrike" baseline="-25000">
                <a:solidFill>
                  <a:srgbClr val="339966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= [10</a:t>
            </a:r>
            <a:r>
              <a:rPr b="1" lang="en-US" sz="2000" spc="-1" strike="noStrike" baseline="-25000">
                <a:solidFill>
                  <a:srgbClr val="3399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] [0</a:t>
            </a:r>
            <a:r>
              <a:rPr b="1" lang="en-US" sz="2000" spc="-1" strike="noStrike" baseline="-25000">
                <a:solidFill>
                  <a:srgbClr val="3399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] [11</a:t>
            </a:r>
            <a:r>
              <a:rPr b="1" lang="en-US" sz="2000" spc="-1" strike="noStrike" baseline="-25000">
                <a:solidFill>
                  <a:srgbClr val="3399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] [2</a:t>
            </a:r>
            <a:r>
              <a:rPr b="1" lang="en-US" sz="2000" spc="-1" strike="noStrike" baseline="-25000">
                <a:solidFill>
                  <a:srgbClr val="3399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] = 10 ∙ 16</a:t>
            </a:r>
            <a:r>
              <a:rPr b="1" lang="en-US" sz="20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+ 11 ∙ 16</a:t>
            </a:r>
            <a:r>
              <a:rPr b="1" lang="en-US" sz="2000" spc="-1" strike="noStrike" baseline="30000">
                <a:solidFill>
                  <a:srgbClr val="339966"/>
                </a:solidFill>
                <a:latin typeface="Arial"/>
              </a:rPr>
              <a:t>–3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+ 2 ∙ 16</a:t>
            </a:r>
            <a:r>
              <a:rPr b="1" lang="en-US" sz="2000" spc="-1" strike="noStrike" baseline="30000">
                <a:solidFill>
                  <a:srgbClr val="339966"/>
                </a:solidFill>
                <a:latin typeface="Arial"/>
              </a:rPr>
              <a:t>–4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=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= 0,627716064453</a:t>
            </a:r>
            <a:r>
              <a:rPr b="1" lang="en-US" sz="2000" spc="-1" strike="noStrike" baseline="-25000">
                <a:solidFill>
                  <a:srgbClr val="3399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5280" y="10152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хема Горнера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вычисления правильной д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311120"/>
            <a:ext cx="873612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олучить схему Горнера для вычисления правильн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чной дроб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пишем в развернутой форме цифры дроби в обратном порядк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весомости соответствующих разря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</a:t>
            </a:r>
            <a:r>
              <a:rPr b="0" i="1" lang="en-US" sz="2400" spc="-1" strike="noStrike" baseline="30000">
                <a:solidFill>
                  <a:srgbClr val="339966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</a:t>
            </a:r>
            <a:r>
              <a:rPr b="0" i="1" lang="en-US" sz="2400" spc="-1" strike="noStrike" baseline="30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 + 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… +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= (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</a:t>
            </a:r>
            <a:r>
              <a:rPr b="0" i="1" lang="en-US" sz="2400" spc="-1" strike="noStrike" baseline="30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+ 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</a:t>
            </a:r>
            <a:r>
              <a:rPr b="0" i="1" lang="en-US" sz="2400" spc="-1" strike="noStrike" baseline="30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 + 2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… +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а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= ((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</a:t>
            </a:r>
            <a:r>
              <a:rPr b="0" i="1" lang="en-US" sz="2400" spc="-1" strike="noStrike" baseline="30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 + 2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</a:t>
            </a:r>
            <a:r>
              <a:rPr b="0" i="1" lang="en-US" sz="2400" spc="-1" strike="noStrike" baseline="30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 +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3 + … +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= …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= (…(((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0" i="1" lang="en-US" sz="2400" spc="-1" strike="noStrike" baseline="-25000">
                <a:solidFill>
                  <a:srgbClr val="339966"/>
                </a:solidFill>
                <a:latin typeface="Arial"/>
              </a:rPr>
              <a:t>k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+ … +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 а</a:t>
            </a:r>
            <a:r>
              <a:rPr b="0" i="1" lang="ru-RU" sz="2400" spc="-1" strike="noStrike" baseline="-25000">
                <a:solidFill>
                  <a:srgbClr val="3399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i="1" lang="ru-RU" sz="2400" spc="-1" strike="noStrike" baseline="30000">
                <a:solidFill>
                  <a:srgbClr val="339966"/>
                </a:solidFill>
                <a:latin typeface="Arial"/>
              </a:rPr>
              <a:t>–1</a:t>
            </a:r>
            <a:r>
              <a:rPr b="0" i="1" lang="ru-RU" sz="24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Горнера для дробей «работает» так: последняя цифр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ичной дроби делится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 ней прибавляется предпоследняя цифра, сумма делится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ей прибавляется предпредпоследняя цифра и т.д. до первой цифры дроби, после чего сумма также делится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29000" y="101520"/>
            <a:ext cx="553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имер использования схемы Горнера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вычисления правильной д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311120"/>
            <a:ext cx="87361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исанный механизм работы несколько отличается от работы схемы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учае перевода це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ем использование схемы Горнера примере двоичного чис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ишем число в развернутой форме и выполним тождественные преобразования, приводящие выражение к скобочной фор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)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: 2 + 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2 + 1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2 + 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2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,25 : 2 + 1) : 2 = (0,625 + 1): 2 = 0,8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29000" y="101520"/>
            <a:ext cx="553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Вычисление правильной дроби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о схеме Горнера на калькуля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311120"/>
            <a:ext cx="8736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ное вы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((1 ∙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0) ∙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+ 1) ∙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1) ∙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вивалентное выраж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((1 / 2 + 0) / 2) + 1) / 2 + 1) / 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быть рассчитано на калькулят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виши нажимаются в таком поряд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го требуется четыре операции деления и три операции сложени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люс 7 нажатий клавиш с цифрами и одно нажатие на клавиш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 знаком равен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бавление нуля (нулей) можно не выполнять, тогда число операций сократи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43280" y="3205080"/>
          <a:ext cx="5047560" cy="365040"/>
        </p:xfrm>
        <a:graphic>
          <a:graphicData uri="http://schemas.openxmlformats.org/drawingml/2006/table">
            <a:tbl>
              <a:tblPr/>
              <a:tblGrid>
                <a:gridCol w="312840"/>
                <a:gridCol w="312840"/>
                <a:gridCol w="312840"/>
                <a:gridCol w="323640"/>
                <a:gridCol w="312480"/>
                <a:gridCol w="312840"/>
                <a:gridCol w="313200"/>
                <a:gridCol w="322920"/>
                <a:gridCol w="313200"/>
                <a:gridCol w="312840"/>
                <a:gridCol w="312840"/>
                <a:gridCol w="322920"/>
                <a:gridCol w="313200"/>
                <a:gridCol w="312840"/>
                <a:gridCol w="313200"/>
                <a:gridCol w="322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603760" y="2712960"/>
            <a:ext cx="36036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1680" y="3002040"/>
            <a:ext cx="360360" cy="28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311120"/>
            <a:ext cx="87361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количество умножений, количество сложений и количеств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нажатий клавиш с цифрами при переводе двоичного чис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110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в десятичную систему без использования схемы Горнера на калькулят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ез функции возведения в степен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с такой функц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оих случаях учтите также нажатия клавиш М+ (сохран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и суммирование частных произведений в памяти) и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ывод значен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из памя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311120"/>
            <a:ext cx="87361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еревед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есятичную систему счисления описанным способом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с использованием схемы Горнера следующие чи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0,1010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0,212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505320"/>
            <a:ext cx="8736120" cy="179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0,1010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,65625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0,212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86419753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3111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ьте лист электронной таблицы для перевод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чной дроб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заданной в виде отдельных цифр дробной части, в десятичную систем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счисления без использования схемы Горне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355760" y="2298600"/>
          <a:ext cx="5645160" cy="2558880"/>
        </p:xfrm>
        <a:graphic>
          <a:graphicData uri="http://schemas.openxmlformats.org/drawingml/2006/table">
            <a:tbl>
              <a:tblPr/>
              <a:tblGrid>
                <a:gridCol w="432000"/>
                <a:gridCol w="2233440"/>
                <a:gridCol w="704880"/>
                <a:gridCol w="304920"/>
                <a:gridCol w="328320"/>
                <a:gridCol w="336600"/>
                <a:gridCol w="289080"/>
                <a:gridCol w="330120"/>
                <a:gridCol w="328680"/>
                <a:gridCol w="357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ведит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фры дро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ведите основани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истемы счисления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ответствующая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сятичная дробь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28600" y="4944960"/>
            <a:ext cx="87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Указания по выпол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данные цифры должны вводиться в столбц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е более 8 циф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спомогательные расчеты проведите вне зоны видимости л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спользуйте функци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ПРОИЗ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295280"/>
            <a:ext cx="8736120" cy="538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есомости разрядов записать, например, в стро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искомое значение в ячей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быть рассчитано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СУММПРОИЗВ(B1:I1;B42:I4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 весомостей может быть проведен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41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ятся номера разрядов (используя автозаполн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ячейку вводится форму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СТЕПЕНЬ($B2;–C2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зате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распространяется (копируется) на остальные яч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91960" y="3892680"/>
          <a:ext cx="8612280" cy="2760480"/>
        </p:xfrm>
        <a:graphic>
          <a:graphicData uri="http://schemas.openxmlformats.org/drawingml/2006/table">
            <a:tbl>
              <a:tblPr/>
              <a:tblGrid>
                <a:gridCol w="397080"/>
                <a:gridCol w="2509920"/>
                <a:gridCol w="626760"/>
                <a:gridCol w="528840"/>
                <a:gridCol w="627120"/>
                <a:gridCol w="725400"/>
                <a:gridCol w="824040"/>
                <a:gridCol w="823680"/>
                <a:gridCol w="824040"/>
                <a:gridCol w="725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цифры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правильной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ричной дроб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основание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истемы счисления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оответствующая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есятичная дробь ра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Номер разря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есомость разря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0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03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01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007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0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3111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ьте лист электронной таблицы для перевод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ичной дроб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ной в виде отдельных цифр дробной части, в десятичную систем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сления с использованием схемы Горн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295280"/>
            <a:ext cx="8736120" cy="538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огательные расчеты можно провести, например, в стро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а в ячей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(J21+I1)/$B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ет быть распространена (скопирована) на остальные ячейки диапазо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41:Н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57240" y="2502000"/>
          <a:ext cx="6911640" cy="3289320"/>
        </p:xfrm>
        <a:graphic>
          <a:graphicData uri="http://schemas.openxmlformats.org/drawingml/2006/table">
            <a:tbl>
              <a:tblPr/>
              <a:tblGrid>
                <a:gridCol w="527040"/>
                <a:gridCol w="3173400"/>
                <a:gridCol w="755640"/>
                <a:gridCol w="349200"/>
                <a:gridCol w="349200"/>
                <a:gridCol w="336600"/>
                <a:gridCol w="323640"/>
                <a:gridCol w="362160"/>
                <a:gridCol w="349200"/>
                <a:gridCol w="385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цифр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правильно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ричной дро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ведите основани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истемы счисления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оответствующая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есятичная дробь ра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,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спомогательны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расч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хема Горнера в инфор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311120"/>
            <a:ext cx="87361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нформатике понятие «схема Горнера» используется  при переводе чисе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едесятичных систем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дано чис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4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писанное в системе счисления с основанием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звернутая форма» записи чи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2 ·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lang="ru-RU" sz="2800" spc="-1" strike="noStrike" baseline="30000">
                <a:solidFill>
                  <a:srgbClr val="3399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 + 3 ·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lang="ru-RU" sz="2800" spc="-1" strike="noStrike" baseline="30000">
                <a:solidFill>
                  <a:srgbClr val="3399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 + 4 ·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lang="ru-RU" sz="2800" spc="-1" strike="noStrike" baseline="30000">
                <a:solidFill>
                  <a:srgbClr val="339966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 + 5 ·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</a:t>
            </a:r>
            <a:r>
              <a:rPr b="0" lang="ru-RU" sz="2800" spc="-1" strike="noStrike" baseline="30000">
                <a:solidFill>
                  <a:srgbClr val="339966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ыражение можно записать по-друго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·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·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+ 3 ·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·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р +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4 ·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+ 5 = </a:t>
            </a:r>
            <a:br>
              <a:rPr sz="2800"/>
            </a:b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= (2 ·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·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+ 3 ·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р +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4)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+ 5 = </a:t>
            </a:r>
            <a:br>
              <a:rPr sz="2800"/>
            </a:b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= ((2 ·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+ 3)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 +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4)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+ 5 = </a:t>
            </a:r>
            <a:br>
              <a:rPr sz="2800"/>
            </a:b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= (((0 ·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+ 2)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+ 3)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 +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4)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+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311120"/>
            <a:ext cx="87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работайте программу для перевода заданной правильной конечно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чной дроби в десятичную систему счисления описанным способ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использования  схемы Горн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ее использо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8736120" cy="538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арианте программы, не использующим схему Горнера, используем следующие основные в вел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_дроб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заданн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ичная дроб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снование системы счисления, из которой она переводи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сят_дроб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комая десятичная дроб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тдельная цифра дробной части заданной дроб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весомость соответствующег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чного разр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 в первом дробном разряде заданной дроби может быть рассчита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ифра :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(р_дробь * 10)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тор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ифра :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(р_дробь * 100)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ть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ифра :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(р_дробь * 1000)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функция, возвращающая остаток от 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295280"/>
            <a:ext cx="8736120" cy="5380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алг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Перевод_конечных_р_ричных_дробей_по_развернутой_фор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нач вещ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р_дробь, десят_дробь, вес,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ел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р, i,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ывод нс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"Введите правильную р-ричную дробь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вод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р_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ывод нс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"Введите основание р системы счисления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вод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|Определяем искомое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десят_дробь :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нц для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|Выделяем каждую циф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ифра :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(р_дробь * 10*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)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|Определяем ее весо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с := 1/(р *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|Учитываем циф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десят_дробь := десят_дробь + цифра * 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|Выводим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ывод нс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"Соответствующая дробь равна ", десят_дроб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097000"/>
            <a:ext cx="8736120" cy="3749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|Определяем искомое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десят_дробь :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с :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нц для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|Выделяем каждую циф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ифра :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(р_дробь * 10*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)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|Определяем ее весо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с := вес/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|Учитываем циф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десят_дробь := десят_дробь + цифра * 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295280"/>
            <a:ext cx="8736120" cy="746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не определять весомость каждого разряда (используя возведени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тепень), а уменьшать предыдущей значение весомости 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894280"/>
            <a:ext cx="8736120" cy="746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аналогично рассчитывать весомость десятичных разряд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ределении очередной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065320"/>
            <a:ext cx="8736120" cy="4761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алг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Перевод_с_использованием_схемы_Горн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нач вещ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р_дробь, десят_дробь,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цел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р, i, цифра,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цел таб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цифры[1: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вывод нс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, "Введите правильную р-ричную дробь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ввод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р_дроб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вывод нс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, "Введите основание р системы счисления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ввод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|Заполняем массив циф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нц для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от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цифра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:= mod(int(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дроб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* 10**i),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цифры[i] := циф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к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|Определяем искомое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десят_дробь := цифры[8]/р |Учитываем последнюю циф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нц для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от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7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шаг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-1 |и все ост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десят_дробь := (десят_дробь + цифры[i])/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к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|Выводим 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вывод нс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, "Соответствующая десятичная дробь равна ", десят_дроб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к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295280"/>
            <a:ext cx="8736120" cy="746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спользования схемы Горнера следует все цифры дробной част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ичной дроби записать в масси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хема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311120"/>
            <a:ext cx="8736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·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·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+ 3 · 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·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 р +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4 ·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+ 5 = </a:t>
            </a:r>
            <a:br>
              <a:rPr sz="2800"/>
            </a:b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= (2 ·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·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+ 3 ·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 р +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4)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+ 5 = ((2 ·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+ 3)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р +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4)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+ 5 = </a:t>
            </a:r>
            <a:br>
              <a:rPr sz="2800"/>
            </a:b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= (((0 ·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 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+ 2)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+ 3)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р +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4)</a:t>
            </a: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р </a:t>
            </a: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+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ема вычислений следующая: первая цифра заданного числа умножаетс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нова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ходной системы счисления, к произведению прибавляется вторая цифра, сумма умножается на основание, к произведению прибавляется третья цифра и т.д. до прибавления последней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Алгорит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ля каждой цифры заданного числа, начиная с перв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«старое» значение искомой величины умножается на основа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к произведению прибавляется данная циф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полученная сумма используется как «старое» значени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для следующей циф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этом для первой цифры «старое» значение искомой величины равно ну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ограмма для вычислений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о схеме Горн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11120"/>
            <a:ext cx="873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, реализующей перевод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чного числа в десятичную систем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хеме Горнера, используем следующие переменные вел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заданное чис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, в которой оно записа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комое десятичное чис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массив с данными целого типа, в котором будут хранить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цифры заданного чис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массива следует определить с учетом возможной длины записи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м, что заданное число представляет собой последовательность символов-цифр (является строковой величин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ограмма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на алгоритмическ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360" y="1112760"/>
            <a:ext cx="8766360" cy="5562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алг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Перевод_чисел_в_десятичную_систему_по_схеме_Горне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нач лит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число,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цел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n, р, i,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лог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успех,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цел таб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цифры[1:20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|Ввод исходных данны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вывод нс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, "Введите исходное число 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ввод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числ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вывод нс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, "Введите его основание системы счисления 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ввод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|Заполняем массив </a:t>
            </a:r>
            <a:r>
              <a:rPr b="0" i="1" lang="ru-RU" sz="1700" spc="-1" strike="noStrike">
                <a:solidFill>
                  <a:srgbClr val="000000"/>
                </a:solidFill>
                <a:latin typeface="Courier New"/>
              </a:rPr>
              <a:t>циф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нц для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от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до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длин(число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|Определяем очередную </a:t>
            </a:r>
            <a:r>
              <a:rPr b="0" i="1" lang="ru-RU" sz="17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-ю цифр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|и записываем ее в масси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цифры[i] := лит_в_цел(число[i], успех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к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|Реализуем схему Горне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n := 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нц для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от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до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длин(число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n := n * р + цифры[i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к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|Выводим результа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вывод нс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</a:rPr>
              <a:t>, «Число в десятичной системе счисления: ", 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urier New"/>
              </a:rPr>
              <a:t>ко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ограмма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на языке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360" y="1112760"/>
            <a:ext cx="8766360" cy="5562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{Перевод чисел в десятичную систему по схеме Горнера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hislo: string; n, uspeh: integer; р, i: by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ifri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[1..20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вод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сход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да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write('Введите исходное число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readln(chisl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write('Введите основание его системы счисления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readln(р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аполняем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массив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zifri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:=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ength(chislo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{Определяем очередную 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-ю цифру и записываем ее в массив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(chislo[i], zifri[i], uspe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Реализуем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хему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Горнер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: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:=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ength(chislo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 := n * р + zifri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{Выводим результат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(‘Число в десятичной системе счисления: '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311120"/>
            <a:ext cx="87361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йте варианты программы для перевода целог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ичного числ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в десятичную систему счисления по схеме Горн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котором масси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е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котором исходное число задано как целое десятичное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например, троичное 202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2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5280" y="856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еимущества схемы Горнера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ри вычис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311120"/>
            <a:ext cx="873612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ие схемы Горнера минимизирует количество арифметических действий и позволяет избежать возведения в степ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мотрим перевод восьмеричного чис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1745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звернутая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1745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 · 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3 · 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1 · 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7 · 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4 · 8 +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квивалентная скобочная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· 8 + 3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· 8 + 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· 8 + 7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· 8 + 4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· 8 + 5 = 78 82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ема Горнера позволяется использовать для перевода чисел «простой»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е инженерный/научный) калькулятор, последовательно слева направо выполняя умножения и сложения. Порядок нажатия клавиш на калькуляторе для рассматриваемого прим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го требуется пять умножений и пять сложений (плюс 11 нажатий клавиш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цифрами и одно нажатие на клавишу со знаком равен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06320" y="5014800"/>
          <a:ext cx="7564320" cy="365040"/>
        </p:xfrm>
        <a:graphic>
          <a:graphicData uri="http://schemas.openxmlformats.org/drawingml/2006/table">
            <a:tbl>
              <a:tblPr/>
              <a:tblGrid>
                <a:gridCol w="340560"/>
                <a:gridCol w="340920"/>
                <a:gridCol w="340920"/>
                <a:gridCol w="352080"/>
                <a:gridCol w="340560"/>
                <a:gridCol w="340560"/>
                <a:gridCol w="340920"/>
                <a:gridCol w="352080"/>
                <a:gridCol w="340560"/>
                <a:gridCol w="340920"/>
                <a:gridCol w="340920"/>
                <a:gridCol w="352080"/>
                <a:gridCol w="340560"/>
                <a:gridCol w="340560"/>
                <a:gridCol w="340920"/>
                <a:gridCol w="352080"/>
                <a:gridCol w="340560"/>
                <a:gridCol w="340920"/>
                <a:gridCol w="340560"/>
                <a:gridCol w="352440"/>
                <a:gridCol w="340200"/>
                <a:gridCol w="352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21T20:29:59Z</dcterms:modified>
  <cp:revision>126</cp:revision>
  <dc:subject/>
  <dc:title>Презентация PowerPoint</dc:title>
</cp:coreProperties>
</file>