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0e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6" descr="Obl_U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16" descr="page_I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87320" y="3038400"/>
            <a:ext cx="772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Impact"/>
              </a:rPr>
              <a:t>Томас Хэрриот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Impact"/>
              </a:rPr>
              <a:t>и двоичная система счис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905360"/>
            <a:ext cx="425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арат Эйнуллаев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нстантин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Якушев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и  гимназии № 1530 г. Моск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5280" y="6984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Томас Хэрриот – двоичная система счисления до Лейб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7880" y="1420920"/>
            <a:ext cx="83566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считается, что современная двоичная система была впервые описана немецким учены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тфридом Вильгельмом Лейбнице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боте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ation de 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que Binai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(1703 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 профессор В.В. Шилов, занимающийся вопросами истории счет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ычислительной техники, сообщил нашему научному руководителю, Дмитрию Михайловичу Златопольскому, что двоичную систему описывали и до Лейбн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честве примера В.В. Шилов привел ссылку н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маса Хэрри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33400" y="4368960"/>
            <a:ext cx="5872320" cy="1655640"/>
            <a:chOff x="1733400" y="4368960"/>
            <a:chExt cx="5872320" cy="165564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1733400" y="4368960"/>
              <a:ext cx="294336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 flipH="1">
              <a:off x="4662360" y="4368960"/>
              <a:ext cx="2943360" cy="165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5280" y="6984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Томас Хэрриот – двоичная система счисления до Лейб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7880" y="1773360"/>
            <a:ext cx="465624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мас Хэрриот  (1560–1621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нглийск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, географ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астроном. Автор труда «Применение аналитического искусства к решению алгебраических уравнений», изданно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31 году. Первым предложил использовать математические знаки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(больше) и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 (меньш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следнем сочинении, во многом примыкающем к алгебраическим трудам Виета, Хэрриот  поставил себе задачу изложить «аналитическое искусство» своего предшественника легче и проще для понимания и приме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5376" b="9255"/>
          <a:stretch/>
        </p:blipFill>
        <p:spPr>
          <a:xfrm>
            <a:off x="5562720" y="1560600"/>
            <a:ext cx="304632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5280" y="698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Двоичная система Хэрри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7880" y="2057400"/>
            <a:ext cx="4276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дной из рукописей Хэрриота приведена без комментариев табл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й приведены представления чисел о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иде суммы степеней чис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.д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известно, такие представления  используются при переводе десятичных чисел в двоичную систему счисления методом выделения максимальных степеней дво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927680" y="1209600"/>
          <a:ext cx="4037040" cy="5359320"/>
        </p:xfrm>
        <a:graphic>
          <a:graphicData uri="http://schemas.openxmlformats.org/drawingml/2006/table">
            <a:tbl>
              <a:tblPr/>
              <a:tblGrid>
                <a:gridCol w="412560"/>
                <a:gridCol w="1370160"/>
                <a:gridCol w="412560"/>
                <a:gridCol w="1841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 +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 +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 +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 + 2 +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 +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 +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 + 4 +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 +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 + 4 +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 + 2 +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 + 4 + 2 +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 +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 +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 + 8 +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 +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 + 8 + 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 + 2 +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 + 8 + 2 +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 +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 + 8 +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 + 4 +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 + 8 + 4 +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 + 4 +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 + 8 + 4 + 2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 + 4 + 2 +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 + 8 + 4 + 2 +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698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Двоичная система Хэрри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7880" y="3270240"/>
            <a:ext cx="42768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ледующих примерно ста страницах рукописи приведены различные варианты табличного представления всех подмножест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ов дл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сле чего следует «и т.д.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такая таблица показана спр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59400" y="960480"/>
            <a:ext cx="35053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698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Двоичная система Хэрри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7880" y="1295280"/>
            <a:ext cx="3227400" cy="47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показывает, чт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й таблице приведены представления десятичных чисел с использованием цифр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авных, соответственно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аждое число равно сумме значений циф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т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 вид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+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т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 вид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+ 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т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 вид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+ 8 + 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и т.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524560" y="1141560"/>
          <a:ext cx="1419120" cy="365040"/>
        </p:xfrm>
        <a:graphic>
          <a:graphicData uri="http://schemas.openxmlformats.org/drawingml/2006/table">
            <a:tbl>
              <a:tblPr/>
              <a:tblGrid>
                <a:gridCol w="428400"/>
                <a:gridCol w="99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514840" y="1141560"/>
          <a:ext cx="1428840" cy="1095120"/>
        </p:xfrm>
        <a:graphic>
          <a:graphicData uri="http://schemas.openxmlformats.org/drawingml/2006/table">
            <a:tbl>
              <a:tblPr/>
              <a:tblGrid>
                <a:gridCol w="412920"/>
                <a:gridCol w="1015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3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39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3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39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3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2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39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514840" y="1143000"/>
          <a:ext cx="1888920" cy="2556000"/>
        </p:xfrm>
        <a:graphic>
          <a:graphicData uri="http://schemas.openxmlformats.org/drawingml/2006/table">
            <a:tbl>
              <a:tblPr/>
              <a:tblGrid>
                <a:gridCol w="514440"/>
                <a:gridCol w="1374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2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=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 + 4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=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2 + 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=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524560" y="1143000"/>
          <a:ext cx="2476440" cy="5477040"/>
        </p:xfrm>
        <a:graphic>
          <a:graphicData uri="http://schemas.openxmlformats.org/drawingml/2006/table">
            <a:tbl>
              <a:tblPr/>
              <a:tblGrid>
                <a:gridCol w="628560"/>
                <a:gridCol w="1847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2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4 =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8 =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 + 4 =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 + 8 =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 + 8 =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2 + 4 =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2 + 8 =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4 + 8 =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 + 4 + 8 =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2 + 4 + 8 =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e4ff"/>
                    </a:solid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186080" y="1141560"/>
          <a:ext cx="4778280" cy="5476680"/>
        </p:xfrm>
        <a:graphic>
          <a:graphicData uri="http://schemas.openxmlformats.org/drawingml/2006/table">
            <a:tbl>
              <a:tblPr/>
              <a:tblGrid>
                <a:gridCol w="425520"/>
                <a:gridCol w="1244520"/>
                <a:gridCol w="730440"/>
                <a:gridCol w="2377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2 + 4 =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2 + 8 =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2 +16 =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4 + 8 =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4 + 16 = 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2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8 + 16 = 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4 =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 + 4 + 8 =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8 =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b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 + 4 + 16 = 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16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c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 + 8 + 16 = 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 + 4 =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2 + 4 + 8 =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 + 8 =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b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2 + 4 + 16 = 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b</a:t>
                      </a:r>
                      <a:r>
                        <a:rPr b="1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 + 16 = 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b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2 + 8 + 16 = 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 16 =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c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4 + 8 + 16 =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 16 =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c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 + 4 + 8 + 16 = 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bc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+ 2 + 4 + 8 + 16 = 3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5280" y="698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Двоичная система Хэрри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7880" y="1295280"/>
            <a:ext cx="8309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несколько страниц Хэрриот описывает другой вариант представления чисел. Он также приводит примеры для случаев о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1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 также с фразой «и т.д.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проиллюстрировать этот вариант, покажем случай дл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057560" y="2752560"/>
            <a:ext cx="1406520" cy="1849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07880" y="4821120"/>
            <a:ext cx="830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имо, Хэрриот  имел в виду следующ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словно обозначить столбцы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 знак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соответствует тому, что «Да, этот символ (буква) используется в комбинации чисел»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знак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— как «Нет, не используетс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35280" y="698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Двоичная система Хэрри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7880" y="1295280"/>
            <a:ext cx="830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нце Хэрриот приводит такой вариант таблиц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59400" y="1247760"/>
            <a:ext cx="1306800" cy="1766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880" y="2195640"/>
            <a:ext cx="5688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уждая аналогично, но считая, чт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ожно утверждать, что в последней таблице представлены записи десятичных чисел, равные сумме элементов, обозначенных знаком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Такое представление совпадает с двоичной записью чисе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1, 110, 101, 100, 011, 010, 001,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7880" y="4543560"/>
            <a:ext cx="830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писях Хэрриота имеются также примеры вычислений в двоичной системе счисления с использованием циф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можно сделать вывод, что Томас Хэрриот описал использование двоичной системы для представления чисел за много лет до Лейбн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REW</cp:lastModifiedBy>
  <dcterms:modified xsi:type="dcterms:W3CDTF">2013-12-19T19:12:26Z</dcterms:modified>
  <cp:revision>88</cp:revision>
  <dc:subject/>
  <dc:title>Презентация PowerPoint</dc:title>
</cp:coreProperties>
</file>