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В мир информатики 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320" y="4419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веты, решения, разъясн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27200" y="5135400"/>
            <a:ext cx="789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 заданиям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публикованным в газете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«В мир информат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ahoma"/>
              </a:rPr>
              <a:t>Сын профессора Алгоритм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1040" y="1454040"/>
            <a:ext cx="853308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фессор Бит Байтович Алгоритмов чрезвычайно гордится своим гениальным, по его мнению, сыном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н любит рассказывать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нь рождения сына является числом Фибонач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умма цифр числа — дня рождения — и произведение его циф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кже являются числами Фибонач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отя порядковый номер месяца, в котором родился сын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не является числом Фибоначчи, зато является произведением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вух не соседних чисел Фибонач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д рождения сына представляет собой удвоенное число Фибонач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е точную дату рождения сына уважаемого профессора, а именно, укажите соответствующий день, месяц и год его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Числами Фибоначчи называют числа, образующие последовате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1, 2, 3, 5, 8, …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каждый член последовательности, начиная с третьего, равен сумме двух предыдущи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http://img-fotki.yandex.ru/get/4714/118487494.3e/0_66024_91be7b38_XL"/>
          <p:cNvPicPr/>
          <p:nvPr/>
        </p:nvPicPr>
        <p:blipFill>
          <a:blip r:embed="rId1"/>
          <a:stretch/>
        </p:blipFill>
        <p:spPr>
          <a:xfrm>
            <a:off x="7959600" y="1901880"/>
            <a:ext cx="93024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1040" y="85716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1040" y="1374840"/>
            <a:ext cx="85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исла Фибоначчи – это числа, образующие последовательность 1, 2, 3, 5, … (каждый член последовательности начиная с третьего равен сумме двух предыдущих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1040" y="2709720"/>
            <a:ext cx="85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з условия следует, что день рождения сына профессора — двузначное число. Номер дня не может быть больше 31, тогда днем рождения может быть 13-е или 21-е число. Но значение 13 не подходит, так как сумма его цифр также должна быть числом Фибоначчи. Значит, это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1-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1040" y="4473720"/>
            <a:ext cx="85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омер месяца, в котором родился сын профессора, не может бы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ше 12. Из первых пяти чисел Фибоначчи (1, 2, 3, 5, 8) условию соответствуют «несоседние» числа 2 и 5, т.е. мальчик родился в октяб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1040" y="85716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40" y="137484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д рождения можно определить, используя электронную таблицу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rosoft Excel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865160" y="2224080"/>
          <a:ext cx="5010480" cy="2921040"/>
        </p:xfrm>
        <a:graphic>
          <a:graphicData uri="http://schemas.openxmlformats.org/drawingml/2006/table">
            <a:tbl>
              <a:tblPr/>
              <a:tblGrid>
                <a:gridCol w="438480"/>
                <a:gridCol w="2077920"/>
                <a:gridCol w="249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Числа Фибонач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Удвоенные зна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300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5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311040" y="544356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Ответ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искомая дата рождения — 21.10.197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11040" y="754200"/>
            <a:ext cx="643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Расположить ребят по росту</a:t>
            </a:r>
            <a:br>
              <a:rPr sz="2800"/>
            </a:b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(для учащихся начальной школ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1040" y="1679400"/>
            <a:ext cx="864576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стретились четыре школьных товарища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Андре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Бори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Ива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1800" spc="-1" strike="noStrike">
                <a:solidFill>
                  <a:srgbClr val="9933ff"/>
                </a:solidFill>
                <a:latin typeface="Tahoma"/>
              </a:rPr>
              <a:t>Григори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сположите имена ребят в порядке возрастания их роста, если известно, что </a:t>
            </a: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Бори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не самый высокий, но он выше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Андре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1800" spc="-1" strike="noStrike">
                <a:solidFill>
                  <a:srgbClr val="9933ff"/>
                </a:solidFill>
                <a:latin typeface="Tahoma"/>
              </a:rPr>
              <a:t>Григор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Андре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ниже </a:t>
            </a:r>
            <a:r>
              <a:rPr b="1" lang="en-US" sz="1800" spc="-1" strike="noStrike">
                <a:solidFill>
                  <a:srgbClr val="9933ff"/>
                </a:solidFill>
                <a:latin typeface="Tahoma"/>
              </a:rPr>
              <a:t>Григор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56000" y="3378240"/>
            <a:ext cx="1162080" cy="257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778200" y="3462480"/>
            <a:ext cx="914400" cy="248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842000" y="3078000"/>
            <a:ext cx="852480" cy="2872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816520" y="3800520"/>
            <a:ext cx="692280" cy="2149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1040" y="6197760"/>
            <a:ext cx="86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Ответ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Андре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9933ff"/>
                </a:solidFill>
                <a:latin typeface="Tahoma"/>
              </a:rPr>
              <a:t>Григори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Бори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Ива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На кат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1040" y="1314360"/>
            <a:ext cx="853308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етыре подруги пришли на каток каждая со своим братом. Они разбились на пары и начали кататься. Оказалось, что в каждой паре «кавалер» выше «дамы», и никто не катался со своей сест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ый высокий из компании —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Юра Воробье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следующий по росту —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ндрей Егор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потом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юся Егоров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ережа Петр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ля Петров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има Крым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нна Крымов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ня Воробьев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то с кем каталс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97040" y="3449520"/>
            <a:ext cx="4552920" cy="3414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http://www.nabel.cz/images/categories/brusle2_tc.jpg"/>
          <p:cNvPicPr/>
          <p:nvPr/>
        </p:nvPicPr>
        <p:blipFill>
          <a:blip r:embed="rId2"/>
          <a:stretch/>
        </p:blipFill>
        <p:spPr>
          <a:xfrm>
            <a:off x="5616720" y="5178600"/>
            <a:ext cx="1428480" cy="190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11040" y="5495760"/>
            <a:ext cx="864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Ответ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Юра Воробьев катался с Люсей Егоровой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Андрей Егоров — с Олей Петровой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Сережа Петров — с Инной Крымовой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Дима Крымов — с Аней Воробье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Крест — накр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1040" y="1314360"/>
            <a:ext cx="85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еставив буквы в строках квадрата, получите слов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 этом в диагоналях квадрата соберутся еще два слова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вязанные с информатикой и компьютерам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йдите все слова и дайте комментарии к 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360440" y="3571920"/>
          <a:ext cx="1895040" cy="1825560"/>
        </p:xfrm>
        <a:graphic>
          <a:graphicData uri="http://schemas.openxmlformats.org/drawingml/2006/table">
            <a:tbl>
              <a:tblPr/>
              <a:tblGrid>
                <a:gridCol w="378720"/>
                <a:gridCol w="379440"/>
                <a:gridCol w="378720"/>
                <a:gridCol w="379440"/>
                <a:gridCol w="37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94160" y="3176640"/>
            <a:ext cx="3789360" cy="2841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638600" y="3106800"/>
            <a:ext cx="14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Ответ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816440" y="3603600"/>
          <a:ext cx="1795320" cy="1825560"/>
        </p:xfrm>
        <a:graphic>
          <a:graphicData uri="http://schemas.openxmlformats.org/drawingml/2006/table">
            <a:tbl>
              <a:tblPr/>
              <a:tblGrid>
                <a:gridCol w="358560"/>
                <a:gridCol w="358920"/>
                <a:gridCol w="360360"/>
                <a:gridCol w="358560"/>
                <a:gridCol w="358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바탕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28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Пятеро друзей в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1040" y="1341360"/>
            <a:ext cx="8645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ятеро друзей (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Паве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Бадр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ем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Ахмед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1800" spc="-1" strike="noStrike">
                <a:solidFill>
                  <a:srgbClr val="9933ff"/>
                </a:solidFill>
                <a:latin typeface="Tahoma"/>
              </a:rPr>
              <a:t>Владими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сидят за своими домашними компьютерами. По каналам связи они могут обмениваться информацией. Скорость передачи информации между компьютера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 килобайтах в секунду) отражена в таблиц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38240" y="2631960"/>
          <a:ext cx="8880480" cy="2254320"/>
        </p:xfrm>
        <a:graphic>
          <a:graphicData uri="http://schemas.openxmlformats.org/drawingml/2006/table">
            <a:tbl>
              <a:tblPr/>
              <a:tblGrid>
                <a:gridCol w="2347920"/>
                <a:gridCol w="1306440"/>
                <a:gridCol w="1306440"/>
                <a:gridCol w="1306440"/>
                <a:gridCol w="1306440"/>
                <a:gridCol w="1306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мпьютер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ав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мпьютер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Бад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мпьютер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е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мпьютер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хм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мпьютер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лади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мпьютер Пав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мпьютер Бад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мпьютер Се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мпьютер Ахм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мпьютер Влади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311040" y="5025960"/>
            <a:ext cx="86457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Павл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обходимо передать </a:t>
            </a:r>
            <a:r>
              <a:rPr b="1" lang="en-US" sz="1800" spc="-1" strike="noStrike">
                <a:solidFill>
                  <a:srgbClr val="9933ff"/>
                </a:solidFill>
                <a:latin typeface="Tahoma"/>
              </a:rPr>
              <a:t>Владимир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айл размером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0 килобай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н может передать файл любому из друзей, а те, в свою очередь, —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оже любым друзьям. Однако передавать файл можно только тогда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гда он полностью получен (вс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0 килобай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 какое наименьшее время при таких условиях </a:t>
            </a: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Павел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жет передать файл </a:t>
            </a:r>
            <a:r>
              <a:rPr b="1" lang="en-US" sz="1800" spc="-1" strike="noStrike">
                <a:solidFill>
                  <a:srgbClr val="9933ff"/>
                </a:solidFill>
                <a:latin typeface="Tahoma"/>
              </a:rPr>
              <a:t>Владимир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9080" y="2239920"/>
            <a:ext cx="6384960" cy="32162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Оптимальный маршрут передачи: </a:t>
            </a: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Павел — Ахмед — Семён — Бадри — Владимир </a:t>
            </a: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(длительность передачи — 38 секунд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1040" y="754200"/>
            <a:ext cx="86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Расстановка четырех шахматных фиг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1040" y="1322280"/>
            <a:ext cx="469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обходимо разделить шахматную доску на четыре части так, чтобы в каждой части находилось по одной фигуре, например, коню, и чтобы все части состояли из одного и того же количества кле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юдям, не играющим в шахматы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ить эту задачу достаточно сложно. Поэтому сделаем маленькую подсказку: коней надо расположить подряд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 четырех полях одной из больших диагоналей. Например, так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указано на рисун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02080" y="1461960"/>
            <a:ext cx="3411720" cy="3478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11040" y="5713560"/>
            <a:ext cx="85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Решен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показано на рисун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03880" y="1463760"/>
            <a:ext cx="34131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4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Переставить ваг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040" y="140652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 каждом из трех путей стоят вперемешку вагоны с арбузами 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 бананами (</a:t>
            </a: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и виноградом (</a:t>
            </a:r>
            <a:r>
              <a:rPr b="1" lang="en-US" sz="1800" spc="-1" strike="noStrike">
                <a:solidFill>
                  <a:srgbClr val="9933ff"/>
                </a:solidFill>
                <a:latin typeface="Tahoma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так, как это показано на рисун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6400" y="2208240"/>
            <a:ext cx="3797640" cy="3154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45000" y="2138400"/>
            <a:ext cx="39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работайте алгоритм действий машиниста, необходимых, чтобы сформировать на каждом из путей составы с одинаковыми плодами, если маневровый тепловоз (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может передвигать любое количество вагонов одновременно в любую сторону пути по любому пу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2280" y="5459400"/>
            <a:ext cx="48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лгоритм оформите в виде последовательности таблиц, иллюстрирующих изменение положения вагонов на путях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88120" y="4923000"/>
            <a:ext cx="170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исходное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положен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04080" y="5607000"/>
          <a:ext cx="582480" cy="1004760"/>
        </p:xfrm>
        <a:graphic>
          <a:graphicData uri="http://schemas.openxmlformats.org/drawingml/2006/table">
            <a:tbl>
              <a:tblPr/>
              <a:tblGrid>
                <a:gridCol w="582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188120" y="497844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999120" y="5600880"/>
          <a:ext cx="863640" cy="1004760"/>
        </p:xfrm>
        <a:graphic>
          <a:graphicData uri="http://schemas.openxmlformats.org/drawingml/2006/table">
            <a:tbl>
              <a:tblPr/>
              <a:tblGrid>
                <a:gridCol w="863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ВА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8089920" y="497844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74160" y="587844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1040" y="85716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1040" y="137484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дача может быть решена несколькими способами. Приведем два из н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1040" y="193824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22400" y="2013120"/>
          <a:ext cx="7327800" cy="1339560"/>
        </p:xfrm>
        <a:graphic>
          <a:graphicData uri="http://schemas.openxmlformats.org/drawingml/2006/table">
            <a:tbl>
              <a:tblPr/>
              <a:tblGrid>
                <a:gridCol w="606240"/>
                <a:gridCol w="855720"/>
                <a:gridCol w="855720"/>
                <a:gridCol w="855720"/>
                <a:gridCol w="855720"/>
                <a:gridCol w="722160"/>
                <a:gridCol w="993960"/>
                <a:gridCol w="993600"/>
                <a:gridCol w="58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с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А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А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ААВВ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ААВВ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А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ВВ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ВВ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ВВ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В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АВ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АВ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Б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Б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11040" y="359892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88840" y="3659040"/>
          <a:ext cx="7854840" cy="1339920"/>
        </p:xfrm>
        <a:graphic>
          <a:graphicData uri="http://schemas.openxmlformats.org/drawingml/2006/table">
            <a:tbl>
              <a:tblPr/>
              <a:tblGrid>
                <a:gridCol w="606240"/>
                <a:gridCol w="857160"/>
                <a:gridCol w="857520"/>
                <a:gridCol w="1123920"/>
                <a:gridCol w="1123920"/>
                <a:gridCol w="988920"/>
                <a:gridCol w="988920"/>
                <a:gridCol w="719280"/>
                <a:gridCol w="58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с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В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А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А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ВА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ВА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ББВА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ББВА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В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ББВА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ББВА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ББ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Б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11040" y="754200"/>
            <a:ext cx="80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Софизм «Все числа равны между собо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1040" y="1560600"/>
            <a:ext cx="853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офизмом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ывают рассуждение, умозаключение, «внешне» правильное, но противоречащее общепринятым представления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т греч.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sóphism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— уловка, ухищрение, выдумка, головолом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т, например, «доказательство» того, что вынесено в заголо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 ≠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ьмём тождество: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– 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– 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т –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– т)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сюд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 –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– 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–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значит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= т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такое может быт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203880" y="3486240"/>
            <a:ext cx="3111480" cy="3443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http://cp.c-ij.com/en/contents/3158/03485/images/m-clown_thl.jpg"/>
          <p:cNvPicPr/>
          <p:nvPr/>
        </p:nvPicPr>
        <p:blipFill>
          <a:blip r:embed="rId2"/>
          <a:stretch/>
        </p:blipFill>
        <p:spPr>
          <a:xfrm>
            <a:off x="2211480" y="4865760"/>
            <a:ext cx="1797120" cy="1797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1040" y="479124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Объяс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1040" y="5234040"/>
            <a:ext cx="85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сли квадраты чисел равны, то это ещё не значит, что равны сами числа. Из равенства квадратов двух чисел следует лишь равенство абсолютных величин этих чисел. Например, если 4 = 4, то извлечение квадратного корня из обеих частей означает, что 2 = 2 либо –2 = –2, но не означает, что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 = –2. Поэтому ошибка – в рассуждении после слова «Отсю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4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1040" y="754200"/>
            <a:ext cx="79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Числовой ребус «Лестница с ЗАЗОР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040" y="133668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ите числовой ребу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3040" y="2147760"/>
          <a:ext cx="2503440" cy="2190960"/>
        </p:xfrm>
        <a:graphic>
          <a:graphicData uri="http://schemas.openxmlformats.org/drawingml/2006/table">
            <a:tbl>
              <a:tblPr/>
              <a:tblGrid>
                <a:gridCol w="401760"/>
                <a:gridCol w="390960"/>
                <a:gridCol w="445680"/>
                <a:gridCol w="390960"/>
                <a:gridCol w="459720"/>
                <a:gridCol w="41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1040" y="531648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обычно, одинаковыми буквами зашифрованы одинаковые цифры, разными буквами — разные циф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5843" t="25074" r="6283" b="20019"/>
          <a:stretch/>
        </p:blipFill>
        <p:spPr>
          <a:xfrm>
            <a:off x="4611600" y="1876320"/>
            <a:ext cx="31496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1040" y="85716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1040" y="137484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нализ крайнего левого разряда показывает, что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З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5 (при этом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2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4 (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1040" y="2289240"/>
            <a:ext cx="85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сследуем разряд сотен. Здесь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З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+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 З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+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 З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+ («в уме» из разряда десятков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Если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З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5, то переноса из разряда десятков нет, а это  возможно при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1 и при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2. Но последнее равенство невозможно, так как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2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начит,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4. Запишем известные цифры в ребу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117960" y="3632040"/>
          <a:ext cx="2180880" cy="2190960"/>
        </p:xfrm>
        <a:graphic>
          <a:graphicData uri="http://schemas.openxmlformats.org/drawingml/2006/table">
            <a:tbl>
              <a:tblPr/>
              <a:tblGrid>
                <a:gridCol w="359640"/>
                <a:gridCol w="347040"/>
                <a:gridCol w="346680"/>
                <a:gridCol w="347040"/>
                <a:gridCol w="410760"/>
                <a:gridCol w="369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1040" y="85716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1040" y="1374840"/>
            <a:ext cx="85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алее видно, что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8 (только в этом случае сумма в разряде десятков равна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и в разряд сотен переносится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огда всё решение ребус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963880" y="2581200"/>
          <a:ext cx="2088720" cy="2190960"/>
        </p:xfrm>
        <a:graphic>
          <a:graphicData uri="http://schemas.openxmlformats.org/drawingml/2006/table">
            <a:tbl>
              <a:tblPr/>
              <a:tblGrid>
                <a:gridCol w="344520"/>
                <a:gridCol w="332280"/>
                <a:gridCol w="331920"/>
                <a:gridCol w="332640"/>
                <a:gridCol w="393120"/>
                <a:gridCol w="35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Блондины и брюнеты в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1040" y="1454040"/>
            <a:ext cx="85330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классе девочек-блондинок столько же, сколько мальчиков-брюн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го в классе больше – девочек или учащихся с темными волос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нять, что шатенов и шатенок, а также учащихся с другим цветом волос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классе нет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60520" y="3110040"/>
            <a:ext cx="66578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1040" y="85716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1040" y="1374840"/>
            <a:ext cx="85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чевидно, что класс состоит и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девочек-блондинок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мальчиков-блонди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девочек-брюнеток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мальчиков-брюн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1040" y="2386080"/>
            <a:ext cx="85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щее количество девочек в классе равно сумме количеств девочек-блондинок и девочек-брюне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щее число брюнетов есть сумма количества мальчиков-брюнето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 девочек-брюне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 первые слагаемые этих сумм равны (по условию), а вторые слагаемые совпад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11120" y="4187880"/>
          <a:ext cx="232416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4187880"/>
                    <a:ext cx="232416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871720" y="42908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«СвДев» - блондин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«ТМал» - брюн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«ТДев» - брюн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040" y="624060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вочек в классе столько же, сколько всего учащихся с темными волос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SCREW</cp:lastModifiedBy>
  <dcterms:modified xsi:type="dcterms:W3CDTF">2013-04-14T16:51:55Z</dcterms:modified>
  <cp:revision>6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