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Японский уголок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4120" y="4106880"/>
            <a:ext cx="2178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Два суд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920" y="16048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Прост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072040" y="160488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Слож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4960" y="2220840"/>
          <a:ext cx="3257280" cy="3286080"/>
        </p:xfrm>
        <a:graphic>
          <a:graphicData uri="http://schemas.openxmlformats.org/drawingml/2006/table">
            <a:tbl>
              <a:tblPr/>
              <a:tblGrid>
                <a:gridCol w="361800"/>
                <a:gridCol w="361800"/>
                <a:gridCol w="361800"/>
                <a:gridCol w="362520"/>
                <a:gridCol w="361800"/>
                <a:gridCol w="361800"/>
                <a:gridCol w="362160"/>
                <a:gridCol w="361800"/>
                <a:gridCol w="36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219640" y="2220840"/>
          <a:ext cx="3200040" cy="3286080"/>
        </p:xfrm>
        <a:graphic>
          <a:graphicData uri="http://schemas.openxmlformats.org/drawingml/2006/table">
            <a:tbl>
              <a:tblPr/>
              <a:tblGrid>
                <a:gridCol w="355320"/>
                <a:gridCol w="355680"/>
                <a:gridCol w="355320"/>
                <a:gridCol w="356040"/>
                <a:gridCol w="355680"/>
                <a:gridCol w="355320"/>
                <a:gridCol w="355680"/>
                <a:gridCol w="355680"/>
                <a:gridCol w="355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4-14T14:56:24Z</dcterms:modified>
  <cp:revision>4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