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 мир информатики 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Крепкий орешек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27200" y="5135400"/>
            <a:ext cx="789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веты и решения к заданиям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убликованным в газет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«В мир информа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63480" y="3576600"/>
            <a:ext cx="34894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Россия — чемпион!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143496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ставьте себе, что вам приснилось такая таблица розыгрыша финальной части последнего чемпионата Евро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81400" y="2581200"/>
          <a:ext cx="4030560" cy="1825560"/>
        </p:xfrm>
        <a:graphic>
          <a:graphicData uri="http://schemas.openxmlformats.org/drawingml/2006/table">
            <a:tbl>
              <a:tblPr/>
              <a:tblGrid>
                <a:gridCol w="1431720"/>
                <a:gridCol w="336600"/>
                <a:gridCol w="362160"/>
                <a:gridCol w="361800"/>
                <a:gridCol w="784080"/>
                <a:gridCol w="754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я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ортуг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11040" y="4840200"/>
            <a:ext cx="853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ждая команда провела с каждо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 одному матчу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 каким счетом сыграли команды между собой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известно, что только два матч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ончились одинак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1903" t="6282" r="22568" b="11245"/>
          <a:stretch/>
        </p:blipFill>
        <p:spPr>
          <a:xfrm>
            <a:off x="6837480" y="4273560"/>
            <a:ext cx="2390760" cy="258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00760" y="42840"/>
            <a:ext cx="22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Крепкий ор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9800" y="101916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760" y="1541520"/>
            <a:ext cx="84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блица результатов без указания счета каждого матч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42840"/>
            <a:ext cx="22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Крепкий ор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4040" y="2062080"/>
          <a:ext cx="7745040" cy="1825560"/>
        </p:xfrm>
        <a:graphic>
          <a:graphicData uri="http://schemas.openxmlformats.org/drawingml/2006/table">
            <a:tbl>
              <a:tblPr/>
              <a:tblGrid>
                <a:gridCol w="2039760"/>
                <a:gridCol w="502200"/>
                <a:gridCol w="502560"/>
                <a:gridCol w="502200"/>
                <a:gridCol w="484560"/>
                <a:gridCol w="502200"/>
                <a:gridCol w="502560"/>
                <a:gridCol w="502920"/>
                <a:gridCol w="1126080"/>
                <a:gridCol w="108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я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сп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ортуг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55760" y="4116240"/>
            <a:ext cx="84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В» — выигрыш, «Н» — ничья, «П» — по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лагаем восстановить таблицу с указанием конкретных результатов иг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4-15T18:03:44Z</dcterms:modified>
  <cp:revision>4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