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 мир информатики 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Восемь семейных п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11040" y="1546200"/>
            <a:ext cx="853308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емь семейных пар встретились, чтобы обменяться книгами. Мужья и жены, как это принято, носили одну и ту же фамилию; к тому же они имели одинаковые профессии и водили одинаковые марки автомобиля. У каждой пары был свой любимый цвет. Кроме того, известен ряд фактов, перечисленных на этом и на следующих слай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Маша Иванова и ее муж работают продавцами-консульта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нигу «Турецкий Гамбит» принесла пара, у которых «Хонды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и оба они любят красн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ережа и Катя, его жена, любят коричнев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Люба и Юра Егоровы обожают белый ц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вета Петрова и ее муж работают логистиками и водят «Шкод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таша и ее муж Игорь взяли почитать «Ярмарку тщесла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аша и его жена любят розовый цвет и принесл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«Пеппи, длинный чул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Восемь семейных п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11040" y="1546200"/>
            <a:ext cx="853308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ра и Данила — менедже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«Алису в зазеркалье» позаимствовала пара, которая водит «Форд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Зайцевы — юристы. Они принесли роман «Парфюм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идоровы — врачи. Они купили «Фиес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ван и его жена любят зеленый ц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Галине Соловьевой и ее мужу нравится синий ц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онстантин и его жена принесли «Фиесту». Они водят «Лексус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5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дна пара принесла книгу «Три мушкетера», а взяла почита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«Пеппи, длинный чул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ара, которая водит «Субару», любит фиолетов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7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Бухгалтеры взяли почитать «Три мушкете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8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ассиры водят «Ниса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9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Анна и ее муж водят «Опель» и принесли «Ярмарку тщесла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и же взяли почитать книгу, которую принесли Хабар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Восемь семейных п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1546200"/>
            <a:ext cx="8533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оля и его жена любят желтый. Они взяли почита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«Сто лет одиноче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ривцовы работают программи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3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нига «Сто лет одиночества» была принесена парой, которая вод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«Ла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ределите, как зовут супругов в каждой паре, каковы их фамилии и марки машин, какой цвет они любят, какую книгу принесли, а какую взяли почитать, кем они работ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http://krasov.org/wp-content/uploads/2012/12/8-4.jpg"/>
          <p:cNvPicPr/>
          <p:nvPr/>
        </p:nvPicPr>
        <p:blipFill>
          <a:blip r:embed="rId1"/>
          <a:stretch/>
        </p:blipFill>
        <p:spPr>
          <a:xfrm>
            <a:off x="6116760" y="4121280"/>
            <a:ext cx="3027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11040" y="1546200"/>
            <a:ext cx="8533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то из классиков русской поэзии заседал в Чрезвычайной комисси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по расследованию преступлений царского режим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акое растение идет на создание домов, мостов, мебели, зонтико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и веер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ак назывался военный плащ древних римля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звали морскую принцессу из диснеевского мультфильм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«Русалочка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51412" t="0" r="0" b="0"/>
          <a:stretch/>
        </p:blipFill>
        <p:spPr>
          <a:xfrm>
            <a:off x="4173480" y="3821040"/>
            <a:ext cx="2333520" cy="3165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33960" y="5378400"/>
            <a:ext cx="1233360" cy="1479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95600" y="3914640"/>
            <a:ext cx="15937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4-15T16:59:12Z</dcterms:modified>
  <cp:revision>5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