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304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184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316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184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316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520" y="685800"/>
            <a:ext cx="840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9304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9304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184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0316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184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0316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685800"/>
            <a:ext cx="840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304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40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14"/>
          <p:cNvSpPr/>
          <p:nvPr/>
        </p:nvSpPr>
        <p:spPr>
          <a:xfrm>
            <a:off x="341280" y="160200"/>
            <a:ext cx="31680" cy="5256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15"/>
          <p:cNvSpPr/>
          <p:nvPr/>
        </p:nvSpPr>
        <p:spPr>
          <a:xfrm flipV="1">
            <a:off x="228600" y="541080"/>
            <a:ext cx="8693280" cy="5544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" name="Picture 16" descr=""/>
          <p:cNvPicPr/>
          <p:nvPr/>
        </p:nvPicPr>
        <p:blipFill>
          <a:blip r:embed="rId2"/>
          <a:stretch/>
        </p:blipFill>
        <p:spPr>
          <a:xfrm>
            <a:off x="453960" y="236520"/>
            <a:ext cx="2057400" cy="223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7" descr=""/>
          <p:cNvPicPr/>
          <p:nvPr/>
        </p:nvPicPr>
        <p:blipFill>
          <a:blip r:embed="rId3"/>
          <a:stretch/>
        </p:blipFill>
        <p:spPr>
          <a:xfrm>
            <a:off x="2471760" y="7920"/>
            <a:ext cx="42084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0"/>
          <p:cNvSpPr/>
          <p:nvPr/>
        </p:nvSpPr>
        <p:spPr>
          <a:xfrm>
            <a:off x="344520" y="152280"/>
            <a:ext cx="31680" cy="5256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Rectangle 11"/>
          <p:cNvSpPr/>
          <p:nvPr/>
        </p:nvSpPr>
        <p:spPr>
          <a:xfrm flipV="1">
            <a:off x="268200" y="533160"/>
            <a:ext cx="8693280" cy="5544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" name="Picture 17" descr=""/>
          <p:cNvPicPr/>
          <p:nvPr/>
        </p:nvPicPr>
        <p:blipFill>
          <a:blip r:embed="rId2"/>
          <a:stretch/>
        </p:blipFill>
        <p:spPr>
          <a:xfrm>
            <a:off x="420840" y="228600"/>
            <a:ext cx="2057400" cy="223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8" descr=""/>
          <p:cNvPicPr/>
          <p:nvPr/>
        </p:nvPicPr>
        <p:blipFill>
          <a:blip r:embed="rId3"/>
          <a:stretch/>
        </p:blipFill>
        <p:spPr>
          <a:xfrm>
            <a:off x="2438280" y="0"/>
            <a:ext cx="42084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40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231912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Компьютер помогает </a:t>
            </a:r>
            <a:br>
              <a:rPr sz="3600"/>
            </a:b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искать преступника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2"/>
          <p:cNvSpPr/>
          <p:nvPr/>
        </p:nvSpPr>
        <p:spPr>
          <a:xfrm>
            <a:off x="325440" y="960480"/>
            <a:ext cx="8508960" cy="60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ять свидетелей оказались на месте преступления, хорошо разглядели бежавшего преступника и согласились помочь криминалистам состави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го словесный портрет. Каждый из свидетелей дал свое описание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т они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) черные волосы, маленький нос, борода, маленькие глаза, круглое лицо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) рыжие волосы, большой нос, борода, маленькие глаза, круглое лицо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) черные волосы, большой нос, чисто выбрит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маленькие глаза, круглое лицо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) лысый, большой нос, чисто выбрит, больши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глаза, худое лицо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) рыжие волосы, маленький нос, борода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большие глаза, круглое лицо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ждый из свидетелей правильно указал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 меньшей мере одну примету преступник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допустил одинаковое с остальными число ошибок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к составить точный словесный портрет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еступника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Picture 28" descr="Фоторобот"/>
          <p:cNvPicPr/>
          <p:nvPr/>
        </p:nvPicPr>
        <p:blipFill>
          <a:blip r:embed="rId1"/>
          <a:stretch/>
        </p:blipFill>
        <p:spPr>
          <a:xfrm>
            <a:off x="6539040" y="3408480"/>
            <a:ext cx="235080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325440" y="960480"/>
            <a:ext cx="850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ешить задачу с использованием законов логик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записать сложное логическое выражение и затем упростить его) нельзя — в условии есть неопределенность (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«по меньшей мере»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«одинаковое»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325440" y="1962000"/>
            <a:ext cx="85089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кодируем все возможные значения отдельных признаков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) волосы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черные волосы —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ыжие волосы —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лысый — 3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) нос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аленький нос —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ольшой нос —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) борода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ть борода —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чисто выбрит —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) глаза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аленькие глаза — 1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ольшие глаза —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) лицо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руглое лицо —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худое лицо — 2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Picture 5" descr="Фоторобот"/>
          <p:cNvPicPr/>
          <p:nvPr/>
        </p:nvPicPr>
        <p:blipFill>
          <a:blip r:embed="rId1"/>
          <a:stretch/>
        </p:blipFill>
        <p:spPr>
          <a:xfrm>
            <a:off x="4797360" y="2751120"/>
            <a:ext cx="2841840" cy="380844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6"/>
          <p:cNvSpPr/>
          <p:nvPr/>
        </p:nvSpPr>
        <p:spPr>
          <a:xfrm>
            <a:off x="7786800" y="2936880"/>
            <a:ext cx="577800" cy="379440"/>
          </a:xfrm>
          <a:solidFill>
            <a:srgbClr val="ccffcc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7767720" y="4699080"/>
            <a:ext cx="577800" cy="379440"/>
          </a:xfrm>
          <a:solidFill>
            <a:srgbClr val="ccffcc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7767720" y="5767560"/>
            <a:ext cx="577800" cy="379080"/>
          </a:xfrm>
          <a:solidFill>
            <a:srgbClr val="ccffcc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7777080" y="3948120"/>
            <a:ext cx="577800" cy="379440"/>
          </a:xfrm>
          <a:solidFill>
            <a:srgbClr val="ccffcc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AutoShape 10"/>
          <p:cNvSpPr/>
          <p:nvPr/>
        </p:nvSpPr>
        <p:spPr>
          <a:xfrm>
            <a:off x="4005360" y="4102200"/>
            <a:ext cx="577800" cy="379440"/>
          </a:xfrm>
          <a:solidFill>
            <a:srgbClr val="ccffcc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325440" y="960480"/>
            <a:ext cx="8508960" cy="29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этой «системе кодировки» показания каждого из свидетелей будут выглядеть так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) первый свидетель: 11111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) второй свидетель: 22111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) третий свидетель: 12211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) четвертый свидетель: 3222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) пятый свидетель: 21121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ешим задачу при помощи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icrosoft Excel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817640" y="919080"/>
            <a:ext cx="5770440" cy="58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25440" y="960480"/>
            <a:ext cx="8508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диапазоне ячеек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4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запишем только что приведенные показания каждого из свидетелей (пять элементов портрета)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диапазоне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2: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59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— все возможные варианты сочетания примет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Хотя всего вариантов 48, эта работа не является трудоемкой, поскольку большая часть значений может быть получена путем копирования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ак, в столбце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вторяются значения 1 и 2, в столбце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Е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— блок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з четырех значений,  в столбце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— из восьми значений,  в столбце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—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з 16 значений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Picture 1031" descr=""/>
          <p:cNvPicPr/>
          <p:nvPr/>
        </p:nvPicPr>
        <p:blipFill>
          <a:blip r:embed="rId1"/>
          <a:stretch/>
        </p:blipFill>
        <p:spPr>
          <a:xfrm>
            <a:off x="471600" y="3753000"/>
            <a:ext cx="8200800" cy="2819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32" descr=""/>
          <p:cNvPicPr/>
          <p:nvPr/>
        </p:nvPicPr>
        <p:blipFill>
          <a:blip r:embed="rId2"/>
          <a:stretch/>
        </p:blipFill>
        <p:spPr>
          <a:xfrm>
            <a:off x="501480" y="3792600"/>
            <a:ext cx="8201160" cy="1876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33" descr=""/>
          <p:cNvPicPr/>
          <p:nvPr/>
        </p:nvPicPr>
        <p:blipFill>
          <a:blip r:embed="rId3"/>
          <a:stretch/>
        </p:blipFill>
        <p:spPr>
          <a:xfrm>
            <a:off x="495360" y="3795840"/>
            <a:ext cx="8182080" cy="1542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34" descr=""/>
          <p:cNvPicPr/>
          <p:nvPr/>
        </p:nvPicPr>
        <p:blipFill>
          <a:blip r:embed="rId4"/>
          <a:stretch/>
        </p:blipFill>
        <p:spPr>
          <a:xfrm>
            <a:off x="496800" y="3778200"/>
            <a:ext cx="81820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25440" y="960480"/>
            <a:ext cx="850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лее, как описано в предыдущем выпуске, для каждого из 48 возможных вариантов портрета нужно определить число ошибок у каждого свидетеля. Эта работа не сложная по содержанию, но несколько трудоемкая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25440" y="1946160"/>
            <a:ext cx="850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Для первого свидетеля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) в ячейку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2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пишем формулу, определяющую степень совпадения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ервого признака портрета (волосы) у этого свидетеля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=ЕСЛИ(B12=B$4;1;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идно, что степень совпадения задается значениями 1 и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325440" y="3417840"/>
            <a:ext cx="850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) вид приведенной формулы (в ней использованы относительна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и смешанная ссылки) позволяет скопировать ее на другие признак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и на другие варианты сочетания примет — в диапазон ячеек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2:K59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325440" y="4378320"/>
            <a:ext cx="850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) в ячейки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2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2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пишем формулы, подсчитывающие соответственно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число правильных элементов и число ошибок для первого варианта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ловесного портрета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=СУММ(G12:K1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=5 – L12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325440" y="6191280"/>
            <a:ext cx="850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) скопируем эти две формулы в диапазон ячеек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L13:М59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325440" y="969840"/>
            <a:ext cx="850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Для второго свидетеля 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2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59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ормула в ячейке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=ЕСЛИ(B12=B$5;1;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пируется в диапазон ячеек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2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59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325440" y="2441520"/>
            <a:ext cx="850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Для третьего свидетеля 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2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59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ормула в ячейке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=ЕСЛИ(B12=B$6;1;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пируется в диапазон ячеек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2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59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325440" y="3929040"/>
            <a:ext cx="850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Для четвертого свидетеля (АВ12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59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ормула в ячейке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В12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=ЕСЛИ(B12=B$7;1;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пируется в диапазон ячеек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2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F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59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325440" y="5400720"/>
            <a:ext cx="850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Для пятого свидетеля (А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2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O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59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ормула в ячейке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I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=ЕСЛИ(B12=B$7;1;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пируется в диапазон ячеек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I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2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M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59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25440" y="969840"/>
            <a:ext cx="850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перь можно найти вариант словесного портрета, соответствующий фактическому портрету преступник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то вариант, являющийся удовлетворяющий условию — количество ошибок у каждого свидетеля одинаково и при этом не равно 5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его нахождения следует сравнить значения в столбцах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Н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О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используя функции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ЕСЛИ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25440" y="4027320"/>
            <a:ext cx="850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ahoma"/>
              </a:rPr>
              <a:t>Задание для самостоятельной работ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формив лист, как описано, найдите правильный вариант словесного портрет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09:10:18Z</dcterms:created>
  <dc:creator>comp</dc:creator>
  <dc:description/>
  <dc:language>en-US</dc:language>
  <cp:lastModifiedBy>Юлия Мифаева</cp:lastModifiedBy>
  <dcterms:modified xsi:type="dcterms:W3CDTF">2013-04-25T10:52:27Z</dcterms:modified>
  <cp:revision>7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