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Конкурс № 9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1" i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320" y="4419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1040" y="1339920"/>
            <a:ext cx="853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ведем некоторые рекомендации по решению указанных головолом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ля решения целесообразно подготовить табличку с различными вариантами «набора» той или иной суммы из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различных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циф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1040" y="87624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19240" y="2992320"/>
          <a:ext cx="7167600" cy="2921040"/>
        </p:xfrm>
        <a:graphic>
          <a:graphicData uri="http://schemas.openxmlformats.org/drawingml/2006/table">
            <a:tbl>
              <a:tblPr/>
              <a:tblGrid>
                <a:gridCol w="942840"/>
                <a:gridCol w="2919600"/>
                <a:gridCol w="3305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ариан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з двух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ариан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из трех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и 2 (или 2 и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и 3 (или 3 и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и 4 (или 4 и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и 3 (или 3 и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 и 5 (или 5 и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, 2 и 3 (в разных сочетани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 и 4 (или 4 и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1040" y="820800"/>
            <a:ext cx="853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чинать желательно с анализа блоков, сумма в которых может быть набрана из минимального числа комбинаций цифр (3, 4, 16 и т.п.). По мере заполнения отдельных блоков количество возможных  вариантов заполнения других блоков будет уменьшаться. Естественно, при решении следует учитывать правила классического судоку — цифры в квадрата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× 3 не должны повтор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1040" y="2690640"/>
            <a:ext cx="85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35440" y="3198960"/>
          <a:ext cx="3490560" cy="3286080"/>
        </p:xfrm>
        <a:graphic>
          <a:graphicData uri="http://schemas.openxmlformats.org/drawingml/2006/table">
            <a:tbl>
              <a:tblPr/>
              <a:tblGrid>
                <a:gridCol w="387720"/>
                <a:gridCol w="387720"/>
                <a:gridCol w="387720"/>
                <a:gridCol w="388440"/>
                <a:gridCol w="387720"/>
                <a:gridCol w="387720"/>
                <a:gridCol w="388080"/>
                <a:gridCol w="387720"/>
                <a:gridCol w="38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1-20T12:12:48Z</dcterms:modified>
  <cp:revision>4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