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40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341280" y="16020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228600" y="54108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3960" y="23652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471760" y="7920"/>
            <a:ext cx="4208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4520" y="15228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68200" y="53316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0840" y="22860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38280" y="0"/>
            <a:ext cx="42084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1" i="1" lang="en-US" sz="54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ы</a:t>
            </a:r>
            <a:endParaRPr b="1" i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66320" y="4419360"/>
            <a:ext cx="7620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етыре загадки — анекдот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406440" y="5689440"/>
            <a:ext cx="85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Выберите один из предложенных ответов так, чтобы получился остроумный анекд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77000" y="0"/>
            <a:ext cx="143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При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ы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1041480"/>
            <a:ext cx="8267760" cy="24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Hародная примета — если программист в девять утра уже на работе, знач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слишком много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 строгий начальни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 он еще на рабо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) не успел вчера закончить програм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&amp;Kcy;&amp;acy;&amp;rcy;&amp;tcy;&amp;icy;&amp;ncy;&amp;kcy;&amp;acy; 6 &amp;icy;&amp;zcy; 15197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519880" y="3251160"/>
            <a:ext cx="3433680" cy="3441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9320" y="982800"/>
            <a:ext cx="447480" cy="5202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0280" y="3770280"/>
            <a:ext cx="5207040" cy="26589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Hародная примета 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если программист в девять утр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уже на работе, значи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н еще на работ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Hародная примета 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если программист в девять утр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уже на работе, значи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е успел вчер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закончить програм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77000" y="0"/>
            <a:ext cx="143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При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ы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44600" y="1041480"/>
            <a:ext cx="8267760" cy="46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ист не вышел на работу. День нет, два нет… Коллеги по работе забеспокоились, пришли к нему домой проведать. Звонят в дверь. Никто не открывает. Дверь выбили, зашли и нашли его в ванной судорожно гладящего одной рукой свою голову, а в другой руке — шампу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Hа вопрос: «Что случилось?» — он ткнул пальцем на инcтрукцию по пользованию шампун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Hанести раствор на влажные волосы. Вспенить. Смыть…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то еще было написано в инcтру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«Только для жирных волос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 «Только для блондинок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 «Не для лысых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) «Повтори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320" y="982800"/>
            <a:ext cx="447480" cy="5202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&amp;Kcy;&amp;acy;&amp;rcy;&amp;tcy;&amp;icy;&amp;ncy;&amp;kcy;&amp;acy; 27 &amp;icy;&amp;zcy; 7237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207040" y="3484440"/>
            <a:ext cx="3706920" cy="3195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6720" y="3733920"/>
            <a:ext cx="4472280" cy="26589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алее в инструкции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ыло написано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«Повторить»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77000" y="0"/>
            <a:ext cx="143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При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ы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44600" y="1041480"/>
            <a:ext cx="8267760" cy="42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кончил программист институт и устроился на работу. Начальник спраши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 сильный программис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у как вам сказ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у сильны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общем, 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огд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«перенесите эти компьютеры на третий этаж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«срочно займитесь этой программой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) «помогите нашему новому сотруднику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) «помогите мне разобраться вот в этом мест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0" y="982800"/>
            <a:ext cx="447480" cy="5202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&amp;Kcy;&amp;acy;&amp;rcy;&amp;tcy;&amp;icy;&amp;ncy;&amp;kcy;&amp;acy; 162 &amp;icy;&amp;zcy; 151976"/>
          <p:cNvPicPr/>
          <p:nvPr/>
        </p:nvPicPr>
        <p:blipFill>
          <a:blip r:embed="rId1"/>
          <a:srcRect l="44281" t="0" r="0" b="9808"/>
          <a:stretch/>
        </p:blipFill>
        <p:spPr>
          <a:xfrm>
            <a:off x="6315120" y="4289400"/>
            <a:ext cx="2828880" cy="2568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63600" y="3801960"/>
            <a:ext cx="5680080" cy="2659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огда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еренесите эти компьютеры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на третий этаж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77000" y="0"/>
            <a:ext cx="143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При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ы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44600" y="1041480"/>
            <a:ext cx="826776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ходит пpогpаммист в лифт и вспоминает, что ему надо попасть на 12-й этаж. Нажимает он «1», потом «2» и начинает судоpожн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стучать в двер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 искать кнопку           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 нажимать все кнопки подря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) звать на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0" y="982800"/>
            <a:ext cx="447480" cy="5202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&amp;Kcy;&amp;acy;&amp;rcy;&amp;tcy;&amp;icy;&amp;ncy;&amp;kcy;&amp;acy; 2 &amp;icy;&amp;zcy; 205571"/>
          <p:cNvPicPr/>
          <p:nvPr/>
        </p:nvPicPr>
        <p:blipFill>
          <a:blip r:embed="rId1">
            <a:lum contrast="12000"/>
          </a:blip>
          <a:srcRect l="16360" t="21916" r="17904" b="20679"/>
          <a:stretch/>
        </p:blipFill>
        <p:spPr>
          <a:xfrm>
            <a:off x="2328840" y="2108160"/>
            <a:ext cx="960480" cy="838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&amp;Kcy;&amp;acy;&amp;rcy;&amp;tcy;&amp;icy;&amp;ncy;&amp;kcy;&amp;acy; 36 &amp;icy;&amp;zcy; 151976"/>
          <p:cNvPicPr/>
          <p:nvPr/>
        </p:nvPicPr>
        <p:blipFill>
          <a:blip r:embed="rId2"/>
          <a:stretch/>
        </p:blipFill>
        <p:spPr>
          <a:xfrm>
            <a:off x="4979880" y="2743200"/>
            <a:ext cx="370548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0440" y="6222960"/>
            <a:ext cx="39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cc"/>
                </a:solidFill>
                <a:latin typeface="Tahoma"/>
              </a:rPr>
              <a:t>В оформлении использованы карикатуры </a:t>
            </a:r>
            <a:br>
              <a:rPr sz="1200"/>
            </a:br>
            <a:r>
              <a:rPr b="0" i="1" lang="ru-RU" sz="1200" spc="-1" strike="noStrike">
                <a:solidFill>
                  <a:srgbClr val="3333cc"/>
                </a:solidFill>
                <a:latin typeface="Tahoma"/>
              </a:rPr>
              <a:t>с различных интернет-сай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600" y="1957320"/>
            <a:ext cx="4422600" cy="26589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скать кнопку «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T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09:10:18Z</dcterms:created>
  <dc:creator>comp</dc:creator>
  <dc:description/>
  <dc:language>en-US</dc:language>
  <cp:lastModifiedBy>SCREW</cp:lastModifiedBy>
  <dcterms:modified xsi:type="dcterms:W3CDTF">2013-01-20T12:07:10Z</dcterms:modified>
  <cp:revision>4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