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184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3160" y="19810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184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3160" y="413064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840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3040" y="413064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61600"/>
            <a:ext cx="840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3040" y="198108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40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341280" y="16020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228600" y="54108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3960" y="23652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471760" y="7920"/>
            <a:ext cx="420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520" y="152280"/>
            <a:ext cx="31680" cy="525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68200" y="5331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0840" y="228600"/>
            <a:ext cx="2057400" cy="2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38280" y="0"/>
            <a:ext cx="42084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Японский уголок</a:t>
            </a:r>
            <a:endParaRPr b="1" i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54120" y="4106880"/>
            <a:ext cx="2178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1040" y="75420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ahoma"/>
              </a:rPr>
              <a:t>Два суд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920" y="160488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Прост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77000" y="0"/>
            <a:ext cx="143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Задач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072040" y="160488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Сложн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0680" y="2163600"/>
          <a:ext cx="3679200" cy="3431880"/>
        </p:xfrm>
        <a:graphic>
          <a:graphicData uri="http://schemas.openxmlformats.org/drawingml/2006/table">
            <a:tbl>
              <a:tblPr/>
              <a:tblGrid>
                <a:gridCol w="408600"/>
                <a:gridCol w="408600"/>
                <a:gridCol w="408960"/>
                <a:gridCol w="409320"/>
                <a:gridCol w="408600"/>
                <a:gridCol w="408960"/>
                <a:gridCol w="408600"/>
                <a:gridCol w="408600"/>
                <a:gridCol w="4089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89600" y="2163600"/>
          <a:ext cx="3766680" cy="3431880"/>
        </p:xfrm>
        <a:graphic>
          <a:graphicData uri="http://schemas.openxmlformats.org/drawingml/2006/table">
            <a:tbl>
              <a:tblPr/>
              <a:tblGrid>
                <a:gridCol w="418320"/>
                <a:gridCol w="418320"/>
                <a:gridCol w="418680"/>
                <a:gridCol w="419040"/>
                <a:gridCol w="418320"/>
                <a:gridCol w="418680"/>
                <a:gridCol w="418320"/>
                <a:gridCol w="418320"/>
                <a:gridCol w="4186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9:10:18Z</dcterms:created>
  <dc:creator>comp</dc:creator>
  <dc:description/>
  <dc:language>en-US</dc:language>
  <cp:lastModifiedBy>SCREW</cp:lastModifiedBy>
  <dcterms:modified xsi:type="dcterms:W3CDTF">2013-01-20T10:55:06Z</dcterms:modified>
  <cp:revision>4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