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Что нам стоит 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ом построить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04480" y="527328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.И. Азевич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ск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55720" y="330192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1600" y="960480"/>
            <a:ext cx="871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чертеже нужно выполнить и дополнительные построения:  ось симметрии дома и линии соответствия отдельных эле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этого воспользуемся параметром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netyp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С его помощью нанесе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чертеж нужные линии. В результате получим следующий вид. Он уже похож на настоящий чертеж, с помощью которого можно строить 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4320" y="2604960"/>
            <a:ext cx="2506680" cy="3551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16480" y="2595600"/>
            <a:ext cx="4954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1600" y="960480"/>
            <a:ext cx="871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ечно, созданный нами проект значительно отличается от работы профессионального архитектора. У настоящих архитекторов и строителей все гораздо сложнее и больше — для здания нужна целая папка всевозможных чертежей. Но ведь с чего-то начинать надо? Особенно тем, кто хочет связать свою профессию с архитектурой или строительством…  </a:t>
            </a:r>
            <a:r>
              <a:rPr b="0" lang="en-US" sz="1800" spc="-1" strike="noStrike">
                <a:solidFill>
                  <a:srgbClr val="008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http://www.tuenvioacuba.com/images/gold-house2.pn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73240" y="2862360"/>
            <a:ext cx="50799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5440" y="960480"/>
            <a:ext cx="8508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годня ни один современный архитектор не может обойтись без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т программный пакет служит для подготовки проектов школ, домов, торговых центров. Но прежде чем замысел архитектора обретет свое реальное воплощение в виде модели — чертежа, стоит немало потруд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мимо дорогог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C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есть и похожие бесплатные программы. Они подойдут для начинающих. Например,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A9C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аналог старшего собрата по чертежному цеху. С его помощью рутинный и скучный процесс построения чертежа можно превратить в настоящее искус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www.apu-svao.ru/wp-content/uploads/24-1-288x300.jpg"/>
          <p:cNvPicPr/>
          <p:nvPr/>
        </p:nvPicPr>
        <p:blipFill>
          <a:blip r:embed="rId1"/>
          <a:stretch/>
        </p:blipFill>
        <p:spPr>
          <a:xfrm>
            <a:off x="5643720" y="4000680"/>
            <a:ext cx="27432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9920" y="4060800"/>
            <a:ext cx="40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5760" y="960480"/>
            <a:ext cx="87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качаем программу с сайта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http://www.bestfree.ru/soft/graph/draw.ph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установим ее на компьютер и приступим к созданию первого черте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чнем с простенького домика.  Будем выполнять чертеж, по ходу осваивая многочисленные функции программ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фейс у нее англоязычны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6040" y="2676600"/>
            <a:ext cx="4019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5440" y="960480"/>
            <a:ext cx="85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ускаем программу. На черном экране в будущем должен появиться 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ва — набор инструментов для проектирования команд, вверху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обычно, — меню и кнопки управления. Это все нужно осво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88960" y="2266920"/>
            <a:ext cx="6265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5440" y="960480"/>
            <a:ext cx="8508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рный фон неудобен для восприятия. Для замены его на белый надо выполнить последовательность команд: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File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|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ra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ettings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|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Background Color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|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whit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точного макета дома нужно теперь вывести на экран сетку из клеток. Каждая вершина клетки — это узел, к которому можно привязать элементы проекта. Чтобы сетка появилась на экране, надо нажать кнопку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RI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самом низу главного окна программы. Здесь же имеется еще несколько кнопок. Из них полезна кнопка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NA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она активирует функцию привязки к сетке инструментов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33640" y="4125960"/>
            <a:ext cx="6754680" cy="1612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56160" y="5192640"/>
            <a:ext cx="3038400" cy="619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1600" y="960480"/>
            <a:ext cx="871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 чего начать построение дома? Конечно, с фундамен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рисуем прямоугольник. Для этого выберем инструмент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«Прямоугольник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и на рабочем поле в нужном месте растянем его до нужных разм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только «фундамент» появится на экране, дважды щелкнем левой кнопкой мыши. Он «прицепится» к се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тем нарисуем еще один прямоугольник. Это будет основная часть з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2959200"/>
            <a:ext cx="423684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1600" y="960480"/>
            <a:ext cx="871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йдем к построению крыши. Отметим точку —  начало нижней границы верхушки дома и проведем от нее прямую линию. Чтобы «остановить» линию, надо  щелкнуть два раза левой, а потом один раз правой кнопкой мыш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спользуя линии, дорисуем крышу дома. На крыше сделаем небольшое круглое окошко, а в основной части дома — три прямоугольных окна. Справа поместим дверь. На крыше установим тру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27120" y="3090960"/>
            <a:ext cx="42134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1600" y="960480"/>
            <a:ext cx="8710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хорошо, что толщина стен и окон одинаковы. Исправим этот недостаток. Нажмем на значок        и выделим основную часть д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ут же справа появится новое окно. Нажмем на параметр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Linetype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в открывшемся окне выберем нужную толщину стен. Здесь же, кстати, можно выбрать цвет элемента, щелкнув по надписи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olo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Эти команды помогут сделать дом привлекатель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01920" y="1300320"/>
            <a:ext cx="374760" cy="39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76760" y="2998800"/>
            <a:ext cx="4356000" cy="3587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95560" y="3002040"/>
            <a:ext cx="250632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1600" y="960480"/>
            <a:ext cx="871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о сделано, но, кажется, чего-то еще не хват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о, надо раскрасить дом! Вновь воспользуемся панелью коман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дактирования. Изучим параметр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FillMod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делим фундамент (как это сделать, было сказано выше) и щелкнем на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FillMod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Открывается несколько вариантов заливки. Выберем вариант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atchDiagCro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фундамент окрасится в приятную «косую» кле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600" y="2925720"/>
            <a:ext cx="5194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бы задать размеры деталей дома, служит специальная функ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ачала надо выделить нужный элемент (например, расстояние от фундамента до крыши). На главном меню программы выберем пункт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raw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нем подпункт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extStyleEdito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В появившемся окне укажем размеры текста и нажмем 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но поступить иначе: выбрать подпункт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imensio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а затем — соответствующую надпись (выноска по вертикали, горизонтали, диагонали, диаметр круга и т.д. ). Программа сама все измерит, а потом укажет на чертеже получившееся чис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10160" y="3063960"/>
            <a:ext cx="3421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2:40:29Z</dcterms:modified>
  <cp:revision>7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