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то этот человек? 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06040" y="4375080"/>
            <a:ext cx="76201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ив пять приведенных ниже задач, по полученным результатам определите (используя Интернет или другие источники) фамилию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имя человека, о котором идет речь в заданиях. В ответе приведите также полученную при выполнении частных заданий информацию и награды (премии, ордена и медали), которых удостоился этот челове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&amp;Kcy;&amp;acy;&amp;rcy;&amp;tcy;&amp;icy;&amp;ncy;&amp;kcy;&amp;acy; 34 &amp;icy;&amp;zcy; 12854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10000" y="466560"/>
            <a:ext cx="22525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1.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040" y="1314360"/>
            <a:ext cx="853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 масси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10 элементов. Определите, как изменится этот массив после выполнения следующего фрагмента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t := a[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i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2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а[i] := a[i -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а[1] :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висимости от полученного результата установите, в какой семье родился наш гер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массив остался без изменений — в семье вр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все элементы, кроме первого, получили значение а[1] — в семь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капитана суд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первый элемент стал последним, а остальные переместились на позиц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влево — в профессорской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первый элемент стал последним, а остальные переместились на позиц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влево — в семье инжен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1040" y="754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2. В своей стране он стал первы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1040" y="1314360"/>
            <a:ext cx="853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 фрагмент программы, обрабатывающий масси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ем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t :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r :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i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2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если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[i] &lt; a[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r :=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если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а[i] &gt; a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t :=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y := a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[t] := a[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[r] :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70120" y="2379600"/>
            <a:ext cx="5268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изменится массив после выполнения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фрагмен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зависимости от полученного результата определите продолжение фразы «В своей стране он стал первым…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массив остался без изменений —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«программистом, получивши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международную премию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максимальный и минимальный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енялись местами — «профессоро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информатик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максимальный элемент стал первы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в массиве — «создателем ЭВМ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 минимальный элемент стал первым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в массиве — «инженером-программист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1040" y="754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3. Лучшее дост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040" y="1314360"/>
            <a:ext cx="853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ется двумерный массив, состоящий из трех строк и четырех столбцов. Чему будет равна сумма элементов второго столбца после 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рагмента програм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i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j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если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i &gt;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а[i, j] := i +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а[i, j] := i -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9640" y="3686040"/>
            <a:ext cx="449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 на этот вопрос определяет его лучшее дости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–6 — создание ноутб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  6 — создание языка Бейс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  4 — разработка теории объектно-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ориентированных яз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  3 — создание настоль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издательских систе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предназначенных для набо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и верстки кни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1040" y="754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4. Ув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1040" y="1314360"/>
            <a:ext cx="853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ения двух массиво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[1..100] 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[1..100] задаются с помощью следующего фрагмента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n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[n] := n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нц для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n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от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до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B[n] := A[n] *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ru-RU" sz="1800" spc="-1" strike="noStrike">
                <a:solidFill>
                  <a:srgbClr val="3333cc"/>
                </a:solidFill>
                <a:latin typeface="Courier New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го увлечение зависит от ответа на вопрос «Сколько элементов массив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удут иметь положительные значения?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10   — лы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50   — футбо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90   — камерная му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100 — тенн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1040" y="754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5. Международное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1040" y="1314360"/>
            <a:ext cx="853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е значение целочисленной переменной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 выполнения фрагмента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 := 24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b := mod (a, 1000) *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ourier New"/>
              </a:rPr>
              <a:t>a := div(a, 1000)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висимости от полученного результата установите продолжение фразы «Среди его наград…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4682 — премия Тьюри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 22    — Нобелевская прем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 8246 — премия Филд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 470  — премия имени Грейс Хопп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1040" y="7542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ahom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1040" y="3892680"/>
            <a:ext cx="85330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ле-Йохан Даль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(12 октября 1931 года — 29 июня 2002 год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рвежский учёный в области теории вычислительных сис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го награ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андор ордена Святого Ол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мия Тьюринга за идеи, фундаментальные для разви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объектно-ориентированного программирования, возникшие в ход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разработки языков программирования Simula I и Simula 67 (2001 год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даль IEEE имени Джона фон Неймана (2001 г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&amp;Kcy;&amp;acy;&amp;rcy;&amp;tcy;&amp;icy;&amp;ncy;&amp;kcy;&amp;acy; 34 &amp;icy;&amp;zcy; 12854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9720" y="1046160"/>
            <a:ext cx="2252520" cy="2252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upload.wikimedia.org/wikipedia/ru/e/ed/Ole-johan_dahl.gif"/>
          <p:cNvPicPr/>
          <p:nvPr/>
        </p:nvPicPr>
        <p:blipFill>
          <a:blip r:embed="rId2"/>
          <a:stretch/>
        </p:blipFill>
        <p:spPr>
          <a:xfrm>
            <a:off x="3425760" y="966960"/>
            <a:ext cx="20001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1:59:36Z</dcterms:modified>
  <cp:revision>4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