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520" y="15228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68200" y="5331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0840" y="22860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Конкурс №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ЮБИЛЕЙНЫЙ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i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1040" y="82080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лагаем решить судоку с суммами:  сумма цифр в клетках блока должна быть равна числу, указанному в углу бл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30440" y="1635120"/>
            <a:ext cx="58849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SCREW</cp:lastModifiedBy>
  <dcterms:modified xsi:type="dcterms:W3CDTF">2013-01-20T12:15:17Z</dcterms:modified>
  <cp:revision>4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