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54.wmf" ContentType="image/x-wmf"/>
  <Override PartName="/ppt/media/image5.png" ContentType="image/png"/>
  <Override PartName="/ppt/media/image35.png" ContentType="image/png"/>
  <Override PartName="/ppt/media/image28.wmf" ContentType="image/x-wmf"/>
  <Override PartName="/ppt/media/image3.jpeg" ContentType="image/jpeg"/>
  <Override PartName="/ppt/media/image30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15.png" ContentType="image/png"/>
  <Override PartName="/ppt/media/image27.png" ContentType="image/png"/>
  <Override PartName="/ppt/media/image42.png" ContentType="image/png"/>
  <Override PartName="/ppt/media/image43.png" ContentType="image/png"/>
  <Override PartName="/ppt/media/image53.jpeg" ContentType="image/jpe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41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9738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896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5792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941688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F430-1560-4D64-BD2C-F119A853F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1696-D852-42C4-8CAF-052D9A854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78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ngth of ESCS on performance (% variance explained) and maths performanc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ze of bubbles shows spending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BCC-0FD9-4AD9-8BDD-9F212FD7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CAC-37B3-4ACC-8247-E3C2B37A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173-9146-4A1F-ABBC-83F222F4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487-E235-4BCA-9729-01C72E24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B92-C870-45A2-8A30-6915B466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82C-491D-4994-AA1D-DB19AA39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A1F-7912-4F9A-A82F-6869243A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648-D694-4512-832F-F9B7EEC3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0BB-FB49-4417-95B5-0FEC7FA5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02F-F49B-4603-9541-1DBE8F82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DAF-1D37-4D37-A711-6629978D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16F-E4F6-46ED-816B-332AF010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CBAE-7810-4143-836C-60466D701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11" descr="2стр"/>
          <p:cNvPicPr/>
          <p:nvPr/>
        </p:nvPicPr>
        <p:blipFill>
          <a:blip r:embed="rId2"/>
          <a:srcRect l="11026" t="18819" r="0" b="75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StripUKpc"/>
          <p:cNvPicPr/>
          <p:nvPr/>
        </p:nvPicPr>
        <p:blipFill>
          <a:blip r:embed="rId3"/>
          <a:stretch/>
        </p:blipFill>
        <p:spPr>
          <a:xfrm>
            <a:off x="-11160" y="1125360"/>
            <a:ext cx="916200" cy="5759640"/>
          </a:xfrm>
          <a:prstGeom prst="rect">
            <a:avLst/>
          </a:prstGeom>
          <a:ln w="0">
            <a:noFill/>
          </a:ln>
        </p:spPr>
      </p:pic>
      <p:sp>
        <p:nvSpPr>
          <p:cNvPr id="7" name="Прямоугольник 11"/>
          <p:cNvSpPr/>
          <p:nvPr/>
        </p:nvSpPr>
        <p:spPr>
          <a:xfrm>
            <a:off x="0" y="1125360"/>
            <a:ext cx="900000" cy="5732640"/>
          </a:xfrm>
          <a:prstGeom prst="rect">
            <a:avLst/>
          </a:pr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Box 13"/>
          <p:cNvSpPr/>
          <p:nvPr/>
        </p:nvSpPr>
        <p:spPr>
          <a:xfrm>
            <a:off x="0" y="635148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чимся для жизн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3"/>
          <p:cNvSpPr/>
          <p:nvPr/>
        </p:nvSpPr>
        <p:spPr>
          <a:xfrm>
            <a:off x="8388360" y="6058080"/>
            <a:ext cx="1600200" cy="1600200"/>
          </a:xfrm>
          <a:prstGeom prst="ellipse">
            <a:avLst/>
          </a:prstGeom>
          <a:gradFill rotWithShape="0">
            <a:gsLst>
              <a:gs pos="0">
                <a:srgbClr val="d1d1f0"/>
              </a:gs>
              <a:gs pos="100000">
                <a:srgbClr val="ccffff"/>
              </a:gs>
            </a:gsLst>
            <a:lin ang="27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>
            <a:off x="7970400" y="6427800"/>
            <a:ext cx="160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81D3-E14F-47DA-9424-6E4F601E29F7}" type="slidenum">
              <a:rPr b="1" lang="en-US" sz="2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51.png"/><Relationship Id="rId1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2.pn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oecd.org/edu/pisa" TargetMode="External"/><Relationship Id="rId2" Type="http://schemas.openxmlformats.org/officeDocument/2006/relationships/hyperlink" Target="http://www.oecd.org/edu/pisa" TargetMode="External"/><Relationship Id="rId3" Type="http://schemas.openxmlformats.org/officeDocument/2006/relationships/hyperlink" Target="http://www.oecd.org/edu/pisa" TargetMode="External"/><Relationship Id="rId4" Type="http://schemas.openxmlformats.org/officeDocument/2006/relationships/hyperlink" Target="http://www.oecd.org/edu/pisa" TargetMode="External"/><Relationship Id="rId5" Type="http://schemas.openxmlformats.org/officeDocument/2006/relationships/hyperlink" Target="http://www.oecd.org/edu/pisa" TargetMode="External"/><Relationship Id="rId6" Type="http://schemas.openxmlformats.org/officeDocument/2006/relationships/hyperlink" Target="http://www.oecd.org/edu/pisa" TargetMode="External"/><Relationship Id="rId7" Type="http://schemas.openxmlformats.org/officeDocument/2006/relationships/hyperlink" Target="http://www.oecd.org/edu/pisa" TargetMode="External"/><Relationship Id="rId8" Type="http://schemas.openxmlformats.org/officeDocument/2006/relationships/hyperlink" Target="http://www.oecd.org/edu/pisa" TargetMode="External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56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ск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 декабря 2010 г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4A54-A816-4958-8A0A-E404FBB6B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7547040" y="109440"/>
            <a:ext cx="1425600" cy="4446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3"/>
          <p:cNvGrpSpPr/>
          <p:nvPr/>
        </p:nvGrpSpPr>
        <p:grpSpPr>
          <a:xfrm>
            <a:off x="108000" y="115920"/>
            <a:ext cx="647640" cy="956520"/>
            <a:chOff x="108000" y="115920"/>
            <a:chExt cx="647640" cy="956520"/>
          </a:xfrm>
        </p:grpSpPr>
        <p:sp>
          <p:nvSpPr>
            <p:cNvPr id="61" name="Text Box 4"/>
            <p:cNvSpPr/>
            <p:nvPr/>
          </p:nvSpPr>
          <p:spPr>
            <a:xfrm>
              <a:off x="108000" y="658800"/>
              <a:ext cx="647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" name="Picture 5" descr="mo"/>
            <p:cNvPicPr/>
            <p:nvPr/>
          </p:nvPicPr>
          <p:blipFill>
            <a:blip r:embed="rId3"/>
            <a:stretch/>
          </p:blipFill>
          <p:spPr>
            <a:xfrm>
              <a:off x="170640" y="115920"/>
              <a:ext cx="511920" cy="57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11" descr="2стр"/>
          <p:cNvPicPr/>
          <p:nvPr/>
        </p:nvPicPr>
        <p:blipFill>
          <a:blip r:embed="rId4"/>
          <a:srcRect l="11026" t="18819" r="0" b="7574"/>
          <a:stretch/>
        </p:blipFill>
        <p:spPr>
          <a:xfrm>
            <a:off x="-30240" y="0"/>
            <a:ext cx="91998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asomi-map.png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-317520" y="981000"/>
            <a:ext cx="9858240" cy="525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Подзаголовок 5"/>
          <p:cNvSpPr/>
          <p:nvPr/>
        </p:nvSpPr>
        <p:spPr>
          <a:xfrm>
            <a:off x="684360" y="5950080"/>
            <a:ext cx="799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61596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Результаты международной программы </a:t>
            </a: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PISA-20</a:t>
            </a: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1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6"/>
          <a:stretch/>
        </p:blipFill>
        <p:spPr>
          <a:xfrm>
            <a:off x="7596360" y="223920"/>
            <a:ext cx="1409400" cy="43344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3"/>
          <p:cNvGrpSpPr/>
          <p:nvPr/>
        </p:nvGrpSpPr>
        <p:grpSpPr>
          <a:xfrm>
            <a:off x="179280" y="152280"/>
            <a:ext cx="908280" cy="1064520"/>
            <a:chOff x="179280" y="152280"/>
            <a:chExt cx="908280" cy="1064520"/>
          </a:xfrm>
        </p:grpSpPr>
        <p:sp>
          <p:nvSpPr>
            <p:cNvPr id="69" name="Text Box 4"/>
            <p:cNvSpPr/>
            <p:nvPr/>
          </p:nvSpPr>
          <p:spPr>
            <a:xfrm>
              <a:off x="179280" y="909720"/>
              <a:ext cx="90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" name="Picture 5" descr="mo"/>
            <p:cNvPicPr/>
            <p:nvPr/>
          </p:nvPicPr>
          <p:blipFill>
            <a:blip r:embed="rId7"/>
            <a:stretch/>
          </p:blipFill>
          <p:spPr>
            <a:xfrm>
              <a:off x="278640" y="152280"/>
              <a:ext cx="695160" cy="796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63480" y="1303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имер задания </a:t>
            </a:r>
            <a:br>
              <a:rPr sz="3200"/>
            </a:b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«Парусные корабли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214600" y="3648240"/>
            <a:ext cx="3746520" cy="23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d2d8a"/>
                </a:solidFill>
                <a:latin typeface="Arial"/>
              </a:rPr>
              <a:t>Типичная задача для учащихся 5-6 классов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d2d8a"/>
                </a:solidFill>
                <a:latin typeface="Arial"/>
              </a:rPr>
              <a:t>«За год двигатель на корабле потребляет 3500000 л топлива, 1 литр топлива стоит 0,42 р. Установка паруса на корабле стоит 2500000 р. Парус экономит 20% топлива. </a:t>
            </a:r>
            <a:r>
              <a:rPr b="1" i="1" lang="ru-RU" sz="1400" spc="-1" strike="noStrike" u="sng">
                <a:solidFill>
                  <a:srgbClr val="2d2d8a"/>
                </a:solidFill>
                <a:uFillTx/>
                <a:latin typeface="Arial"/>
              </a:rPr>
              <a:t>Через сколько лет экономия топлива покроет стоимость установки паруса?</a:t>
            </a:r>
            <a:r>
              <a:rPr b="1" i="1" lang="ru-RU" sz="1400" spc="-1" strike="noStrike">
                <a:solidFill>
                  <a:srgbClr val="2d2d8a"/>
                </a:solidFill>
                <a:latin typeface="Arial"/>
              </a:rPr>
              <a:t>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3"/>
          <p:cNvSpPr/>
          <p:nvPr/>
        </p:nvSpPr>
        <p:spPr>
          <a:xfrm>
            <a:off x="5286240" y="198900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оздать модель решения и  выполнить арифметические действ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159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Bild 6" descr=":screen-capture-2.jpg"/>
          <p:cNvPicPr/>
          <p:nvPr/>
        </p:nvPicPr>
        <p:blipFill>
          <a:blip r:embed="rId3"/>
          <a:stretch/>
        </p:blipFill>
        <p:spPr>
          <a:xfrm>
            <a:off x="3564000" y="1125360"/>
            <a:ext cx="1584360" cy="1295640"/>
          </a:xfrm>
          <a:prstGeom prst="rect">
            <a:avLst/>
          </a:prstGeom>
          <a:ln w="0">
            <a:noFill/>
          </a:ln>
        </p:spPr>
      </p:pic>
      <p:sp>
        <p:nvSpPr>
          <p:cNvPr id="162" name="Содержимое 8"/>
          <p:cNvSpPr/>
          <p:nvPr/>
        </p:nvSpPr>
        <p:spPr>
          <a:xfrm>
            <a:off x="971640" y="1052640"/>
            <a:ext cx="273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вяносто пять процентов товаров в мире перевозят по морю примерно 50 000 танкеров, грузовых кораблей и контейнеровозов. Большинство этих кораблей используют дизельное топливо.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женеры планируют разработать поддержку кораблей, используя силу ветра. Их предложение заключается в прикреплении к кораблям кайтов (парящих в воздухе парусов) и использовании силы ветра, чтобы уменьшить расход дизельного топлива и его влияние на окружающую среду.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71280" y="6092640"/>
            <a:ext cx="4105080" cy="649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Black"/>
              </a:rPr>
              <a:t>Результат российских учащихся: 16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Black"/>
              </a:rPr>
              <a:t>Средний результат учащихся стран ОЭСР: 15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Black"/>
              </a:rPr>
              <a:t>Максимальный результат: 47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4"/>
          <a:stretch/>
        </p:blipFill>
        <p:spPr>
          <a:xfrm>
            <a:off x="1000080" y="3143160"/>
            <a:ext cx="3095640" cy="2664000"/>
          </a:xfrm>
          <a:prstGeom prst="rect">
            <a:avLst/>
          </a:prstGeom>
          <a:ln w="0">
            <a:noFill/>
          </a:ln>
        </p:spPr>
      </p:pic>
      <p:sp>
        <p:nvSpPr>
          <p:cNvPr id="165" name="Овал 13"/>
          <p:cNvSpPr/>
          <p:nvPr/>
        </p:nvSpPr>
        <p:spPr>
          <a:xfrm>
            <a:off x="857160" y="5214960"/>
            <a:ext cx="1008000" cy="285840"/>
          </a:xfrm>
          <a:prstGeom prst="ellipse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Овал 14"/>
          <p:cNvSpPr/>
          <p:nvPr/>
        </p:nvSpPr>
        <p:spPr>
          <a:xfrm>
            <a:off x="1428840" y="3714840"/>
            <a:ext cx="1008000" cy="285840"/>
          </a:xfrm>
          <a:prstGeom prst="ellipse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Овал 15"/>
          <p:cNvSpPr/>
          <p:nvPr/>
        </p:nvSpPr>
        <p:spPr>
          <a:xfrm>
            <a:off x="2928960" y="3286080"/>
            <a:ext cx="1008000" cy="285840"/>
          </a:xfrm>
          <a:prstGeom prst="ellipse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16"/>
          <p:cNvSpPr/>
          <p:nvPr/>
        </p:nvSpPr>
        <p:spPr>
          <a:xfrm>
            <a:off x="3571920" y="5357880"/>
            <a:ext cx="642960" cy="358560"/>
          </a:xfrm>
          <a:prstGeom prst="ellipse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Содержимое 8"/>
          <p:cNvSpPr/>
          <p:nvPr/>
        </p:nvSpPr>
        <p:spPr>
          <a:xfrm>
            <a:off x="971640" y="558972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рез сколько примерно лет экономия на дизельном топливе покроет стоимость установки кайта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Приведите вычисления, подтверждающие ваш ответ.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Содержимое 8"/>
          <p:cNvSpPr/>
          <p:nvPr/>
        </p:nvSpPr>
        <p:spPr>
          <a:xfrm>
            <a:off x="5219640" y="3141720"/>
            <a:ext cx="3746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АТЕМАТИЧЕСКИЙ МИР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Содержимое 8"/>
          <p:cNvSpPr/>
          <p:nvPr/>
        </p:nvSpPr>
        <p:spPr>
          <a:xfrm>
            <a:off x="857160" y="785880"/>
            <a:ext cx="1928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РЕАЛЬНЫЙ МИР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Результаты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стран по</a:t>
            </a:r>
            <a:br>
              <a:rPr sz="3200"/>
            </a:b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математической грамо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5148360" y="1268280"/>
            <a:ext cx="360360" cy="237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75600 h 2376720"/>
              <a:gd name="textAreaBottom" fmla="*/ 230112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1"/>
                  <a:pt x="10800" y="2201"/>
                </a:cubicBezTo>
                <a:lnTo>
                  <a:pt x="10800" y="8599"/>
                </a:lnTo>
                <a:cubicBezTo>
                  <a:pt x="10800" y="9700"/>
                  <a:pt x="5400" y="10800"/>
                  <a:pt x="0" y="10800"/>
                </a:cubicBezTo>
                <a:cubicBezTo>
                  <a:pt x="5400" y="10800"/>
                  <a:pt x="10800" y="11901"/>
                  <a:pt x="10800" y="13001"/>
                </a:cubicBezTo>
                <a:lnTo>
                  <a:pt x="10800" y="19399"/>
                </a:lnTo>
                <a:cubicBezTo>
                  <a:pt x="10800" y="205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5219640" y="3716280"/>
            <a:ext cx="349200" cy="792360"/>
          </a:xfrm>
          <a:custGeom>
            <a:avLst/>
            <a:gdLst>
              <a:gd name="textAreaLeft" fmla="*/ 223200 w 349200"/>
              <a:gd name="textAreaRight" fmla="*/ 349560 w 349200"/>
              <a:gd name="textAreaTop" fmla="*/ 9000 h 792360"/>
              <a:gd name="textAreaBottom" fmla="*/ 7833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7"/>
                  <a:pt x="10800" y="794"/>
                </a:cubicBezTo>
                <a:lnTo>
                  <a:pt x="10800" y="10006"/>
                </a:lnTo>
                <a:cubicBezTo>
                  <a:pt x="10800" y="10403"/>
                  <a:pt x="5400" y="10800"/>
                  <a:pt x="0" y="10800"/>
                </a:cubicBezTo>
                <a:cubicBezTo>
                  <a:pt x="5400" y="10800"/>
                  <a:pt x="10800" y="11197"/>
                  <a:pt x="10800" y="11594"/>
                </a:cubicBezTo>
                <a:lnTo>
                  <a:pt x="10800" y="20806"/>
                </a:lnTo>
                <a:cubicBezTo>
                  <a:pt x="10800" y="212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5237280" y="4575240"/>
            <a:ext cx="342720" cy="1949400"/>
          </a:xfrm>
          <a:custGeom>
            <a:avLst/>
            <a:gdLst>
              <a:gd name="textAreaLeft" fmla="*/ 218880 w 342720"/>
              <a:gd name="textAreaRight" fmla="*/ 343080 w 342720"/>
              <a:gd name="textAreaTop" fmla="*/ 48960 h 1949400"/>
              <a:gd name="textAreaBottom" fmla="*/ 1900440 h 194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7"/>
                  <a:pt x="10800" y="1734"/>
                </a:cubicBezTo>
                <a:lnTo>
                  <a:pt x="10800" y="9066"/>
                </a:lnTo>
                <a:cubicBezTo>
                  <a:pt x="10800" y="9933"/>
                  <a:pt x="5400" y="10800"/>
                  <a:pt x="0" y="10800"/>
                </a:cubicBezTo>
                <a:cubicBezTo>
                  <a:pt x="5400" y="10800"/>
                  <a:pt x="10800" y="11667"/>
                  <a:pt x="10800" y="12534"/>
                </a:cubicBezTo>
                <a:lnTo>
                  <a:pt x="10800" y="19866"/>
                </a:lnTo>
                <a:cubicBezTo>
                  <a:pt x="10800" y="2073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187280" y="1268280"/>
            <a:ext cx="388944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дирующие страны и территории: Шанхай (Китай), Сингапур, Гонконг (Китай), Тайвань, Республика Корея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9 стран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ий балл которых статистически значим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ыш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реднего балла Росси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042920" y="526248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6 стран, средний балл которых статистически значим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иж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реднего балла Росси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042920" y="3284640"/>
            <a:ext cx="396072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 стран, средний балл которых не отличается от балла Росси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Норвегия, Португалия, Италия, Испания, Словацкая Республика, США, Литва, Швеция, Венгрия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мский край – 484 балла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181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2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Picture 15" descr=""/>
          <p:cNvPicPr/>
          <p:nvPr/>
        </p:nvPicPr>
        <p:blipFill>
          <a:blip r:embed="rId3"/>
          <a:stretch/>
        </p:blipFill>
        <p:spPr>
          <a:xfrm>
            <a:off x="5641920" y="1197000"/>
            <a:ext cx="3033720" cy="533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"/>
          <p:cNvPicPr/>
          <p:nvPr/>
        </p:nvPicPr>
        <p:blipFill>
          <a:blip r:embed="rId4"/>
          <a:stretch/>
        </p:blipFill>
        <p:spPr>
          <a:xfrm>
            <a:off x="5508720" y="4149720"/>
            <a:ext cx="3311280" cy="1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О чем говорят </a:t>
            </a:r>
            <a:br>
              <a:rPr sz="3600"/>
            </a:b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результаты </a:t>
            </a:r>
            <a:r>
              <a:rPr b="1" lang="en-US" sz="3600" spc="-1" strike="noStrike">
                <a:solidFill>
                  <a:srgbClr val="222268"/>
                </a:solidFill>
                <a:latin typeface="Arial"/>
              </a:rPr>
              <a:t>PISA-2012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42560" y="1499760"/>
            <a:ext cx="7643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зница между результатами стран с наивысшими и наинизшими результатами составляет 245 баллов, что соответствует разнице по годам обучения в школе в 6 лет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зница между результатами учащихся внутри стран составляет более 300 баллов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олько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енее 20% разброса результатов между странами объясняется уровнем  благосостояния стран и расходами на одного ученика.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алый процент учащихся, не достигающих порогового уровня математической грамотности в ряде стран, подтверждает тезис о возможности успешного обучения математике всех учащихся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189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0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Уровни функциональной грамотности </a:t>
            </a:r>
            <a:r>
              <a:rPr b="1" lang="en-US" sz="3600" spc="-1" strike="noStrike">
                <a:solidFill>
                  <a:srgbClr val="222268"/>
                </a:solidFill>
                <a:latin typeface="Arial"/>
              </a:rPr>
              <a:t>PIS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66"/>
          <p:cNvSpPr/>
          <p:nvPr/>
        </p:nvSpPr>
        <p:spPr>
          <a:xfrm>
            <a:off x="4356000" y="2349360"/>
            <a:ext cx="478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о мыслящие и способные функционировать в сложных условия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является способность использовать имеющиеся знания и умения для получения новой информац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роговый, при достижении которого учащиеся начинают демонстрировать применение знаний и умений в простейших не учебных ситуация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3"/>
          <p:cNvGrpSpPr/>
          <p:nvPr/>
        </p:nvGrpSpPr>
        <p:grpSpPr>
          <a:xfrm>
            <a:off x="8172360" y="154080"/>
            <a:ext cx="876240" cy="1036800"/>
            <a:chOff x="8172360" y="154080"/>
            <a:chExt cx="876240" cy="1036800"/>
          </a:xfrm>
        </p:grpSpPr>
        <p:sp>
          <p:nvSpPr>
            <p:cNvPr id="199" name="Text Box 4"/>
            <p:cNvSpPr/>
            <p:nvPr/>
          </p:nvSpPr>
          <p:spPr>
            <a:xfrm>
              <a:off x="817236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0" name="Picture 5" descr="mo"/>
            <p:cNvPicPr/>
            <p:nvPr/>
          </p:nvPicPr>
          <p:blipFill>
            <a:blip r:embed="rId3"/>
            <a:stretch/>
          </p:blipFill>
          <p:spPr>
            <a:xfrm>
              <a:off x="826812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Уровни математической грамот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Объект 2" descr=""/>
          <p:cNvPicPr/>
          <p:nvPr/>
        </p:nvPicPr>
        <p:blipFill>
          <a:blip r:embed="rId1"/>
          <a:stretch/>
        </p:blipFill>
        <p:spPr>
          <a:xfrm>
            <a:off x="839880" y="1209600"/>
            <a:ext cx="8049960" cy="5119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3"/>
          <p:cNvGrpSpPr/>
          <p:nvPr/>
        </p:nvGrpSpPr>
        <p:grpSpPr>
          <a:xfrm>
            <a:off x="8172360" y="154080"/>
            <a:ext cx="876240" cy="1036800"/>
            <a:chOff x="8172360" y="154080"/>
            <a:chExt cx="876240" cy="1036800"/>
          </a:xfrm>
        </p:grpSpPr>
        <p:sp>
          <p:nvSpPr>
            <p:cNvPr id="205" name="Text Box 4"/>
            <p:cNvSpPr/>
            <p:nvPr/>
          </p:nvSpPr>
          <p:spPr>
            <a:xfrm>
              <a:off x="817236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Picture 5" descr="mo"/>
            <p:cNvPicPr/>
            <p:nvPr/>
          </p:nvPicPr>
          <p:blipFill>
            <a:blip r:embed="rId3"/>
            <a:stretch/>
          </p:blipFill>
          <p:spPr>
            <a:xfrm>
              <a:off x="826812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3512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Результаты учащихся по областям содержания и видам деятельности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28584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210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1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 txBox="1"/>
          <p:nvPr/>
        </p:nvSpPr>
        <p:spPr>
          <a:xfrm>
            <a:off x="1042560" y="5500440"/>
            <a:ext cx="81010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еднее значение ОЭСР по тесту – 494 балл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"/>
          <p:cNvPicPr/>
          <p:nvPr/>
        </p:nvPicPr>
        <p:blipFill>
          <a:blip r:embed="rId3"/>
          <a:stretch/>
        </p:blipFill>
        <p:spPr>
          <a:xfrm>
            <a:off x="971640" y="1857240"/>
            <a:ext cx="4054320" cy="3143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4"/>
          <a:stretch/>
        </p:blipFill>
        <p:spPr>
          <a:xfrm>
            <a:off x="5076720" y="1857240"/>
            <a:ext cx="4002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635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Математическое образование в мире: шаг развития</a:t>
            </a: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 (PISA-201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42560" y="1541160"/>
            <a:ext cx="7921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1. За последние 10 лет явно изменился запрос на качество  математического образования – приоритетной целью становится формирование математической грамотности в системе общего образования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2. Основные тенденции в математическом образовании стран: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повышение средних результатов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стремление к достижению самых высоких результатов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интенсивная работа с отстающими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анализ сильных и слабых сторон преподавания математики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обеспечение равных возможностей для обучения мальчиков и девочек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219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0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635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Математическое образование в мире: шаг развития</a:t>
            </a: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 (PISA-201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28800" y="1398600"/>
            <a:ext cx="8035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По двум областям содержания «Пространство и формы» (геометрия) и «Неопределенность и данные» (вероятность и статистика) наблюдаются наибольшие различия между странами, в связи с чем высказывается предположение, что страны могут найти резервы повышения качества математического образования, изменяя систему изучения этих областе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Более высокие результаты имеют учащиеся в странах, в преподавании математики у которых преобладает «формальная математика». Страны, имеющие программы, ориентированные в основном на прикладные аспекты математики, в среднем показывают более низкие результаты. Подчеркивается важность для формирования математической грамотности освоения математики (понятий, методов и др.) и ее применение  для решения реальных жизненных пробле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225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Результаты стран по </a:t>
            </a:r>
            <a:br>
              <a:rPr sz="3200"/>
            </a:b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читательской грамо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148360" y="1382760"/>
            <a:ext cx="398520" cy="2766960"/>
          </a:xfrm>
          <a:custGeom>
            <a:avLst/>
            <a:gdLst>
              <a:gd name="textAreaLeft" fmla="*/ 254520 w 398520"/>
              <a:gd name="textAreaRight" fmla="*/ 398880 w 398520"/>
              <a:gd name="textAreaTop" fmla="*/ 78840 h 2766960"/>
              <a:gd name="textAreaBottom" fmla="*/ 2688120 h 276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4"/>
                  <a:pt x="10800" y="1968"/>
                </a:cubicBezTo>
                <a:lnTo>
                  <a:pt x="10800" y="8832"/>
                </a:lnTo>
                <a:cubicBezTo>
                  <a:pt x="10800" y="9816"/>
                  <a:pt x="5400" y="10800"/>
                  <a:pt x="0" y="10800"/>
                </a:cubicBezTo>
                <a:cubicBezTo>
                  <a:pt x="5400" y="10800"/>
                  <a:pt x="10800" y="11784"/>
                  <a:pt x="10800" y="12768"/>
                </a:cubicBezTo>
                <a:lnTo>
                  <a:pt x="10800" y="19632"/>
                </a:lnTo>
                <a:cubicBezTo>
                  <a:pt x="10800" y="2061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5197320" y="4221000"/>
            <a:ext cx="311400" cy="503280"/>
          </a:xfrm>
          <a:custGeom>
            <a:avLst/>
            <a:gdLst>
              <a:gd name="textAreaLeft" fmla="*/ 199080 w 311400"/>
              <a:gd name="textAreaRight" fmla="*/ 311400 w 311400"/>
              <a:gd name="textAreaTop" fmla="*/ 8280 h 503280"/>
              <a:gd name="textAreaBottom" fmla="*/ 49500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2"/>
                  <a:pt x="10800" y="1143"/>
                </a:cubicBezTo>
                <a:lnTo>
                  <a:pt x="10800" y="9657"/>
                </a:lnTo>
                <a:cubicBezTo>
                  <a:pt x="10800" y="10229"/>
                  <a:pt x="5400" y="10800"/>
                  <a:pt x="0" y="10800"/>
                </a:cubicBezTo>
                <a:cubicBezTo>
                  <a:pt x="5400" y="10800"/>
                  <a:pt x="10800" y="11372"/>
                  <a:pt x="10800" y="11943"/>
                </a:cubicBezTo>
                <a:lnTo>
                  <a:pt x="10800" y="20457"/>
                </a:lnTo>
                <a:cubicBezTo>
                  <a:pt x="10800" y="2102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5148360" y="4797360"/>
            <a:ext cx="398520" cy="1800360"/>
          </a:xfrm>
          <a:custGeom>
            <a:avLst/>
            <a:gdLst>
              <a:gd name="textAreaLeft" fmla="*/ 254520 w 398520"/>
              <a:gd name="textAreaRight" fmla="*/ 398880 w 398520"/>
              <a:gd name="textAreaTop" fmla="*/ 41040 h 1800360"/>
              <a:gd name="textAreaBottom" fmla="*/ 175932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2"/>
                  <a:pt x="10800" y="1584"/>
                </a:cubicBezTo>
                <a:lnTo>
                  <a:pt x="10800" y="9216"/>
                </a:lnTo>
                <a:cubicBezTo>
                  <a:pt x="10800" y="10008"/>
                  <a:pt x="5400" y="10800"/>
                  <a:pt x="0" y="10800"/>
                </a:cubicBezTo>
                <a:cubicBezTo>
                  <a:pt x="5400" y="10800"/>
                  <a:pt x="10800" y="11592"/>
                  <a:pt x="10800" y="12384"/>
                </a:cubicBezTo>
                <a:lnTo>
                  <a:pt x="10800" y="20016"/>
                </a:lnTo>
                <a:cubicBezTo>
                  <a:pt x="10800" y="2080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900000" y="1828800"/>
            <a:ext cx="42498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дирующие страны и территории: Шанхай (Китай), Гонконг (Китай), Сингапур, Япония, Республика Коре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5 стран, средний балл которых статистически значим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ыш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реднего балла Росси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1042920" y="540720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 страны, средний балл которых статистически значим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иж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реднего балла Росси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1042920" y="3786120"/>
            <a:ext cx="396072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стран, средний балл которых не отличается от балла Росси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Израиль, Швеция, Словения, Литва, Греция, Турция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мский край – 482 балла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236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7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Picture 15" descr=""/>
          <p:cNvPicPr/>
          <p:nvPr/>
        </p:nvPicPr>
        <p:blipFill>
          <a:blip r:embed="rId3"/>
          <a:stretch/>
        </p:blipFill>
        <p:spPr>
          <a:xfrm>
            <a:off x="5580000" y="1125360"/>
            <a:ext cx="3111480" cy="5470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4"/>
          <a:stretch/>
        </p:blipFill>
        <p:spPr>
          <a:xfrm>
            <a:off x="5508720" y="4653000"/>
            <a:ext cx="3024000" cy="1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Результаты стран по </a:t>
            </a:r>
            <a:br>
              <a:rPr sz="3200"/>
            </a:b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естественнонаучной грамо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5076720" y="1382760"/>
            <a:ext cx="358920" cy="23335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8400 h 2333520"/>
              <a:gd name="textAreaBottom" fmla="*/ 2265120 h 23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2"/>
                  <a:pt x="10800" y="2023"/>
                </a:cubicBezTo>
                <a:lnTo>
                  <a:pt x="10800" y="8777"/>
                </a:lnTo>
                <a:cubicBezTo>
                  <a:pt x="10800" y="9789"/>
                  <a:pt x="5400" y="10800"/>
                  <a:pt x="0" y="10800"/>
                </a:cubicBezTo>
                <a:cubicBezTo>
                  <a:pt x="5400" y="10800"/>
                  <a:pt x="10800" y="11812"/>
                  <a:pt x="10800" y="12823"/>
                </a:cubicBezTo>
                <a:lnTo>
                  <a:pt x="10800" y="19577"/>
                </a:lnTo>
                <a:cubicBezTo>
                  <a:pt x="10800" y="20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5076720" y="3789360"/>
            <a:ext cx="349200" cy="576360"/>
          </a:xfrm>
          <a:custGeom>
            <a:avLst/>
            <a:gdLst>
              <a:gd name="textAreaLeft" fmla="*/ 223200 w 349200"/>
              <a:gd name="textAreaRight" fmla="*/ 349560 w 349200"/>
              <a:gd name="textAreaTop" fmla="*/ 9000 h 576360"/>
              <a:gd name="textAreaBottom" fmla="*/ 5673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6"/>
                  <a:pt x="10800" y="1091"/>
                </a:cubicBezTo>
                <a:lnTo>
                  <a:pt x="10800" y="9709"/>
                </a:lnTo>
                <a:cubicBezTo>
                  <a:pt x="10800" y="10255"/>
                  <a:pt x="5400" y="10800"/>
                  <a:pt x="0" y="10800"/>
                </a:cubicBezTo>
                <a:cubicBezTo>
                  <a:pt x="5400" y="10800"/>
                  <a:pt x="10800" y="11346"/>
                  <a:pt x="10800" y="11891"/>
                </a:cubicBezTo>
                <a:lnTo>
                  <a:pt x="10800" y="20509"/>
                </a:lnTo>
                <a:cubicBezTo>
                  <a:pt x="10800" y="2105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5076720" y="4437000"/>
            <a:ext cx="398520" cy="2087640"/>
          </a:xfrm>
          <a:custGeom>
            <a:avLst/>
            <a:gdLst>
              <a:gd name="textAreaLeft" fmla="*/ 254520 w 398520"/>
              <a:gd name="textAreaRight" fmla="*/ 398880 w 398520"/>
              <a:gd name="textAreaTop" fmla="*/ 47160 h 2087640"/>
              <a:gd name="textAreaBottom" fmla="*/ 20404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4"/>
                  <a:pt x="10800" y="1567"/>
                </a:cubicBezTo>
                <a:lnTo>
                  <a:pt x="10800" y="9233"/>
                </a:lnTo>
                <a:cubicBezTo>
                  <a:pt x="10800" y="10017"/>
                  <a:pt x="5400" y="10800"/>
                  <a:pt x="0" y="10800"/>
                </a:cubicBezTo>
                <a:cubicBezTo>
                  <a:pt x="5400" y="10800"/>
                  <a:pt x="10800" y="11584"/>
                  <a:pt x="10800" y="12367"/>
                </a:cubicBezTo>
                <a:lnTo>
                  <a:pt x="10800" y="20033"/>
                </a:lnTo>
                <a:cubicBezTo>
                  <a:pt x="10800" y="208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87280" y="1484280"/>
            <a:ext cx="388944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дирующие страны и территории: Шанхай (Китай), Финляндия, Гонконг (Китай), Сингапур, Япония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1 страна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ий балл которой статистически значим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ыш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реднего балла Росси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900000" y="518940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7 стран, средний балл которых статистически значим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иж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реднего балла Росси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1042920" y="3573360"/>
            <a:ext cx="396072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стран, средний балл которых не отличается от балла Росси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Норвегия, Венгрия, Хорватия, Люксембург, Португалия, Швеция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мский край – 480 баллов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249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Picture 15" descr=""/>
          <p:cNvPicPr/>
          <p:nvPr/>
        </p:nvPicPr>
        <p:blipFill>
          <a:blip r:embed="rId3"/>
          <a:stretch/>
        </p:blipFill>
        <p:spPr>
          <a:xfrm>
            <a:off x="5580000" y="1185840"/>
            <a:ext cx="3030480" cy="5338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"/>
          <p:cNvPicPr/>
          <p:nvPr/>
        </p:nvPicPr>
        <p:blipFill>
          <a:blip r:embed="rId4"/>
          <a:stretch/>
        </p:blipFill>
        <p:spPr>
          <a:xfrm>
            <a:off x="5508720" y="4221000"/>
            <a:ext cx="324000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001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22268"/>
                </a:solidFill>
                <a:latin typeface="Arial"/>
              </a:rPr>
              <a:t>Что дает России участие </a:t>
            </a:r>
            <a:br>
              <a:rPr sz="3100"/>
            </a:br>
            <a:r>
              <a:rPr b="1" lang="ru-RU" sz="3100" spc="-1" strike="noStrike">
                <a:solidFill>
                  <a:srgbClr val="222268"/>
                </a:solidFill>
                <a:latin typeface="Arial"/>
              </a:rPr>
              <a:t>в программе </a:t>
            </a:r>
            <a:r>
              <a:rPr b="1" lang="en-US" sz="3100" spc="-1" strike="noStrike">
                <a:solidFill>
                  <a:srgbClr val="222268"/>
                </a:solidFill>
                <a:latin typeface="Arial"/>
              </a:rPr>
              <a:t>PISA</a:t>
            </a:r>
            <a:r>
              <a:rPr b="1" lang="ru-RU" sz="3100" spc="-1" strike="noStrike">
                <a:solidFill>
                  <a:srgbClr val="222268"/>
                </a:solidFill>
                <a:latin typeface="Arial"/>
              </a:rPr>
              <a:t> </a:t>
            </a:r>
            <a:br>
              <a:rPr sz="3100"/>
            </a:b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99640" y="2060640"/>
            <a:ext cx="79930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исследования PISA в 2012 году дают ответы на следующие вопрос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дают ли учащиеся 15-летнего возраста, получившие обязательное общее образование, знаниями и умениями, необходимыми им для полноценного функционирования в современном обществе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илось ли состояние российского образования с позиций международных стандартов, основанных на компетентностном подходе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м направлении следует совершенствовать российское образование для повышения конкурентоспособности выпускников российских школ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38240" y="189000"/>
            <a:ext cx="1409400" cy="43344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3"/>
          <p:cNvGrpSpPr/>
          <p:nvPr/>
        </p:nvGrpSpPr>
        <p:grpSpPr>
          <a:xfrm>
            <a:off x="8172360" y="154080"/>
            <a:ext cx="876240" cy="1036800"/>
            <a:chOff x="8172360" y="154080"/>
            <a:chExt cx="876240" cy="1036800"/>
          </a:xfrm>
        </p:grpSpPr>
        <p:sp>
          <p:nvSpPr>
            <p:cNvPr id="75" name="Text Box 4"/>
            <p:cNvSpPr/>
            <p:nvPr/>
          </p:nvSpPr>
          <p:spPr>
            <a:xfrm>
              <a:off x="817236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6" name="Picture 5" descr="mo"/>
            <p:cNvPicPr/>
            <p:nvPr/>
          </p:nvPicPr>
          <p:blipFill>
            <a:blip r:embed="rId2"/>
            <a:stretch/>
          </p:blipFill>
          <p:spPr>
            <a:xfrm>
              <a:off x="826812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Уровни читательской и естественнонаучной грамот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Рисунок 5" descr=""/>
          <p:cNvPicPr/>
          <p:nvPr/>
        </p:nvPicPr>
        <p:blipFill>
          <a:blip r:embed="rId1"/>
          <a:stretch/>
        </p:blipFill>
        <p:spPr>
          <a:xfrm>
            <a:off x="1979640" y="4005360"/>
            <a:ext cx="565164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257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8" name="Picture 5" descr="mo"/>
            <p:cNvPicPr/>
            <p:nvPr/>
          </p:nvPicPr>
          <p:blipFill>
            <a:blip r:embed="rId3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9" name="Picture 10" descr=""/>
          <p:cNvPicPr/>
          <p:nvPr/>
        </p:nvPicPr>
        <p:blipFill>
          <a:blip r:embed="rId4"/>
          <a:stretch/>
        </p:blipFill>
        <p:spPr>
          <a:xfrm>
            <a:off x="1979640" y="1125360"/>
            <a:ext cx="56516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303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Изменение результатов </a:t>
            </a:r>
            <a:br>
              <a:rPr sz="3200"/>
            </a:b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российских учащихс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42560" y="5589720"/>
            <a:ext cx="7643880" cy="536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138240" y="260280"/>
            <a:ext cx="1409400" cy="43344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3"/>
          <p:cNvGrpSpPr/>
          <p:nvPr/>
        </p:nvGrpSpPr>
        <p:grpSpPr>
          <a:xfrm>
            <a:off x="8172360" y="154080"/>
            <a:ext cx="876240" cy="1036800"/>
            <a:chOff x="8172360" y="154080"/>
            <a:chExt cx="876240" cy="1036800"/>
          </a:xfrm>
        </p:grpSpPr>
        <p:sp>
          <p:nvSpPr>
            <p:cNvPr id="264" name="Text Box 4"/>
            <p:cNvSpPr/>
            <p:nvPr/>
          </p:nvSpPr>
          <p:spPr>
            <a:xfrm>
              <a:off x="817236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Picture 5" descr="mo"/>
            <p:cNvPicPr/>
            <p:nvPr/>
          </p:nvPicPr>
          <p:blipFill>
            <a:blip r:embed="rId3"/>
            <a:stretch/>
          </p:blipFill>
          <p:spPr>
            <a:xfrm>
              <a:off x="826812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Picture 2" descr=""/>
          <p:cNvPicPr/>
          <p:nvPr/>
        </p:nvPicPr>
        <p:blipFill>
          <a:blip r:embed="rId4"/>
          <a:stretch/>
        </p:blipFill>
        <p:spPr>
          <a:xfrm>
            <a:off x="900000" y="3544920"/>
            <a:ext cx="7920000" cy="1828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5"/>
          <a:stretch/>
        </p:blipFill>
        <p:spPr>
          <a:xfrm>
            <a:off x="1116000" y="1455840"/>
            <a:ext cx="714240" cy="609480"/>
          </a:xfrm>
          <a:prstGeom prst="rect">
            <a:avLst/>
          </a:prstGeom>
          <a:ln w="0">
            <a:noFill/>
          </a:ln>
        </p:spPr>
      </p:pic>
      <p:sp>
        <p:nvSpPr>
          <p:cNvPr id="268" name="Скругленный прямоугольник 9"/>
          <p:cNvSpPr/>
          <p:nvPr/>
        </p:nvSpPr>
        <p:spPr>
          <a:xfrm>
            <a:off x="1187280" y="2565360"/>
            <a:ext cx="1872000" cy="503280"/>
          </a:xfrm>
          <a:prstGeom prst="roundRect">
            <a:avLst>
              <a:gd name="adj" fmla="val 16667"/>
            </a:avLst>
          </a:prstGeom>
          <a:solidFill>
            <a:srgbClr val="bbe0e3">
              <a:alpha val="3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Математическая грамотность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Скругленный прямоугольник 11"/>
          <p:cNvSpPr/>
          <p:nvPr/>
        </p:nvSpPr>
        <p:spPr>
          <a:xfrm>
            <a:off x="6804000" y="2565360"/>
            <a:ext cx="1944720" cy="503280"/>
          </a:xfrm>
          <a:prstGeom prst="roundRect">
            <a:avLst>
              <a:gd name="adj" fmla="val 16667"/>
            </a:avLst>
          </a:prstGeom>
          <a:solidFill>
            <a:srgbClr val="bbe0e3">
              <a:alpha val="3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Естественнонаучная грамотность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Скругленный прямоугольник 12"/>
          <p:cNvSpPr/>
          <p:nvPr/>
        </p:nvSpPr>
        <p:spPr>
          <a:xfrm>
            <a:off x="4211640" y="2565360"/>
            <a:ext cx="1873080" cy="503280"/>
          </a:xfrm>
          <a:prstGeom prst="roundRect">
            <a:avLst>
              <a:gd name="adj" fmla="val 16667"/>
            </a:avLst>
          </a:prstGeom>
          <a:solidFill>
            <a:srgbClr val="bbe0e3">
              <a:alpha val="3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Читательская грамотность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763640" y="145584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редний балл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1763640" y="168264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зменение по годам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1763640" y="193212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начимое изменение по годам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2916360" y="314172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Уровн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достижений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17"/>
          <p:cNvSpPr/>
          <p:nvPr/>
        </p:nvSpPr>
        <p:spPr>
          <a:xfrm>
            <a:off x="6156360" y="314172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Уровн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достижений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18"/>
          <p:cNvSpPr/>
          <p:nvPr/>
        </p:nvSpPr>
        <p:spPr>
          <a:xfrm>
            <a:off x="8317080" y="314172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Уровн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достижений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19"/>
          <p:cNvSpPr/>
          <p:nvPr/>
        </p:nvSpPr>
        <p:spPr>
          <a:xfrm>
            <a:off x="826920" y="34113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20"/>
          <p:cNvSpPr/>
          <p:nvPr/>
        </p:nvSpPr>
        <p:spPr>
          <a:xfrm>
            <a:off x="3564000" y="314172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Средний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балл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21"/>
          <p:cNvSpPr/>
          <p:nvPr/>
        </p:nvSpPr>
        <p:spPr>
          <a:xfrm>
            <a:off x="6804000" y="314172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Средний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балл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6"/>
          <a:stretch/>
        </p:blipFill>
        <p:spPr>
          <a:xfrm>
            <a:off x="3851280" y="1486080"/>
            <a:ext cx="380880" cy="7808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3"/>
          <p:cNvSpPr/>
          <p:nvPr/>
        </p:nvSpPr>
        <p:spPr>
          <a:xfrm>
            <a:off x="4211640" y="1474920"/>
            <a:ext cx="11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-й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роцентиль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24"/>
          <p:cNvSpPr/>
          <p:nvPr/>
        </p:nvSpPr>
        <p:spPr>
          <a:xfrm>
            <a:off x="4211640" y="1628640"/>
            <a:ext cx="11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75-й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роцентиль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25"/>
          <p:cNvSpPr/>
          <p:nvPr/>
        </p:nvSpPr>
        <p:spPr>
          <a:xfrm>
            <a:off x="4211640" y="1917720"/>
            <a:ext cx="11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25-й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роцентиль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26"/>
          <p:cNvSpPr/>
          <p:nvPr/>
        </p:nvSpPr>
        <p:spPr>
          <a:xfrm>
            <a:off x="4211640" y="2060640"/>
            <a:ext cx="11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-й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роцентиль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8" descr=""/>
          <p:cNvPicPr/>
          <p:nvPr/>
        </p:nvPicPr>
        <p:blipFill>
          <a:blip r:embed="rId7"/>
          <a:stretch/>
        </p:blipFill>
        <p:spPr>
          <a:xfrm>
            <a:off x="6084720" y="1486080"/>
            <a:ext cx="228600" cy="799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"/>
          <p:cNvPicPr/>
          <p:nvPr/>
        </p:nvPicPr>
        <p:blipFill>
          <a:blip r:embed="rId8"/>
          <a:stretch/>
        </p:blipFill>
        <p:spPr>
          <a:xfrm>
            <a:off x="7667640" y="1486080"/>
            <a:ext cx="219240" cy="7999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32"/>
          <p:cNvSpPr/>
          <p:nvPr/>
        </p:nvSpPr>
        <p:spPr>
          <a:xfrm>
            <a:off x="6300720" y="1486080"/>
            <a:ext cx="1366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лева – международная шкала баллов; справа – шкала уровней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3564000" y="341136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6804000" y="341136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20"/>
          <p:cNvSpPr/>
          <p:nvPr/>
        </p:nvSpPr>
        <p:spPr>
          <a:xfrm>
            <a:off x="900000" y="318276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Средний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балл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2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1039680" cy="5256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1" descr=""/>
          <p:cNvPicPr/>
          <p:nvPr/>
        </p:nvPicPr>
        <p:blipFill>
          <a:blip r:embed="rId2"/>
          <a:stretch/>
        </p:blipFill>
        <p:spPr>
          <a:xfrm>
            <a:off x="7093080" y="1557360"/>
            <a:ext cx="1039680" cy="5256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0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1079280" cy="52563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87280" y="71280"/>
            <a:ext cx="74995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2268"/>
                </a:solidFill>
                <a:latin typeface="Arial"/>
              </a:rPr>
              <a:t>Результаты российских учащихся, отличающихся образовательными программами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8101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9" descr=""/>
          <p:cNvPicPr/>
          <p:nvPr/>
        </p:nvPicPr>
        <p:blipFill>
          <a:blip r:embed="rId4"/>
          <a:stretch/>
        </p:blipFill>
        <p:spPr>
          <a:xfrm>
            <a:off x="468360" y="4797360"/>
            <a:ext cx="2448000" cy="333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"/>
          <p:cNvPicPr/>
          <p:nvPr/>
        </p:nvPicPr>
        <p:blipFill>
          <a:blip r:embed="rId5"/>
          <a:stretch/>
        </p:blipFill>
        <p:spPr>
          <a:xfrm>
            <a:off x="468360" y="4581360"/>
            <a:ext cx="2448000" cy="128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"/>
          <p:cNvPicPr/>
          <p:nvPr/>
        </p:nvPicPr>
        <p:blipFill>
          <a:blip r:embed="rId6"/>
          <a:stretch/>
        </p:blipFill>
        <p:spPr>
          <a:xfrm>
            <a:off x="468360" y="4149720"/>
            <a:ext cx="2448000" cy="209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4" descr=""/>
          <p:cNvPicPr/>
          <p:nvPr/>
        </p:nvPicPr>
        <p:blipFill>
          <a:blip r:embed="rId7"/>
          <a:stretch/>
        </p:blipFill>
        <p:spPr>
          <a:xfrm>
            <a:off x="6084720" y="3257640"/>
            <a:ext cx="2448000" cy="171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5" descr=""/>
          <p:cNvPicPr/>
          <p:nvPr/>
        </p:nvPicPr>
        <p:blipFill>
          <a:blip r:embed="rId8"/>
          <a:stretch/>
        </p:blipFill>
        <p:spPr>
          <a:xfrm>
            <a:off x="6084720" y="4365720"/>
            <a:ext cx="2448000" cy="172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"/>
          <p:cNvPicPr/>
          <p:nvPr/>
        </p:nvPicPr>
        <p:blipFill>
          <a:blip r:embed="rId9"/>
          <a:stretch/>
        </p:blipFill>
        <p:spPr>
          <a:xfrm>
            <a:off x="6084720" y="4581360"/>
            <a:ext cx="2448000" cy="144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7" descr=""/>
          <p:cNvPicPr/>
          <p:nvPr/>
        </p:nvPicPr>
        <p:blipFill>
          <a:blip r:embed="rId10"/>
          <a:stretch/>
        </p:blipFill>
        <p:spPr>
          <a:xfrm>
            <a:off x="6084720" y="4976640"/>
            <a:ext cx="2448000" cy="181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8" descr=""/>
          <p:cNvPicPr/>
          <p:nvPr/>
        </p:nvPicPr>
        <p:blipFill>
          <a:blip r:embed="rId11"/>
          <a:stretch/>
        </p:blipFill>
        <p:spPr>
          <a:xfrm>
            <a:off x="6084720" y="5229360"/>
            <a:ext cx="2448000" cy="180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"/>
          <p:cNvPicPr/>
          <p:nvPr/>
        </p:nvPicPr>
        <p:blipFill>
          <a:blip r:embed="rId12"/>
          <a:stretch/>
        </p:blipFill>
        <p:spPr>
          <a:xfrm>
            <a:off x="3132000" y="3327480"/>
            <a:ext cx="2448000" cy="174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1" descr=""/>
          <p:cNvPicPr/>
          <p:nvPr/>
        </p:nvPicPr>
        <p:blipFill>
          <a:blip r:embed="rId13"/>
          <a:stretch/>
        </p:blipFill>
        <p:spPr>
          <a:xfrm>
            <a:off x="3203640" y="4603680"/>
            <a:ext cx="2448000" cy="338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2" descr=""/>
          <p:cNvPicPr/>
          <p:nvPr/>
        </p:nvPicPr>
        <p:blipFill>
          <a:blip r:embed="rId14"/>
          <a:stretch/>
        </p:blipFill>
        <p:spPr>
          <a:xfrm>
            <a:off x="3203640" y="5013360"/>
            <a:ext cx="2448000" cy="1731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"/>
          <p:cNvPicPr/>
          <p:nvPr/>
        </p:nvPicPr>
        <p:blipFill>
          <a:blip r:embed="rId15"/>
          <a:stretch/>
        </p:blipFill>
        <p:spPr>
          <a:xfrm>
            <a:off x="3203640" y="5518080"/>
            <a:ext cx="2448000" cy="171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16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310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1" name="Picture 5" descr="mo"/>
            <p:cNvPicPr/>
            <p:nvPr/>
          </p:nvPicPr>
          <p:blipFill>
            <a:blip r:embed="rId17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Скругленный прямоугольник 27"/>
          <p:cNvSpPr/>
          <p:nvPr/>
        </p:nvSpPr>
        <p:spPr>
          <a:xfrm>
            <a:off x="1114560" y="1198440"/>
            <a:ext cx="2377800" cy="358920"/>
          </a:xfrm>
          <a:prstGeom prst="roundRect">
            <a:avLst>
              <a:gd name="adj" fmla="val 16667"/>
            </a:avLst>
          </a:prstGeom>
          <a:solidFill>
            <a:srgbClr val="bbe0e3">
              <a:alpha val="3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Математическая грамотност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кругленный прямоугольник 28"/>
          <p:cNvSpPr/>
          <p:nvPr/>
        </p:nvSpPr>
        <p:spPr>
          <a:xfrm>
            <a:off x="6227640" y="1198440"/>
            <a:ext cx="2808360" cy="358920"/>
          </a:xfrm>
          <a:prstGeom prst="roundRect">
            <a:avLst>
              <a:gd name="adj" fmla="val 16667"/>
            </a:avLst>
          </a:prstGeom>
          <a:solidFill>
            <a:srgbClr val="bbe0e3">
              <a:alpha val="3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Естественнонаучная грамотност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кругленный прямоугольник 29"/>
          <p:cNvSpPr/>
          <p:nvPr/>
        </p:nvSpPr>
        <p:spPr>
          <a:xfrm>
            <a:off x="3851280" y="1198440"/>
            <a:ext cx="2160720" cy="358920"/>
          </a:xfrm>
          <a:prstGeom prst="roundRect">
            <a:avLst>
              <a:gd name="adj" fmla="val 16667"/>
            </a:avLst>
          </a:prstGeom>
          <a:solidFill>
            <a:srgbClr val="bbe0e3">
              <a:alpha val="3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Читательская грамотност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2" descr=""/>
          <p:cNvPicPr/>
          <p:nvPr/>
        </p:nvPicPr>
        <p:blipFill>
          <a:blip r:embed="rId18"/>
          <a:srcRect l="0" t="0" r="0" b="-2756"/>
          <a:stretch/>
        </p:blipFill>
        <p:spPr>
          <a:xfrm>
            <a:off x="468360" y="2565360"/>
            <a:ext cx="2448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85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оступность образова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867280" y="1197000"/>
            <a:ext cx="327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равнению с 2003 годом повышение результатов учащихся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ельские школы – на 21 бал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селковые школы – на 16 балл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школы больших городов –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а 6 балл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 низким СЭС – на 12 балл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 высоким СЭС – на 11 балл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320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1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2" name="Picture 8" descr=""/>
          <p:cNvPicPr/>
          <p:nvPr/>
        </p:nvPicPr>
        <p:blipFill>
          <a:blip r:embed="rId3"/>
          <a:stretch/>
        </p:blipFill>
        <p:spPr>
          <a:xfrm>
            <a:off x="971640" y="765000"/>
            <a:ext cx="4762440" cy="34196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323" name="Picture 9" descr=""/>
          <p:cNvPicPr/>
          <p:nvPr/>
        </p:nvPicPr>
        <p:blipFill>
          <a:blip r:embed="rId4"/>
          <a:stretch/>
        </p:blipFill>
        <p:spPr>
          <a:xfrm>
            <a:off x="960480" y="4287960"/>
            <a:ext cx="4763880" cy="2525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2d2d8a"/>
                </a:solidFill>
                <a:latin typeface="Arial"/>
              </a:rPr>
              <a:t>В каком направлении следует совершенствовать российское образование для повышения конкурентоспособности выпускников российских школ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327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8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42960" y="410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Факторы эффективной школ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332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3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Овал 7"/>
          <p:cNvSpPr/>
          <p:nvPr/>
        </p:nvSpPr>
        <p:spPr>
          <a:xfrm>
            <a:off x="2857680" y="2708280"/>
            <a:ext cx="4714560" cy="1571760"/>
          </a:xfrm>
          <a:prstGeom prst="ellipse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Связь между образовательными результатами и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8"/>
          <p:cNvSpPr/>
          <p:nvPr/>
        </p:nvSpPr>
        <p:spPr>
          <a:xfrm>
            <a:off x="6215040" y="1357200"/>
            <a:ext cx="2571840" cy="150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Ресурсы:  финансовые, педагогический состав, материальные, временные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9"/>
          <p:cNvSpPr/>
          <p:nvPr/>
        </p:nvSpPr>
        <p:spPr>
          <a:xfrm>
            <a:off x="6286680" y="4071960"/>
            <a:ext cx="2571480" cy="157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Управление школой, Оценка образовательных результатов Отчетность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10"/>
          <p:cNvSpPr/>
          <p:nvPr/>
        </p:nvSpPr>
        <p:spPr>
          <a:xfrm>
            <a:off x="1071720" y="1285920"/>
            <a:ext cx="3429000" cy="15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Вертикальная стратификаци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Горизонтальная стратификация (между школами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Горизонтальная стратификация (внутри школы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оугольник 13"/>
          <p:cNvSpPr/>
          <p:nvPr/>
        </p:nvSpPr>
        <p:spPr>
          <a:xfrm>
            <a:off x="1285920" y="4143240"/>
            <a:ext cx="3214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Пропуски заняти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Климат школы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1042560" y="4571640"/>
            <a:ext cx="7643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712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Факторы эффективного обуч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0" y="1872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343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4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5" name="Picture 8" descr=""/>
          <p:cNvPicPr/>
          <p:nvPr/>
        </p:nvPicPr>
        <p:blipFill>
          <a:blip r:embed="rId3"/>
          <a:stretch/>
        </p:blipFill>
        <p:spPr>
          <a:xfrm>
            <a:off x="1547640" y="1112760"/>
            <a:ext cx="669636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6920" y="635040"/>
            <a:ext cx="7417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Учет факторов, характеризующих наиболее эффективные системы образования в формировании функциональной грамотности </a:t>
            </a:r>
            <a:br>
              <a:rPr sz="2400"/>
            </a:b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(опыт стран, описанный в международном отчете </a:t>
            </a:r>
            <a:br>
              <a:rPr sz="1800"/>
            </a:br>
            <a:r>
              <a:rPr b="1" i="1" lang="en-US" sz="1800" spc="-1" strike="noStrike">
                <a:solidFill>
                  <a:srgbClr val="222268"/>
                </a:solidFill>
                <a:latin typeface="Arial"/>
              </a:rPr>
              <a:t>PISA</a:t>
            </a: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222268"/>
                </a:solidFill>
                <a:latin typeface="Arial"/>
              </a:rPr>
              <a:t>201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61840" y="1844280"/>
            <a:ext cx="7886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Narrow"/>
              </a:rPr>
              <a:t>Повышение доступности образования  при повышении качества  образования (Германия, Мексика, Польша, Турция и др.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Narrow"/>
              </a:rPr>
              <a:t>Повышение качества подготовки учителей, привлечение  в школу наиболее способной молодежи ( Эстония, Польша, Бразилия, Колумбия, Япония,  Мексика, Израиль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Narrow"/>
              </a:rPr>
              <a:t>Повышение уровня функциональной грамотности учащихся с низкими результатами за счет  перераспределение ресурсов  к более нуждающимся школам (Израиль, Германия, Мексика, Турция, Бразилия и др.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Narrow"/>
              </a:rPr>
              <a:t>Повышение автономии школ при адекватной степени сотрудничества и отчетности (Колумбия, Польша, Корея и др.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Narrow"/>
              </a:rPr>
              <a:t>Повышение информационной среды, способствующей распространению информации о качестве обучения в школе (Польша, Мексика, Колумбия и др.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Narrow"/>
              </a:rPr>
              <a:t>Создание положительной образовательной среды  за счет изменения содержания образовательных программ для более полного учета интересов учащихся и требований 21 века (Япония, Португалия и др.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350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1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042920" y="1600200"/>
            <a:ext cx="74167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дополнительной информаци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ЭС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Organization for Economic Cooperation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evelopment, OECD) 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ecd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i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стралийск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гогичес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ustralian Council for Educational Re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c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 оценки качества общего образования ИСМО Р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enterok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: centeroko@mail.ru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с 8-499-246-2421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валева Галина Сергеевна –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оординатор исследова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9"/>
          <a:stretch/>
        </p:blipFill>
        <p:spPr>
          <a:xfrm>
            <a:off x="1080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3"/>
          <p:cNvGrpSpPr/>
          <p:nvPr/>
        </p:nvGrpSpPr>
        <p:grpSpPr>
          <a:xfrm>
            <a:off x="8172360" y="154080"/>
            <a:ext cx="876240" cy="1036800"/>
            <a:chOff x="8172360" y="154080"/>
            <a:chExt cx="876240" cy="1036800"/>
          </a:xfrm>
        </p:grpSpPr>
        <p:sp>
          <p:nvSpPr>
            <p:cNvPr id="355" name="Text Box 4"/>
            <p:cNvSpPr/>
            <p:nvPr/>
          </p:nvSpPr>
          <p:spPr>
            <a:xfrm>
              <a:off x="817236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6" name="Picture 5" descr="mo"/>
            <p:cNvPicPr/>
            <p:nvPr/>
          </p:nvPicPr>
          <p:blipFill>
            <a:blip r:embed="rId10"/>
            <a:stretch/>
          </p:blipFill>
          <p:spPr>
            <a:xfrm>
              <a:off x="826812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траны-участницы </a:t>
            </a:r>
            <a:br>
              <a:rPr sz="3200"/>
            </a:b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исследования  </a:t>
            </a: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PISA-20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1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42560" y="6035760"/>
            <a:ext cx="764388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ополнительно 137 регионов (городов, штатов или провинций) из 14 стран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3"/>
          <p:cNvGrpSpPr/>
          <p:nvPr/>
        </p:nvGrpSpPr>
        <p:grpSpPr>
          <a:xfrm>
            <a:off x="8172360" y="154080"/>
            <a:ext cx="876240" cy="1036800"/>
            <a:chOff x="8172360" y="154080"/>
            <a:chExt cx="876240" cy="1036800"/>
          </a:xfrm>
        </p:grpSpPr>
        <p:sp>
          <p:nvSpPr>
            <p:cNvPr id="81" name="Text Box 4"/>
            <p:cNvSpPr/>
            <p:nvPr/>
          </p:nvSpPr>
          <p:spPr>
            <a:xfrm>
              <a:off x="817236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2" name="Picture 5" descr="mo"/>
            <p:cNvPicPr/>
            <p:nvPr/>
          </p:nvPicPr>
          <p:blipFill>
            <a:blip r:embed="rId2"/>
            <a:stretch/>
          </p:blipFill>
          <p:spPr>
            <a:xfrm>
              <a:off x="826812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9" descr=""/>
          <p:cNvPicPr/>
          <p:nvPr/>
        </p:nvPicPr>
        <p:blipFill>
          <a:blip r:embed="rId3"/>
          <a:stretch/>
        </p:blipFill>
        <p:spPr>
          <a:xfrm>
            <a:off x="1069920" y="1503360"/>
            <a:ext cx="7461360" cy="40449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185840" y="526896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траны ОЭСР</a:t>
            </a:r>
            <a:br>
              <a:rPr sz="15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4 страны и территории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203640" y="5268960"/>
            <a:ext cx="302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траны-партнеры ОЭСР</a:t>
            </a:r>
            <a:br>
              <a:rPr sz="15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1 страна и территория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012000" y="5283360"/>
            <a:ext cx="302400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траны-партнеры ОЭСР, участники прошлых циклов</a:t>
            </a:r>
            <a:br>
              <a:rPr sz="15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стран и территорий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21564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22268"/>
                </a:solidFill>
                <a:latin typeface="Arial"/>
              </a:rPr>
              <a:t>Международная программа </a:t>
            </a:r>
            <a:br>
              <a:rPr sz="3100"/>
            </a:br>
            <a:r>
              <a:rPr b="1" lang="ru-RU" sz="3100" spc="-1" strike="noStrike">
                <a:solidFill>
                  <a:srgbClr val="222268"/>
                </a:solidFill>
                <a:latin typeface="Arial"/>
              </a:rPr>
              <a:t> по оценке образовательных достижений учащихся </a:t>
            </a:r>
            <a:r>
              <a:rPr b="1" lang="en-US" sz="3100" spc="-1" strike="noStrike">
                <a:solidFill>
                  <a:srgbClr val="222268"/>
                </a:solidFill>
                <a:latin typeface="Arial"/>
              </a:rPr>
              <a:t>PISA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500120"/>
            <a:ext cx="807264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Основная цель: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оценка способности 15-летних учащихся использовать приобретенные в школе знания и опыт для широкого диапазона жизненных задач в различных сферах человеческой деятельности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ополнительная инновационная цель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году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оценка функциональной грамотности 15-летних учащихся в интерактивной среде (компьютерное тестирование учащихся с использованием  интерактивных задач по математической и читательской грамотности, а также по решению комплексных проблем), оценка финансовой грамотности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литическая цел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оценка качества и эффективности образования, равенства доступа к образованию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91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1560" y="342720"/>
            <a:ext cx="829152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Международная программа </a:t>
            </a:r>
            <a:br>
              <a:rPr sz="3200"/>
            </a:b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о оценке образовательных достижений учащихся</a:t>
            </a: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 PISA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зада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ценить функциональную грамотность 15-летних учащихся в области математики, чтения и естествозн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явить динамику  результатов (2000, 2003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2006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200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201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годы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явить факторы, позволяющие объяснить различия в результатах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97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8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25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Характеристика российских участников исследования </a:t>
            </a: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PISA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-201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280" y="1109160"/>
            <a:ext cx="817236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едставительная выборка Росси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2 субъек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оссийской Федераци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27 образовательных учреждени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219 учащих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5-летнего возраста, обучавшихс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программам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основное общее образование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-8 класс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8,4%, 9 клас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73,5%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среднее общее образование: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10-11 классы – 13,7%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начальное и среднее профессионально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разование – 4,3%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ставительная выборка учащихся Пермского кр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63 образовательных учреждения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759 учащихс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15-летнего возраста, обучавшихся по программам: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сновное общее образование: 7-8 классы – 14,7%, 9 класс – 80,5%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среднее общее образование: 10-11 классы – 3,7%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среднее профессиональное образование – 1,1%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103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214200"/>
            <a:ext cx="7993080" cy="24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Изменилось ли состояние российского образования с позиций международных стандартов, основанных на компетентностном подходе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108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9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icture 5" descr=""/>
          <p:cNvPicPr/>
          <p:nvPr/>
        </p:nvPicPr>
        <p:blipFill>
          <a:blip r:embed="rId3"/>
          <a:srcRect l="11036" t="0" r="0" b="0"/>
          <a:stretch/>
        </p:blipFill>
        <p:spPr>
          <a:xfrm>
            <a:off x="900000" y="2781360"/>
            <a:ext cx="2541600" cy="190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rcRect l="10839" t="0" r="0" b="0"/>
          <a:stretch/>
        </p:blipFill>
        <p:spPr>
          <a:xfrm>
            <a:off x="3492360" y="2781360"/>
            <a:ext cx="2592360" cy="190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5"/>
          <a:srcRect l="10917" t="0" r="0" b="0"/>
          <a:stretch/>
        </p:blipFill>
        <p:spPr>
          <a:xfrm>
            <a:off x="6156360" y="2781360"/>
            <a:ext cx="2573280" cy="19080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9"/>
          <p:cNvSpPr/>
          <p:nvPr/>
        </p:nvSpPr>
        <p:spPr>
          <a:xfrm>
            <a:off x="1071720" y="479736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равнению с 2009 годом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на 14 баллов  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а 16 баллов    </a:t>
            </a:r>
            <a:r>
              <a:rPr b="1" lang="ru-RU" sz="2800" spc="-1" strike="noStrike">
                <a:solidFill>
                  <a:srgbClr val="248c35"/>
                </a:solidFill>
                <a:latin typeface="Arial"/>
              </a:rPr>
              <a:t>на 8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9"/>
          <p:cNvSpPr/>
          <p:nvPr/>
        </p:nvSpPr>
        <p:spPr>
          <a:xfrm>
            <a:off x="0" y="3429000"/>
            <a:ext cx="4525920" cy="3429000"/>
          </a:xfrm>
          <a:prstGeom prst="rect">
            <a:avLst/>
          </a:prstGeom>
          <a:solidFill>
            <a:srgbClr val="c81e1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525920" y="0"/>
            <a:ext cx="4618080" cy="3429000"/>
          </a:xfrm>
          <a:prstGeom prst="rect">
            <a:avLst/>
          </a:prstGeom>
          <a:solidFill>
            <a:srgbClr val="5a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4525920" y="3443400"/>
            <a:ext cx="4618080" cy="341784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0" y="0"/>
            <a:ext cx="4525920" cy="341460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 flipV="1">
            <a:off x="4508640" y="-27000"/>
            <a:ext cx="14040" cy="7020000"/>
          </a:xfrm>
          <a:prstGeom prst="line">
            <a:avLst/>
          </a:prstGeom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직선 연결선 25"/>
          <p:cNvSpPr/>
          <p:nvPr/>
        </p:nvSpPr>
        <p:spPr>
          <a:xfrm>
            <a:off x="-324000" y="3429000"/>
            <a:ext cx="10152360" cy="0"/>
          </a:xfrm>
          <a:prstGeom prst="line">
            <a:avLst/>
          </a:prstGeom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Chart 3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62880" cy="6308640"/>
          </a:xfrm>
          <a:prstGeom prst="rect">
            <a:avLst/>
          </a:prstGeom>
          <a:ln w="0">
            <a:noFill/>
          </a:ln>
        </p:spPr>
      </p:pic>
      <p:pic>
        <p:nvPicPr>
          <p:cNvPr id="121" name="Chart 38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462880" cy="6460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6"/>
          <p:cNvSpPr/>
          <p:nvPr/>
        </p:nvSpPr>
        <p:spPr>
          <a:xfrm>
            <a:off x="0" y="-20520"/>
            <a:ext cx="9144000" cy="6858000"/>
          </a:xfrm>
          <a:prstGeom prst="rect">
            <a:avLst/>
          </a:prstGeom>
          <a:solidFill>
            <a:srgbClr val="000000">
              <a:alpha val="86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7013520" y="64771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Chart 32" descr=""/>
          <p:cNvPicPr/>
          <p:nvPr/>
        </p:nvPicPr>
        <p:blipFill>
          <a:blip r:embed="rId3"/>
          <a:stretch/>
        </p:blipFill>
        <p:spPr>
          <a:xfrm>
            <a:off x="-1865160" y="0"/>
            <a:ext cx="56163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7"/>
          <p:cNvSpPr/>
          <p:nvPr/>
        </p:nvSpPr>
        <p:spPr>
          <a:xfrm>
            <a:off x="6635880" y="64771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205160" y="620640"/>
            <a:ext cx="20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04040"/>
                </a:solidFill>
                <a:latin typeface="Calibri"/>
                <a:ea typeface="Arial"/>
              </a:rPr>
              <a:t>Singapo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32"/>
          <p:cNvSpPr/>
          <p:nvPr/>
        </p:nvSpPr>
        <p:spPr>
          <a:xfrm>
            <a:off x="6516720" y="1773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2003 - 201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3127320" y="1323720"/>
            <a:ext cx="2813040" cy="4354920"/>
            <a:chOff x="3127320" y="1323720"/>
            <a:chExt cx="2813040" cy="4354920"/>
          </a:xfrm>
        </p:grpSpPr>
        <p:sp>
          <p:nvSpPr>
            <p:cNvPr id="129" name="Pentagon 1"/>
            <p:cNvSpPr/>
            <p:nvPr/>
          </p:nvSpPr>
          <p:spPr>
            <a:xfrm rot="16200000">
              <a:off x="2376360" y="2096640"/>
              <a:ext cx="4336920" cy="2791080"/>
            </a:xfrm>
            <a:custGeom>
              <a:avLst/>
              <a:gdLst>
                <a:gd name="textAreaLeft" fmla="*/ 0 w 4336920"/>
                <a:gd name="textAreaRight" fmla="*/ 4337280 w 4336920"/>
                <a:gd name="textAreaTop" fmla="*/ 0 h 2791080"/>
                <a:gd name="textAreaBottom" fmla="*/ 2791080 h 279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52" y="0"/>
                  </a:lnTo>
                  <a:lnTo>
                    <a:pt x="21600" y="10800"/>
                  </a:lnTo>
                  <a:lnTo>
                    <a:pt x="1465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130d"/>
                </a:gs>
                <a:gs pos="100000">
                  <a:srgbClr val="00456c"/>
                </a:gs>
              </a:gsLst>
              <a:lin ang="0"/>
            </a:gra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Box 2"/>
            <p:cNvSpPr/>
            <p:nvPr/>
          </p:nvSpPr>
          <p:spPr>
            <a:xfrm>
              <a:off x="3127320" y="2292840"/>
              <a:ext cx="27907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Brazil, Italy, Macao-China, Poland, Portugal, Russian Federation, Thailand and Tunisia saw significant improvements in math performance between 2003 and 2012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(adding countries with more recent trends results in 25 countries with improvements in math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TextBox 32"/>
          <p:cNvSpPr/>
          <p:nvPr/>
        </p:nvSpPr>
        <p:spPr>
          <a:xfrm>
            <a:off x="1042920" y="11592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ЛАЙД ИЗ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ЕЖДУНАРОДНОЙ ПРЕЗЕНТАЦИ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6720" y="115560"/>
            <a:ext cx="82789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Математическая грамотность  </a:t>
            </a:r>
            <a:br>
              <a:rPr sz="3600"/>
            </a:b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на практик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-4541760" y="277416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1187280" y="3817800"/>
            <a:ext cx="2310120" cy="80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 Black"/>
              </a:rPr>
              <a:t>Проблема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 Black"/>
              </a:rPr>
              <a:t> в контексте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1136520" y="5589720"/>
            <a:ext cx="231012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 Black"/>
              </a:rPr>
              <a:t>Результаты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 Black"/>
              </a:rPr>
              <a:t>в контекст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5986440" y="3843360"/>
            <a:ext cx="2400480" cy="80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 Black"/>
              </a:rPr>
              <a:t>Математическая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 Black"/>
              </a:rPr>
              <a:t>проблем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6012000" y="5584680"/>
            <a:ext cx="237492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 Black"/>
              </a:rPr>
              <a:t>Математические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 Black"/>
              </a:rPr>
              <a:t>результаты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0"/>
          <p:cNvSpPr/>
          <p:nvPr/>
        </p:nvSpPr>
        <p:spPr>
          <a:xfrm>
            <a:off x="3619440" y="4276800"/>
            <a:ext cx="2057400" cy="304560"/>
          </a:xfrm>
          <a:prstGeom prst="rightArrow">
            <a:avLst>
              <a:gd name="adj1" fmla="val 50000"/>
              <a:gd name="adj2" fmla="val 168883"/>
            </a:avLst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21"/>
          <p:cNvSpPr/>
          <p:nvPr/>
        </p:nvSpPr>
        <p:spPr>
          <a:xfrm>
            <a:off x="6200640" y="4724280"/>
            <a:ext cx="457200" cy="830520"/>
          </a:xfrm>
          <a:prstGeom prst="downArrow">
            <a:avLst>
              <a:gd name="adj1" fmla="val 50000"/>
              <a:gd name="adj2" fmla="val 62553"/>
            </a:avLst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22"/>
          <p:cNvSpPr/>
          <p:nvPr/>
        </p:nvSpPr>
        <p:spPr>
          <a:xfrm>
            <a:off x="3444840" y="5668920"/>
            <a:ext cx="2468520" cy="380880"/>
          </a:xfrm>
          <a:prstGeom prst="leftArrow">
            <a:avLst>
              <a:gd name="adj1" fmla="val 50000"/>
              <a:gd name="adj2" fmla="val 162027"/>
            </a:avLst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2938320" y="4686480"/>
            <a:ext cx="432000" cy="830160"/>
          </a:xfrm>
          <a:prstGeom prst="upArrow">
            <a:avLst>
              <a:gd name="adj1" fmla="val 50000"/>
              <a:gd name="adj2" fmla="val 66173"/>
            </a:avLst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1187280" y="4941720"/>
            <a:ext cx="19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Arial Narrow"/>
              </a:rPr>
              <a:t>Оценива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789360" y="1981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417840" y="60228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Arial Narrow"/>
              </a:rPr>
              <a:t>Интерпретирова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6299280" y="486900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Arial Narrow"/>
              </a:rPr>
              <a:t>Применя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3276720" y="387828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Arial Narrow"/>
              </a:rPr>
              <a:t>Формулирова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876240" y="3316320"/>
            <a:ext cx="29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РЕАЛЬНЫЙ МИ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5148360" y="331632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МАТЕМАТИЧЕСКИЙ МИ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140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3"/>
          <p:cNvGrpSpPr/>
          <p:nvPr/>
        </p:nvGrpSpPr>
        <p:grpSpPr>
          <a:xfrm>
            <a:off x="8232840" y="154080"/>
            <a:ext cx="876240" cy="1036800"/>
            <a:chOff x="8232840" y="154080"/>
            <a:chExt cx="876240" cy="1036800"/>
          </a:xfrm>
        </p:grpSpPr>
        <p:sp>
          <p:nvSpPr>
            <p:cNvPr id="151" name="Text Box 4"/>
            <p:cNvSpPr/>
            <p:nvPr/>
          </p:nvSpPr>
          <p:spPr>
            <a:xfrm>
              <a:off x="8232840" y="88380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365f91"/>
                  </a:solidFill>
                  <a:latin typeface="Arial Narrow"/>
                  <a:ea typeface="Arial"/>
                </a:rPr>
                <a:t>Российская академия образования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2" name="Picture 5" descr="mo"/>
            <p:cNvPicPr/>
            <p:nvPr/>
          </p:nvPicPr>
          <p:blipFill>
            <a:blip r:embed="rId2"/>
            <a:stretch/>
          </p:blipFill>
          <p:spPr>
            <a:xfrm>
              <a:off x="8328600" y="154080"/>
              <a:ext cx="670680" cy="7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 txBox="1"/>
          <p:nvPr/>
        </p:nvSpPr>
        <p:spPr>
          <a:xfrm>
            <a:off x="1042560" y="1125360"/>
            <a:ext cx="810108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тематическая грамотност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это способность индивидуума формулировать, применять и интерпретировать математику в разнообразных контекстах. Она включает математические рассуждения, использование математических понятий, процедур, фактов и инструментов, чтобы описать, объяснить и предсказать явления. Она помогает людям понять роль математики в мире, высказывать хорошо обоснованные суждения и принимать решения, которые должны принимать конструктивные, активные и размышляющие граждане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04:58Z</dcterms:created>
  <dc:creator>master</dc:creator>
  <dc:description/>
  <dc:language>en-US</dc:language>
  <cp:lastModifiedBy>uzer</cp:lastModifiedBy>
  <dcterms:modified xsi:type="dcterms:W3CDTF">2015-01-26T15:39:33Z</dcterms:modified>
  <cp:revision>123</cp:revision>
  <dc:subject/>
  <dc:title>Слайд 1</dc:title>
</cp:coreProperties>
</file>